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D24-FDC2-47CC-8488-B4108F98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092-DD1E-4191-A14A-C8DD3947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0A2-56D4-4289-A46C-7FC77079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AFA-58A4-484B-BF9C-C2FAC7E3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D93-8439-449B-9D44-84460D69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BB3-67FD-41A4-BBCB-4D672CAC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457-6244-4F7F-BB95-5F8EE714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EA7-E3C7-43CD-86E4-911D2DA1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793-FEF0-4670-B65D-E324A991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FD3-BDC4-49E0-AC72-B3A48E90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DAC7-8E5A-4020-9C54-2F4FB978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292-21A0-41D6-A4A4-72EAB627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CC85-CE0E-4840-809C-2D000F5E0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Eurostile"/>
              </a:rPr>
              <a:t>Take Me 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84960" y="2819520"/>
            <a:ext cx="713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Eurostile"/>
              </a:rPr>
              <a:t>Your Lead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752480"/>
            <a:ext cx="685800" cy="6098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53280" y="5335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84344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049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51055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2362320"/>
            <a:ext cx="1143000" cy="101412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7339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416556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62120" y="1371600"/>
            <a:ext cx="3370680" cy="4800600"/>
            <a:chOff x="762120" y="1371600"/>
            <a:chExt cx="3370680" cy="4800600"/>
          </a:xfrm>
        </p:grpSpPr>
        <p:sp>
          <p:nvSpPr>
            <p:cNvPr id="307" name=""/>
            <p:cNvSpPr/>
            <p:nvPr/>
          </p:nvSpPr>
          <p:spPr>
            <a:xfrm>
              <a:off x="1523880" y="1523880"/>
              <a:ext cx="2057400" cy="20574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28800" y="4572000"/>
              <a:ext cx="1523880" cy="5335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28800" y="3581280"/>
              <a:ext cx="1523880" cy="99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81080" y="4952880"/>
              <a:ext cx="0" cy="990720"/>
            </a:xfrm>
            <a:prstGeom prst="line">
              <a:avLst/>
            </a:prstGeom>
            <a:ln w="28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00400" y="4876920"/>
              <a:ext cx="0" cy="990360"/>
            </a:xfrm>
            <a:prstGeom prst="line">
              <a:avLst/>
            </a:prstGeom>
            <a:ln w="28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3880" y="6172200"/>
              <a:ext cx="60984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8120" y="617220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05120" y="24382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19520" y="2514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33720" y="2514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2133360" y="1600200"/>
              <a:ext cx="5331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286000" y="1371600"/>
              <a:ext cx="4572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2120" y="4038480"/>
              <a:ext cx="527040" cy="50796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1314400">
              <a:off x="3657240" y="403812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09680" y="3200400"/>
              <a:ext cx="762120" cy="2286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2442240"/>
            <a:ext cx="2438280" cy="3729960"/>
            <a:chOff x="5105520" y="2442240"/>
            <a:chExt cx="2438280" cy="3729960"/>
          </a:xfrm>
        </p:grpSpPr>
        <p:sp>
          <p:nvSpPr>
            <p:cNvPr id="324" name=""/>
            <p:cNvSpPr/>
            <p:nvPr/>
          </p:nvSpPr>
          <p:spPr>
            <a:xfrm>
              <a:off x="5486400" y="2971800"/>
              <a:ext cx="1676520" cy="167652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1320" y="365760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00800" y="3657600"/>
              <a:ext cx="53352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77120" y="37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67280" y="3733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67280" y="4648320"/>
              <a:ext cx="91440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9534600">
              <a:off x="5638320" y="266688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1531400">
              <a:off x="5943240" y="266652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3149000">
              <a:off x="6095520" y="2590200"/>
              <a:ext cx="685800" cy="60948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4453400">
              <a:off x="6324480" y="259020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67280" y="5410080"/>
              <a:ext cx="91440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62720" y="617220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77120" y="617220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05520" y="449568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86600" y="495288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77120" y="4267080"/>
              <a:ext cx="304560" cy="2286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172200" y="304920"/>
            <a:ext cx="2971800" cy="2438280"/>
          </a:xfrm>
          <a:prstGeom prst="wedgeEllipseCallout">
            <a:avLst>
              <a:gd name="adj1" fmla="val -12180"/>
              <a:gd name="adj2" fmla="val 84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you talking about?!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533520"/>
            <a:ext cx="1904760" cy="1828800"/>
          </a:xfrm>
          <a:prstGeom prst="wedgeEllipseCallout">
            <a:avLst>
              <a:gd name="adj1" fmla="val -54833"/>
              <a:gd name="adj2" fmla="val 865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’s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800600"/>
            <a:ext cx="2133720" cy="1828800"/>
          </a:xfrm>
          <a:prstGeom prst="wedgeEllipseCallout">
            <a:avLst>
              <a:gd name="adj1" fmla="val 53722"/>
              <a:gd name="adj2" fmla="val -1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it a minu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-2666880" y="-3009960"/>
            <a:ext cx="6019560" cy="6019920"/>
          </a:xfrm>
          <a:prstGeom prst="ellipse">
            <a:avLst/>
          </a:prstGeom>
          <a:gradFill rotWithShape="0">
            <a:gsLst>
              <a:gs pos="0">
                <a:srgbClr val="ffffff">
                  <a:alpha val="81176"/>
                </a:srgbClr>
              </a:gs>
              <a:gs pos="100000">
                <a:srgbClr val="ffff66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2388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2880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0040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238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48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05120" y="243828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19520" y="25146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33720" y="25146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2133360" y="1600200"/>
            <a:ext cx="5331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228600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86400" y="297180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3657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365760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4648320"/>
            <a:ext cx="9144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9534600">
            <a:off x="5638320" y="266688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1531400">
            <a:off x="5943240" y="266652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3149000">
            <a:off x="6095520" y="259020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4453400">
            <a:off x="6324480" y="259020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67280" y="54100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5627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477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21314400">
            <a:off x="365724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05520" y="44956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86600" y="4952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838080"/>
            <a:ext cx="4495680" cy="1447920"/>
          </a:xfrm>
          <a:prstGeom prst="wedgeEllipseCallout">
            <a:avLst>
              <a:gd name="adj1" fmla="val -85699"/>
              <a:gd name="adj2" fmla="val -142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I sai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3200400"/>
            <a:ext cx="76212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477120" y="4267080"/>
            <a:ext cx="30456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-2666880" y="-3009960"/>
            <a:ext cx="6019560" cy="6019920"/>
          </a:xfrm>
          <a:prstGeom prst="ellipse">
            <a:avLst/>
          </a:prstGeom>
          <a:gradFill rotWithShape="0">
            <a:gsLst>
              <a:gs pos="0">
                <a:srgbClr val="ffffff">
                  <a:alpha val="81176"/>
                </a:srgbClr>
              </a:gs>
              <a:gs pos="100000">
                <a:srgbClr val="ffff66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62120" y="1371600"/>
            <a:ext cx="3370680" cy="4800600"/>
            <a:chOff x="762120" y="1371600"/>
            <a:chExt cx="3370680" cy="4800600"/>
          </a:xfrm>
        </p:grpSpPr>
        <p:sp>
          <p:nvSpPr>
            <p:cNvPr id="387" name=""/>
            <p:cNvSpPr/>
            <p:nvPr/>
          </p:nvSpPr>
          <p:spPr>
            <a:xfrm>
              <a:off x="1523880" y="1523880"/>
              <a:ext cx="2057400" cy="20574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28800" y="4572000"/>
              <a:ext cx="1523880" cy="5335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28800" y="3581280"/>
              <a:ext cx="1523880" cy="99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81080" y="4952880"/>
              <a:ext cx="0" cy="990720"/>
            </a:xfrm>
            <a:prstGeom prst="line">
              <a:avLst/>
            </a:prstGeom>
            <a:ln w="28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00400" y="4876920"/>
              <a:ext cx="0" cy="990360"/>
            </a:xfrm>
            <a:prstGeom prst="line">
              <a:avLst/>
            </a:prstGeom>
            <a:ln w="28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23880" y="6172200"/>
              <a:ext cx="60984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48120" y="617220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05120" y="24382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19520" y="2514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33720" y="2514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2133360" y="1600200"/>
              <a:ext cx="5331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2286000" y="1371600"/>
              <a:ext cx="4572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2120" y="4038480"/>
              <a:ext cx="527040" cy="50796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1314400">
              <a:off x="3657240" y="403812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09680" y="3200400"/>
              <a:ext cx="762120" cy="2286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105520" y="2442240"/>
            <a:ext cx="2438280" cy="3729960"/>
            <a:chOff x="5105520" y="2442240"/>
            <a:chExt cx="2438280" cy="3729960"/>
          </a:xfrm>
        </p:grpSpPr>
        <p:sp>
          <p:nvSpPr>
            <p:cNvPr id="404" name=""/>
            <p:cNvSpPr/>
            <p:nvPr/>
          </p:nvSpPr>
          <p:spPr>
            <a:xfrm>
              <a:off x="5486400" y="2971800"/>
              <a:ext cx="1676520" cy="167652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1320" y="365760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00800" y="3657600"/>
              <a:ext cx="53352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77120" y="37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67280" y="3733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867280" y="4648320"/>
              <a:ext cx="91440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9534600">
              <a:off x="5638320" y="266688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1531400">
              <a:off x="5943240" y="266652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3149000">
              <a:off x="6095520" y="2590200"/>
              <a:ext cx="685800" cy="60948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4453400">
              <a:off x="6324480" y="259020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67280" y="5410080"/>
              <a:ext cx="91440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62720" y="617220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77120" y="617220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05520" y="449568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86600" y="495288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77120" y="4267080"/>
              <a:ext cx="304560" cy="2286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33920" y="228600"/>
            <a:ext cx="5029200" cy="2133720"/>
          </a:xfrm>
          <a:prstGeom prst="wedgeEllipseCallout">
            <a:avLst>
              <a:gd name="adj1" fmla="val -51828"/>
              <a:gd name="adj2" fmla="val 813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’s no need to repeat yoursel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57400" y="4267080"/>
            <a:ext cx="3276720" cy="2133720"/>
          </a:xfrm>
          <a:prstGeom prst="wedgeEllipseCallout">
            <a:avLst>
              <a:gd name="adj1" fmla="val 52277"/>
              <a:gd name="adj2" fmla="val -45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heard ya loud and cl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-2666880" y="-3009960"/>
            <a:ext cx="6019560" cy="6019920"/>
          </a:xfrm>
          <a:prstGeom prst="ellipse">
            <a:avLst/>
          </a:prstGeom>
          <a:gradFill rotWithShape="0">
            <a:gsLst>
              <a:gs pos="0">
                <a:srgbClr val="ffffff">
                  <a:alpha val="81176"/>
                </a:srgbClr>
              </a:gs>
              <a:gs pos="100000">
                <a:srgbClr val="ffff66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2388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2880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2880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98108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0040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238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05120" y="243828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66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25146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33720" y="25146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2133360" y="1600200"/>
            <a:ext cx="5331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228600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86400" y="297180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91320" y="3657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65760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6728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67280" y="4648320"/>
            <a:ext cx="9144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9534600">
            <a:off x="5638320" y="266688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1531400">
            <a:off x="5943240" y="266652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3149000">
            <a:off x="6095520" y="259020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14453400">
            <a:off x="6324480" y="259020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67280" y="54100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627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77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21314400">
            <a:off x="365724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05520" y="44956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86600" y="4952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3920" y="457200"/>
            <a:ext cx="4495680" cy="1981080"/>
          </a:xfrm>
          <a:prstGeom prst="wedgeEllipseCallout">
            <a:avLst>
              <a:gd name="adj1" fmla="val -85699"/>
              <a:gd name="adj2" fmla="val -98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en step aside so I can lower my landing g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09680" y="3200400"/>
            <a:ext cx="76212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477120" y="4267080"/>
            <a:ext cx="30456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-2666880" y="-3009960"/>
            <a:ext cx="6019560" cy="6019920"/>
          </a:xfrm>
          <a:prstGeom prst="ellipse">
            <a:avLst/>
          </a:prstGeom>
          <a:gradFill rotWithShape="0">
            <a:gsLst>
              <a:gs pos="0">
                <a:srgbClr val="ffffff">
                  <a:alpha val="81176"/>
                </a:srgbClr>
              </a:gs>
              <a:gs pos="100000">
                <a:srgbClr val="ffff66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62120" y="1371600"/>
            <a:ext cx="3370680" cy="4800600"/>
            <a:chOff x="762120" y="1371600"/>
            <a:chExt cx="3370680" cy="4800600"/>
          </a:xfrm>
        </p:grpSpPr>
        <p:sp>
          <p:nvSpPr>
            <p:cNvPr id="466" name=""/>
            <p:cNvSpPr/>
            <p:nvPr/>
          </p:nvSpPr>
          <p:spPr>
            <a:xfrm>
              <a:off x="1523880" y="1523880"/>
              <a:ext cx="2057400" cy="20574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28800" y="4572000"/>
              <a:ext cx="1523880" cy="5335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3581280"/>
              <a:ext cx="1523880" cy="99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81080" y="4952880"/>
              <a:ext cx="0" cy="990720"/>
            </a:xfrm>
            <a:prstGeom prst="line">
              <a:avLst/>
            </a:prstGeom>
            <a:ln w="28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00400" y="4876920"/>
              <a:ext cx="0" cy="990360"/>
            </a:xfrm>
            <a:prstGeom prst="line">
              <a:avLst/>
            </a:prstGeom>
            <a:ln w="28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23880" y="6172200"/>
              <a:ext cx="60984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48120" y="617220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5120" y="24382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19520" y="2514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33720" y="2514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2133360" y="1600200"/>
              <a:ext cx="5331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>
              <a:off x="2286000" y="1371600"/>
              <a:ext cx="4572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2120" y="4038480"/>
              <a:ext cx="527040" cy="50796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21314400">
              <a:off x="3657240" y="403812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09680" y="3200400"/>
              <a:ext cx="762120" cy="2286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105520" y="2442240"/>
            <a:ext cx="2438280" cy="3729960"/>
            <a:chOff x="5105520" y="2442240"/>
            <a:chExt cx="2438280" cy="3729960"/>
          </a:xfrm>
        </p:grpSpPr>
        <p:sp>
          <p:nvSpPr>
            <p:cNvPr id="483" name=""/>
            <p:cNvSpPr/>
            <p:nvPr/>
          </p:nvSpPr>
          <p:spPr>
            <a:xfrm>
              <a:off x="5486400" y="2971800"/>
              <a:ext cx="1676520" cy="167652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91320" y="365760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00800" y="3657600"/>
              <a:ext cx="53352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77120" y="37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67280" y="3733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67280" y="4648320"/>
              <a:ext cx="91440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9534600">
              <a:off x="5638320" y="266688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1531400">
              <a:off x="5943240" y="266652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13149000">
              <a:off x="6095520" y="2590200"/>
              <a:ext cx="685800" cy="60948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4453400">
              <a:off x="6324480" y="259020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410080"/>
              <a:ext cx="91440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562720" y="617220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77120" y="617220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05520" y="449568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86600" y="495288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77120" y="4267080"/>
              <a:ext cx="304560" cy="2286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4038480" y="304920"/>
            <a:ext cx="2971800" cy="1752480"/>
          </a:xfrm>
          <a:prstGeom prst="wedgeEllipseCallout">
            <a:avLst>
              <a:gd name="adj1" fmla="val 74250"/>
              <a:gd name="adj2" fmla="val 1150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ah, right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8" dur="5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0" dur="5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31240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5400000">
            <a:off x="6477120" y="3809880"/>
            <a:ext cx="380880" cy="144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34" y="3098"/>
                  <a:pt x="17268" y="5080"/>
                  <a:pt x="17268" y="10800"/>
                </a:cubicBezTo>
                <a:cubicBezTo>
                  <a:pt x="17268" y="16520"/>
                  <a:pt x="19434" y="1850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304920"/>
            <a:ext cx="4572000" cy="2514600"/>
          </a:xfrm>
          <a:prstGeom prst="wedgeEllipseCallout">
            <a:avLst>
              <a:gd name="adj1" fmla="val 46041"/>
              <a:gd name="adj2" fmla="val 82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y, where’d he go?  I thought he was landing h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3048120"/>
            <a:ext cx="30492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0.05156 C -0.00243 0.04948 0.00139 0.02797 0.01111 0.02959 C 0.02586 0.03144 0.03159 0.0467 0.04514 0.03144 C 0.05364 0.02266 0.06371 2.83236999999996E-006 0.07118 0.00069 C 0.08767 0.00138 0.09114 0.02451 0.09114 0.04601 C 0.09166 0.07607 0.06996 0.1015 0.04357 0.10451 C 0.01701 0.10659 -0.00504 0.07422 -0.00313 0.05156 Z">
                                      <p:cBhvr>
                                        <p:cTn id="235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04578 C -0.00243 0.04346 0.00139 0.01988 0.01111 0.0215 C 0.02587 0.02381 0.0316 0.04046 0.04514 0.02381 C 0.05365 0.01387 0.06372 -0.0111 0.07118 -0.01041 C 0.08768 -0.00972 0.09115 0.01595 0.09115 0.03976 C 0.09167 0.07306 0.06997 0.10104 0.04358 0.10427 C 0.01702 0.10659 -0.00503 0.07075 -0.00312 0.04578 Z">
                                      <p:cBhvr>
                                        <p:cTn id="237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8088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2819520"/>
            <a:ext cx="121896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342900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16200000">
            <a:off x="2171880" y="4076640"/>
            <a:ext cx="38088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72" y="3076"/>
                  <a:pt x="17144" y="5080"/>
                  <a:pt x="17144" y="10800"/>
                </a:cubicBezTo>
                <a:cubicBezTo>
                  <a:pt x="17144" y="16520"/>
                  <a:pt x="19372" y="185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114800" y="380880"/>
            <a:ext cx="4343400" cy="3962520"/>
          </a:xfrm>
          <a:prstGeom prst="wedgeEllipseCallout">
            <a:avLst>
              <a:gd name="adj1" fmla="val -56175"/>
              <a:gd name="adj2" fmla="val 56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he for real, or have I been playing too many space games on my X- Bo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2819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752480" y="35812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5181480"/>
            <a:ext cx="3048120" cy="167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286000" y="1599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362320" y="1219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105520" y="2442240"/>
            <a:ext cx="2438280" cy="3729960"/>
            <a:chOff x="5105520" y="2442240"/>
            <a:chExt cx="2438280" cy="3729960"/>
          </a:xfrm>
        </p:grpSpPr>
        <p:sp>
          <p:nvSpPr>
            <p:cNvPr id="529" name=""/>
            <p:cNvSpPr/>
            <p:nvPr/>
          </p:nvSpPr>
          <p:spPr>
            <a:xfrm>
              <a:off x="5486400" y="2971800"/>
              <a:ext cx="1676520" cy="167652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91320" y="365760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00800" y="3657600"/>
              <a:ext cx="53352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77120" y="37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867280" y="3733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67280" y="4648320"/>
              <a:ext cx="91440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9534600">
              <a:off x="5638320" y="266688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1531400">
              <a:off x="5943240" y="266652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3149000">
              <a:off x="6095520" y="2590200"/>
              <a:ext cx="685800" cy="60948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4453400">
              <a:off x="6324480" y="259020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7280" y="5410080"/>
              <a:ext cx="91440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62720" y="617220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77120" y="617220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05520" y="449568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86600" y="495288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77120" y="4267080"/>
              <a:ext cx="304560" cy="2286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1219320" y="0"/>
            <a:ext cx="4495680" cy="1447920"/>
          </a:xfrm>
          <a:prstGeom prst="wedgeEllipseCallout">
            <a:avLst>
              <a:gd name="adj1" fmla="val -28921"/>
              <a:gd name="adj2" fmla="val 1737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ord be with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-2209680" y="-533520"/>
            <a:ext cx="2297160" cy="4542120"/>
            <a:chOff x="-2209680" y="-533520"/>
            <a:chExt cx="2297160" cy="4542120"/>
          </a:xfrm>
        </p:grpSpPr>
        <p:sp>
          <p:nvSpPr>
            <p:cNvPr id="548" name=""/>
            <p:cNvSpPr/>
            <p:nvPr/>
          </p:nvSpPr>
          <p:spPr>
            <a:xfrm>
              <a:off x="-533520" y="1371240"/>
              <a:ext cx="381240" cy="3524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-2209680" y="-533520"/>
              <a:ext cx="2297160" cy="4542120"/>
              <a:chOff x="-2209680" y="-533520"/>
              <a:chExt cx="2297160" cy="4542120"/>
            </a:xfrm>
          </p:grpSpPr>
          <p:grpSp>
            <p:nvGrpSpPr>
              <p:cNvPr id="550" name=""/>
              <p:cNvGrpSpPr/>
              <p:nvPr/>
            </p:nvGrpSpPr>
            <p:grpSpPr>
              <a:xfrm>
                <a:off x="-2209680" y="-533520"/>
                <a:ext cx="1927800" cy="4542120"/>
                <a:chOff x="-2209680" y="-533520"/>
                <a:chExt cx="1927800" cy="4542120"/>
              </a:xfrm>
            </p:grpSpPr>
            <p:grpSp>
              <p:nvGrpSpPr>
                <p:cNvPr id="551" name=""/>
                <p:cNvGrpSpPr/>
                <p:nvPr/>
              </p:nvGrpSpPr>
              <p:grpSpPr>
                <a:xfrm>
                  <a:off x="-2106000" y="-533520"/>
                  <a:ext cx="1824120" cy="4542120"/>
                  <a:chOff x="-2106000" y="-533520"/>
                  <a:chExt cx="1824120" cy="4542120"/>
                </a:xfrm>
              </p:grpSpPr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-2106000" y="-533520"/>
                    <a:ext cx="1824120" cy="4542120"/>
                    <a:chOff x="-2106000" y="-533520"/>
                    <a:chExt cx="1824120" cy="4542120"/>
                  </a:xfrm>
                </p:grpSpPr>
                <p:grpSp>
                  <p:nvGrpSpPr>
                    <p:cNvPr id="553" name=""/>
                    <p:cNvGrpSpPr/>
                    <p:nvPr/>
                  </p:nvGrpSpPr>
                  <p:grpSpPr>
                    <a:xfrm>
                      <a:off x="-2106000" y="-533520"/>
                      <a:ext cx="1824120" cy="3199680"/>
                      <a:chOff x="-2106000" y="-533520"/>
                      <a:chExt cx="1824120" cy="3199680"/>
                    </a:xfrm>
                  </p:grpSpPr>
                  <p:sp>
                    <p:nvSpPr>
                      <p:cNvPr id="554" name=""/>
                      <p:cNvSpPr/>
                      <p:nvPr/>
                    </p:nvSpPr>
                    <p:spPr>
                      <a:xfrm>
                        <a:off x="-1981440" y="-533520"/>
                        <a:ext cx="1600200" cy="205704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5" name=""/>
                      <p:cNvSpPr/>
                      <p:nvPr/>
                    </p:nvSpPr>
                    <p:spPr>
                      <a:xfrm rot="19351800">
                        <a:off x="-1905480" y="303840"/>
                        <a:ext cx="527040" cy="837720"/>
                      </a:xfrm>
                      <a:prstGeom prst="ellipse">
                        <a:avLst/>
                      </a:prstGeom>
                      <a:solidFill>
                        <a:srgbClr val="3333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6" name=""/>
                      <p:cNvSpPr/>
                      <p:nvPr/>
                    </p:nvSpPr>
                    <p:spPr>
                      <a:xfrm rot="1925400">
                        <a:off x="-990720" y="304200"/>
                        <a:ext cx="527040" cy="837720"/>
                      </a:xfrm>
                      <a:prstGeom prst="ellipse">
                        <a:avLst/>
                      </a:prstGeom>
                      <a:solidFill>
                        <a:srgbClr val="3333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7" name=""/>
                      <p:cNvSpPr/>
                      <p:nvPr/>
                    </p:nvSpPr>
                    <p:spPr>
                      <a:xfrm>
                        <a:off x="-1676880" y="1752120"/>
                        <a:ext cx="990720" cy="91404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8" name=""/>
                      <p:cNvSpPr/>
                      <p:nvPr/>
                    </p:nvSpPr>
                    <p:spPr>
                      <a:xfrm flipH="1">
                        <a:off x="-1219680" y="1370880"/>
                        <a:ext cx="76320" cy="533160"/>
                      </a:xfrm>
                      <a:prstGeom prst="line">
                        <a:avLst/>
                      </a:prstGeom>
                      <a:ln w="1620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9" name=""/>
                    <p:cNvGrpSpPr/>
                    <p:nvPr/>
                  </p:nvGrpSpPr>
                  <p:grpSpPr>
                    <a:xfrm>
                      <a:off x="-2057400" y="2514240"/>
                      <a:ext cx="1752480" cy="1494360"/>
                      <a:chOff x="-2057400" y="2514240"/>
                      <a:chExt cx="1752480" cy="1494360"/>
                    </a:xfrm>
                  </p:grpSpPr>
                  <p:grpSp>
                    <p:nvGrpSpPr>
                      <p:cNvPr id="560" name=""/>
                      <p:cNvGrpSpPr/>
                      <p:nvPr/>
                    </p:nvGrpSpPr>
                    <p:grpSpPr>
                      <a:xfrm>
                        <a:off x="-2057400" y="3199680"/>
                        <a:ext cx="1752480" cy="808920"/>
                        <a:chOff x="-2057400" y="3199680"/>
                        <a:chExt cx="1752480" cy="808920"/>
                      </a:xfrm>
                    </p:grpSpPr>
                    <p:sp>
                      <p:nvSpPr>
                        <p:cNvPr id="561" name=""/>
                        <p:cNvSpPr/>
                        <p:nvPr/>
                      </p:nvSpPr>
                      <p:spPr>
                        <a:xfrm>
                          <a:off x="-1371600" y="358020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>
                          <a:off x="-685800" y="335160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3" name=""/>
                        <p:cNvSpPr/>
                        <p:nvPr/>
                      </p:nvSpPr>
                      <p:spPr>
                        <a:xfrm>
                          <a:off x="-1371600" y="319968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>
                          <a:off x="-2057400" y="342792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5" name=""/>
                        <p:cNvSpPr/>
                        <p:nvPr/>
                      </p:nvSpPr>
                      <p:spPr>
                        <a:xfrm>
                          <a:off x="-914400" y="365652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66" name=""/>
                      <p:cNvGrpSpPr/>
                      <p:nvPr/>
                    </p:nvGrpSpPr>
                    <p:grpSpPr>
                      <a:xfrm>
                        <a:off x="-1906560" y="2514240"/>
                        <a:ext cx="1438200" cy="1226160"/>
                        <a:chOff x="-1906560" y="2514240"/>
                        <a:chExt cx="1438200" cy="1226160"/>
                      </a:xfrm>
                    </p:grpSpPr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>
                          <a:off x="-917640" y="2535840"/>
                          <a:ext cx="449280" cy="90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3" h="569">
                              <a:moveTo>
                                <a:pt x="0" y="0"/>
                              </a:moveTo>
                              <a:cubicBezTo>
                                <a:pt x="46" y="70"/>
                                <a:pt x="59" y="71"/>
                                <a:pt x="128" y="119"/>
                              </a:cubicBezTo>
                              <a:cubicBezTo>
                                <a:pt x="146" y="132"/>
                                <a:pt x="183" y="155"/>
                                <a:pt x="183" y="155"/>
                              </a:cubicBezTo>
                              <a:cubicBezTo>
                                <a:pt x="233" y="231"/>
                                <a:pt x="209" y="216"/>
                                <a:pt x="237" y="301"/>
                              </a:cubicBezTo>
                              <a:cubicBezTo>
                                <a:pt x="248" y="383"/>
                                <a:pt x="245" y="466"/>
                                <a:pt x="256" y="548"/>
                              </a:cubicBezTo>
                              <a:cubicBezTo>
                                <a:pt x="259" y="569"/>
                                <a:pt x="271" y="567"/>
                                <a:pt x="283" y="567"/>
                              </a:cubicBezTo>
                            </a:path>
                          </a:pathLst>
                        </a:custGeom>
                        <a:noFill/>
                        <a:ln w="76320">
                          <a:solidFill>
                            <a:srgbClr val="00f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68" name=""/>
                        <p:cNvGrpSpPr/>
                        <p:nvPr/>
                      </p:nvGrpSpPr>
                      <p:grpSpPr>
                        <a:xfrm>
                          <a:off x="-1906560" y="2514240"/>
                          <a:ext cx="1230120" cy="1226160"/>
                          <a:chOff x="-1906560" y="2514240"/>
                          <a:chExt cx="1230120" cy="1226160"/>
                        </a:xfrm>
                      </p:grpSpPr>
                      <p:sp>
                        <p:nvSpPr>
                          <p:cNvPr id="569" name=""/>
                          <p:cNvSpPr/>
                          <p:nvPr/>
                        </p:nvSpPr>
                        <p:spPr>
                          <a:xfrm>
                            <a:off x="-1906560" y="2593080"/>
                            <a:ext cx="480960" cy="842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3" h="531">
                                <a:moveTo>
                                  <a:pt x="303" y="0"/>
                                </a:moveTo>
                                <a:cubicBezTo>
                                  <a:pt x="294" y="12"/>
                                  <a:pt x="247" y="89"/>
                                  <a:pt x="220" y="101"/>
                                </a:cubicBezTo>
                                <a:cubicBezTo>
                                  <a:pt x="160" y="127"/>
                                  <a:pt x="84" y="133"/>
                                  <a:pt x="19" y="147"/>
                                </a:cubicBezTo>
                                <a:cubicBezTo>
                                  <a:pt x="0" y="205"/>
                                  <a:pt x="13" y="263"/>
                                  <a:pt x="47" y="311"/>
                                </a:cubicBezTo>
                                <a:cubicBezTo>
                                  <a:pt x="61" y="370"/>
                                  <a:pt x="67" y="380"/>
                                  <a:pt x="56" y="448"/>
                                </a:cubicBezTo>
                                <a:cubicBezTo>
                                  <a:pt x="51" y="481"/>
                                  <a:pt x="33" y="500"/>
                                  <a:pt x="47" y="531"/>
                                </a:cubicBezTo>
                              </a:path>
                            </a:pathLst>
                          </a:custGeom>
                          <a:noFill/>
                          <a:ln w="76320">
                            <a:solidFill>
                              <a:srgbClr val="00f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0" name=""/>
                          <p:cNvSpPr/>
                          <p:nvPr/>
                        </p:nvSpPr>
                        <p:spPr>
                          <a:xfrm>
                            <a:off x="-1447920" y="2514240"/>
                            <a:ext cx="631800" cy="114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1" h="384">
                                <a:moveTo>
                                  <a:pt x="289" y="384"/>
                                </a:moveTo>
                                <a:cubicBezTo>
                                  <a:pt x="333" y="369"/>
                                  <a:pt x="426" y="357"/>
                                  <a:pt x="426" y="357"/>
                                </a:cubicBezTo>
                                <a:cubicBezTo>
                                  <a:pt x="462" y="332"/>
                                  <a:pt x="470" y="327"/>
                                  <a:pt x="481" y="284"/>
                                </a:cubicBezTo>
                                <a:cubicBezTo>
                                  <a:pt x="475" y="258"/>
                                  <a:pt x="473" y="187"/>
                                  <a:pt x="444" y="174"/>
                                </a:cubicBezTo>
                                <a:cubicBezTo>
                                  <a:pt x="402" y="155"/>
                                  <a:pt x="353" y="162"/>
                                  <a:pt x="307" y="156"/>
                                </a:cubicBezTo>
                                <a:cubicBezTo>
                                  <a:pt x="222" y="145"/>
                                  <a:pt x="136" y="139"/>
                                  <a:pt x="51" y="128"/>
                                </a:cubicBezTo>
                                <a:cubicBezTo>
                                  <a:pt x="0" y="94"/>
                                  <a:pt x="15" y="67"/>
                                  <a:pt x="60" y="37"/>
                                </a:cubicBezTo>
                                <a:cubicBezTo>
                                  <a:pt x="124" y="40"/>
                                  <a:pt x="188" y="41"/>
                                  <a:pt x="252" y="46"/>
                                </a:cubicBezTo>
                                <a:cubicBezTo>
                                  <a:pt x="262" y="47"/>
                                  <a:pt x="273" y="62"/>
                                  <a:pt x="280" y="55"/>
                                </a:cubicBezTo>
                                <a:cubicBezTo>
                                  <a:pt x="294" y="41"/>
                                  <a:pt x="298" y="0"/>
                                  <a:pt x="298" y="0"/>
                                </a:cubicBezTo>
                                <a:cubicBezTo>
                                  <a:pt x="304" y="9"/>
                                  <a:pt x="316" y="28"/>
                                  <a:pt x="316" y="28"/>
                                </a:cubicBezTo>
                              </a:path>
                            </a:pathLst>
                          </a:custGeom>
                          <a:noFill/>
                          <a:ln w="76320">
                            <a:solidFill>
                              <a:srgbClr val="00f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1" name=""/>
                          <p:cNvSpPr/>
                          <p:nvPr/>
                        </p:nvSpPr>
                        <p:spPr>
                          <a:xfrm>
                            <a:off x="-1368720" y="2550240"/>
                            <a:ext cx="233640" cy="696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7" h="439">
                                <a:moveTo>
                                  <a:pt x="147" y="439"/>
                                </a:moveTo>
                                <a:cubicBezTo>
                                  <a:pt x="104" y="425"/>
                                  <a:pt x="61" y="416"/>
                                  <a:pt x="19" y="402"/>
                                </a:cubicBezTo>
                                <a:cubicBezTo>
                                  <a:pt x="0" y="350"/>
                                  <a:pt x="7" y="327"/>
                                  <a:pt x="55" y="311"/>
                                </a:cubicBezTo>
                                <a:cubicBezTo>
                                  <a:pt x="72" y="284"/>
                                  <a:pt x="92" y="264"/>
                                  <a:pt x="110" y="238"/>
                                </a:cubicBezTo>
                                <a:cubicBezTo>
                                  <a:pt x="128" y="164"/>
                                  <a:pt x="124" y="198"/>
                                  <a:pt x="110" y="73"/>
                                </a:cubicBezTo>
                                <a:cubicBezTo>
                                  <a:pt x="107" y="48"/>
                                  <a:pt x="92" y="25"/>
                                  <a:pt x="92" y="0"/>
                                </a:cubicBezTo>
                              </a:path>
                            </a:pathLst>
                          </a:custGeom>
                          <a:noFill/>
                          <a:ln w="76320">
                            <a:solidFill>
                              <a:srgbClr val="00f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2" name=""/>
                          <p:cNvSpPr/>
                          <p:nvPr/>
                        </p:nvSpPr>
                        <p:spPr>
                          <a:xfrm>
                            <a:off x="-1092240" y="2521800"/>
                            <a:ext cx="415800" cy="1218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2" h="768">
                                <a:moveTo>
                                  <a:pt x="201" y="768"/>
                                </a:moveTo>
                                <a:cubicBezTo>
                                  <a:pt x="208" y="694"/>
                                  <a:pt x="214" y="610"/>
                                  <a:pt x="238" y="539"/>
                                </a:cubicBezTo>
                                <a:cubicBezTo>
                                  <a:pt x="249" y="447"/>
                                  <a:pt x="262" y="314"/>
                                  <a:pt x="174" y="256"/>
                                </a:cubicBezTo>
                                <a:cubicBezTo>
                                  <a:pt x="160" y="213"/>
                                  <a:pt x="147" y="226"/>
                                  <a:pt x="110" y="201"/>
                                </a:cubicBezTo>
                                <a:cubicBezTo>
                                  <a:pt x="93" y="147"/>
                                  <a:pt x="93" y="139"/>
                                  <a:pt x="37" y="118"/>
                                </a:cubicBezTo>
                                <a:cubicBezTo>
                                  <a:pt x="0" y="83"/>
                                  <a:pt x="0" y="46"/>
                                  <a:pt x="0" y="0"/>
                                </a:cubicBezTo>
                              </a:path>
                            </a:pathLst>
                          </a:custGeom>
                          <a:noFill/>
                          <a:ln w="76320">
                            <a:solidFill>
                              <a:srgbClr val="00f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sp>
                <p:nvSpPr>
                  <p:cNvPr id="573" name=""/>
                  <p:cNvSpPr/>
                  <p:nvPr/>
                </p:nvSpPr>
                <p:spPr>
                  <a:xfrm rot="16200000">
                    <a:off x="-1279800" y="974880"/>
                    <a:ext cx="328680" cy="66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5035" y="1520"/>
                          <a:pt x="8470" y="5080"/>
                          <a:pt x="8470" y="10800"/>
                        </a:cubicBezTo>
                        <a:cubicBezTo>
                          <a:pt x="8470" y="16520"/>
                          <a:pt x="15035" y="20080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5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-2209680" y="1647720"/>
                  <a:ext cx="1846080" cy="838080"/>
                  <a:chOff x="-2209680" y="1647720"/>
                  <a:chExt cx="1846080" cy="83808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-2209680" y="2133360"/>
                    <a:ext cx="380880" cy="352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-826920" y="1647720"/>
                    <a:ext cx="46332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292">
                        <a:moveTo>
                          <a:pt x="0" y="283"/>
                        </a:moveTo>
                        <a:cubicBezTo>
                          <a:pt x="62" y="292"/>
                          <a:pt x="87" y="286"/>
                          <a:pt x="146" y="274"/>
                        </a:cubicBezTo>
                        <a:cubicBezTo>
                          <a:pt x="175" y="255"/>
                          <a:pt x="217" y="229"/>
                          <a:pt x="238" y="201"/>
                        </a:cubicBezTo>
                        <a:cubicBezTo>
                          <a:pt x="251" y="183"/>
                          <a:pt x="274" y="146"/>
                          <a:pt x="274" y="146"/>
                        </a:cubicBezTo>
                        <a:cubicBezTo>
                          <a:pt x="292" y="74"/>
                          <a:pt x="283" y="122"/>
                          <a:pt x="283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-2003400" y="1938240"/>
                    <a:ext cx="493560" cy="28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82">
                        <a:moveTo>
                          <a:pt x="311" y="27"/>
                        </a:moveTo>
                        <a:cubicBezTo>
                          <a:pt x="261" y="10"/>
                          <a:pt x="208" y="8"/>
                          <a:pt x="156" y="0"/>
                        </a:cubicBezTo>
                        <a:cubicBezTo>
                          <a:pt x="109" y="8"/>
                          <a:pt x="84" y="10"/>
                          <a:pt x="46" y="36"/>
                        </a:cubicBezTo>
                        <a:cubicBezTo>
                          <a:pt x="17" y="81"/>
                          <a:pt x="0" y="129"/>
                          <a:pt x="0" y="182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8" name=""/>
              <p:cNvSpPr/>
              <p:nvPr/>
            </p:nvSpPr>
            <p:spPr>
              <a:xfrm>
                <a:off x="-352440" y="804600"/>
                <a:ext cx="439920" cy="741240"/>
              </a:xfrm>
              <a:custGeom>
                <a:avLst/>
                <a:gdLst/>
                <a:ahLst/>
                <a:rect l="l" t="t" r="r" b="b"/>
                <a:pathLst>
                  <a:path w="277" h="467">
                    <a:moveTo>
                      <a:pt x="21" y="0"/>
                    </a:moveTo>
                    <a:cubicBezTo>
                      <a:pt x="19" y="60"/>
                      <a:pt x="0" y="360"/>
                      <a:pt x="21" y="430"/>
                    </a:cubicBezTo>
                    <a:cubicBezTo>
                      <a:pt x="24" y="441"/>
                      <a:pt x="138" y="464"/>
                      <a:pt x="149" y="467"/>
                    </a:cubicBezTo>
                    <a:cubicBezTo>
                      <a:pt x="215" y="451"/>
                      <a:pt x="173" y="458"/>
                      <a:pt x="277" y="458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9" name=""/>
          <p:cNvGrpSpPr/>
          <p:nvPr/>
        </p:nvGrpSpPr>
        <p:grpSpPr>
          <a:xfrm>
            <a:off x="762120" y="1371600"/>
            <a:ext cx="3370680" cy="4800600"/>
            <a:chOff x="762120" y="1371600"/>
            <a:chExt cx="3370680" cy="4800600"/>
          </a:xfrm>
        </p:grpSpPr>
        <p:grpSp>
          <p:nvGrpSpPr>
            <p:cNvPr id="580" name=""/>
            <p:cNvGrpSpPr/>
            <p:nvPr/>
          </p:nvGrpSpPr>
          <p:grpSpPr>
            <a:xfrm>
              <a:off x="762120" y="1371600"/>
              <a:ext cx="3370680" cy="4800600"/>
              <a:chOff x="762120" y="1371600"/>
              <a:chExt cx="3370680" cy="4800600"/>
            </a:xfrm>
          </p:grpSpPr>
          <p:sp>
            <p:nvSpPr>
              <p:cNvPr id="581" name=""/>
              <p:cNvSpPr/>
              <p:nvPr/>
            </p:nvSpPr>
            <p:spPr>
              <a:xfrm>
                <a:off x="1523880" y="1523880"/>
                <a:ext cx="2057400" cy="2057400"/>
              </a:xfrm>
              <a:prstGeom prst="ellipse">
                <a:avLst/>
              </a:prstGeom>
              <a:solidFill>
                <a:srgbClr val="ffd5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762120" y="1371600"/>
                <a:ext cx="3370680" cy="4800600"/>
                <a:chOff x="762120" y="1371600"/>
                <a:chExt cx="3370680" cy="48006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828800" y="4572000"/>
                  <a:ext cx="1523880" cy="533520"/>
                </a:xfrm>
                <a:prstGeom prst="rect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828800" y="3581280"/>
                  <a:ext cx="1523880" cy="99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981080" y="4952880"/>
                  <a:ext cx="0" cy="990720"/>
                </a:xfrm>
                <a:prstGeom prst="line">
                  <a:avLst/>
                </a:prstGeom>
                <a:ln w="28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00400" y="4876920"/>
                  <a:ext cx="0" cy="990360"/>
                </a:xfrm>
                <a:prstGeom prst="line">
                  <a:avLst/>
                </a:prstGeom>
                <a:ln w="28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523880" y="6172200"/>
                  <a:ext cx="609840" cy="0"/>
                </a:xfrm>
                <a:prstGeom prst="line">
                  <a:avLst/>
                </a:prstGeom>
                <a:ln w="28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48120" y="6172200"/>
                  <a:ext cx="609480" cy="0"/>
                </a:xfrm>
                <a:prstGeom prst="line">
                  <a:avLst/>
                </a:prstGeom>
                <a:ln w="28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905120" y="2438280"/>
                  <a:ext cx="533160" cy="533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743200" y="259092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981080" y="2590920"/>
                  <a:ext cx="152640" cy="152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 flipV="1">
                  <a:off x="2133360" y="1600200"/>
                  <a:ext cx="53316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 flipV="1">
                  <a:off x="2286000" y="1371600"/>
                  <a:ext cx="457200" cy="45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62120" y="4038480"/>
                  <a:ext cx="527040" cy="507960"/>
                </a:xfrm>
                <a:prstGeom prst="ellipse">
                  <a:avLst/>
                </a:prstGeom>
                <a:solidFill>
                  <a:srgbClr val="ffd5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rot="21314400">
                  <a:off x="3657240" y="4038120"/>
                  <a:ext cx="457200" cy="457200"/>
                </a:xfrm>
                <a:prstGeom prst="ellipse">
                  <a:avLst/>
                </a:prstGeom>
                <a:solidFill>
                  <a:srgbClr val="ffd5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209680" y="3200400"/>
                  <a:ext cx="762120" cy="228600"/>
                </a:xfrm>
                <a:prstGeom prst="ellipse">
                  <a:avLst/>
                </a:prstGeom>
                <a:solidFill>
                  <a:srgbClr val="ff5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7" name=""/>
            <p:cNvSpPr/>
            <p:nvPr/>
          </p:nvSpPr>
          <p:spPr>
            <a:xfrm>
              <a:off x="2590920" y="24382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666880" y="2590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5" dur="5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7" dur="5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95 E">
                                      <p:cBhvr>
                                        <p:cTn id="259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518148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858000" y="2819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16200000">
            <a:off x="6515280" y="4076640"/>
            <a:ext cx="38088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72" y="3076"/>
                  <a:pt x="17144" y="5080"/>
                  <a:pt x="17144" y="10800"/>
                </a:cubicBezTo>
                <a:cubicBezTo>
                  <a:pt x="17144" y="16520"/>
                  <a:pt x="19372" y="185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228600"/>
            <a:ext cx="3505320" cy="1981080"/>
          </a:xfrm>
          <a:prstGeom prst="wedgeEllipseCallout">
            <a:avLst>
              <a:gd name="adj1" fmla="val 73504"/>
              <a:gd name="adj2" fmla="val 1173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lso with y--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334120" y="2819520"/>
            <a:ext cx="121896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486400" y="3276720"/>
            <a:ext cx="1752480" cy="304560"/>
            <a:chOff x="5486400" y="3276720"/>
            <a:chExt cx="1752480" cy="304560"/>
          </a:xfrm>
        </p:grpSpPr>
        <p:sp>
          <p:nvSpPr>
            <p:cNvPr id="605" name=""/>
            <p:cNvSpPr/>
            <p:nvPr/>
          </p:nvSpPr>
          <p:spPr>
            <a:xfrm>
              <a:off x="6934320" y="3276720"/>
              <a:ext cx="304560" cy="30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86400" y="3276720"/>
              <a:ext cx="304920" cy="30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486400" y="5181480"/>
            <a:ext cx="3048120" cy="167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7086600" y="1599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7162920" y="1219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352680" y="5334120"/>
            <a:ext cx="1952640" cy="1396440"/>
            <a:chOff x="3352680" y="5334120"/>
            <a:chExt cx="1952640" cy="1396440"/>
          </a:xfrm>
        </p:grpSpPr>
        <p:sp>
          <p:nvSpPr>
            <p:cNvPr id="612" name=""/>
            <p:cNvSpPr/>
            <p:nvPr/>
          </p:nvSpPr>
          <p:spPr>
            <a:xfrm>
              <a:off x="4314600" y="5740200"/>
              <a:ext cx="990720" cy="99036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789440" y="5334120"/>
              <a:ext cx="174600" cy="493560"/>
            </a:xfrm>
            <a:custGeom>
              <a:avLst/>
              <a:gdLst/>
              <a:ahLst/>
              <a:rect l="l" t="t" r="r" b="b"/>
              <a:pathLst>
                <a:path w="110" h="311">
                  <a:moveTo>
                    <a:pt x="110" y="311"/>
                  </a:moveTo>
                  <a:cubicBezTo>
                    <a:pt x="33" y="231"/>
                    <a:pt x="0" y="92"/>
                    <a:pt x="92" y="0"/>
                  </a:cubicBezTo>
                </a:path>
              </a:pathLst>
            </a:cu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527280" y="5943600"/>
              <a:ext cx="942840" cy="101160"/>
            </a:xfrm>
            <a:custGeom>
              <a:avLst/>
              <a:gdLst/>
              <a:ahLst/>
              <a:rect l="l" t="t" r="r" b="b"/>
              <a:pathLst>
                <a:path w="594" h="64">
                  <a:moveTo>
                    <a:pt x="594" y="64"/>
                  </a:moveTo>
                  <a:cubicBezTo>
                    <a:pt x="431" y="37"/>
                    <a:pt x="266" y="29"/>
                    <a:pt x="101" y="18"/>
                  </a:cubicBezTo>
                  <a:cubicBezTo>
                    <a:pt x="8" y="12"/>
                    <a:pt x="30" y="30"/>
                    <a:pt x="0" y="0"/>
                  </a:cubicBezTo>
                </a:path>
              </a:pathLst>
            </a:custGeom>
            <a:solidFill>
              <a:srgbClr val="ffd581"/>
            </a:solidFill>
            <a:ln w="76320">
              <a:solidFill>
                <a:srgbClr val="ffd5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52680" y="6224400"/>
              <a:ext cx="1060200" cy="37800"/>
            </a:xfrm>
            <a:custGeom>
              <a:avLst/>
              <a:gdLst/>
              <a:ahLst/>
              <a:rect l="l" t="t" r="r" b="b"/>
              <a:pathLst>
                <a:path w="668" h="24">
                  <a:moveTo>
                    <a:pt x="668" y="24"/>
                  </a:moveTo>
                  <a:cubicBezTo>
                    <a:pt x="446" y="0"/>
                    <a:pt x="223" y="24"/>
                    <a:pt x="0" y="24"/>
                  </a:cubicBezTo>
                </a:path>
              </a:pathLst>
            </a:custGeom>
            <a:noFill/>
            <a:ln w="76320">
              <a:solidFill>
                <a:srgbClr val="ffd5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671640" y="6451560"/>
              <a:ext cx="914400" cy="77400"/>
            </a:xfrm>
            <a:custGeom>
              <a:avLst/>
              <a:gdLst/>
              <a:ahLst/>
              <a:rect l="l" t="t" r="r" b="b"/>
              <a:pathLst>
                <a:path w="576" h="49">
                  <a:moveTo>
                    <a:pt x="576" y="0"/>
                  </a:moveTo>
                  <a:cubicBezTo>
                    <a:pt x="439" y="17"/>
                    <a:pt x="314" y="31"/>
                    <a:pt x="174" y="37"/>
                  </a:cubicBezTo>
                  <a:cubicBezTo>
                    <a:pt x="62" y="49"/>
                    <a:pt x="119" y="46"/>
                    <a:pt x="0" y="46"/>
                  </a:cubicBezTo>
                </a:path>
              </a:pathLst>
            </a:custGeom>
            <a:noFill/>
            <a:ln w="76320">
              <a:solidFill>
                <a:srgbClr val="ffd5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762120" y="2362320"/>
            <a:ext cx="3504960" cy="3047760"/>
          </a:xfrm>
          <a:prstGeom prst="wedgeEllipseCallout">
            <a:avLst>
              <a:gd name="adj1" fmla="val 72870"/>
              <a:gd name="adj2" fmla="val 2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it a minu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’d you get that lin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1" dur="1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 L 0.09584 0 E">
                                      <p:cBhvr>
                                        <p:cTn id="280" dur="1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80880" y="1752480"/>
            <a:ext cx="685800" cy="6098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153280" y="5335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14400" y="484344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-1699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81680" y="3124080"/>
            <a:ext cx="38124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572680" y="2666880"/>
            <a:ext cx="1143000" cy="1014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-343080" y="3733920"/>
            <a:ext cx="68616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848720" y="416556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828800" y="19051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05120" y="571500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105520" y="91440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2057400"/>
            <a:ext cx="1143000" cy="1014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809880" y="358128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91120" y="54100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057400" y="28195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581280" y="16765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581280" y="22860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324480" y="38088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010280" y="205740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388620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924680" y="5638680"/>
            <a:ext cx="38124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31240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80880" y="617220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1240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057400" y="6094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39152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124080" y="5257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010280" y="-152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86400" y="4419720"/>
            <a:ext cx="1143000" cy="1143000"/>
          </a:xfrm>
          <a:custGeom>
            <a:avLst/>
            <a:gdLst>
              <a:gd name="textAreaLeft" fmla="*/ 397440 w 1143000"/>
              <a:gd name="textAreaRight" fmla="*/ 745560 w 1143000"/>
              <a:gd name="textAreaTop" fmla="*/ 397440 h 1143000"/>
              <a:gd name="textAreaBottom" fmla="*/ 7455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9" y="12542"/>
                </a:lnTo>
                <a:lnTo>
                  <a:pt x="3163" y="18437"/>
                </a:lnTo>
                <a:lnTo>
                  <a:pt x="8983" y="15080"/>
                </a:lnTo>
                <a:lnTo>
                  <a:pt x="10800" y="21600"/>
                </a:lnTo>
                <a:lnTo>
                  <a:pt x="12542" y="15111"/>
                </a:lnTo>
                <a:lnTo>
                  <a:pt x="18437" y="18437"/>
                </a:lnTo>
                <a:lnTo>
                  <a:pt x="15080" y="12617"/>
                </a:lnTo>
                <a:lnTo>
                  <a:pt x="21600" y="10800"/>
                </a:lnTo>
                <a:lnTo>
                  <a:pt x="15111" y="9058"/>
                </a:lnTo>
                <a:lnTo>
                  <a:pt x="18437" y="3163"/>
                </a:lnTo>
                <a:lnTo>
                  <a:pt x="12617" y="6520"/>
                </a:lnTo>
                <a:lnTo>
                  <a:pt x="10800" y="0"/>
                </a:lnTo>
                <a:lnTo>
                  <a:pt x="9058" y="6489"/>
                </a:lnTo>
                <a:lnTo>
                  <a:pt x="3163" y="3163"/>
                </a:lnTo>
                <a:lnTo>
                  <a:pt x="6520" y="898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505320"/>
            <a:ext cx="609480" cy="609480"/>
          </a:xfrm>
          <a:custGeom>
            <a:avLst/>
            <a:gdLst>
              <a:gd name="textAreaLeft" fmla="*/ 212040 w 609480"/>
              <a:gd name="textAreaRight" fmla="*/ 397440 w 609480"/>
              <a:gd name="textAreaTop" fmla="*/ 212040 h 609480"/>
              <a:gd name="textAreaBottom" fmla="*/ 3974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9" y="12542"/>
                </a:lnTo>
                <a:lnTo>
                  <a:pt x="3163" y="18437"/>
                </a:lnTo>
                <a:lnTo>
                  <a:pt x="8983" y="15080"/>
                </a:lnTo>
                <a:lnTo>
                  <a:pt x="10800" y="21600"/>
                </a:lnTo>
                <a:lnTo>
                  <a:pt x="12542" y="15111"/>
                </a:lnTo>
                <a:lnTo>
                  <a:pt x="18437" y="18437"/>
                </a:lnTo>
                <a:lnTo>
                  <a:pt x="15080" y="12617"/>
                </a:lnTo>
                <a:lnTo>
                  <a:pt x="21600" y="10800"/>
                </a:lnTo>
                <a:lnTo>
                  <a:pt x="15111" y="9058"/>
                </a:lnTo>
                <a:lnTo>
                  <a:pt x="18437" y="3163"/>
                </a:lnTo>
                <a:lnTo>
                  <a:pt x="12617" y="6520"/>
                </a:lnTo>
                <a:lnTo>
                  <a:pt x="10800" y="0"/>
                </a:lnTo>
                <a:lnTo>
                  <a:pt x="9058" y="6489"/>
                </a:lnTo>
                <a:lnTo>
                  <a:pt x="3163" y="3163"/>
                </a:lnTo>
                <a:lnTo>
                  <a:pt x="6520" y="898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143000" y="3962520"/>
            <a:ext cx="609480" cy="609480"/>
          </a:xfrm>
          <a:custGeom>
            <a:avLst/>
            <a:gdLst>
              <a:gd name="textAreaLeft" fmla="*/ 212040 w 609480"/>
              <a:gd name="textAreaRight" fmla="*/ 397440 w 609480"/>
              <a:gd name="textAreaTop" fmla="*/ 212040 h 609480"/>
              <a:gd name="textAreaBottom" fmla="*/ 3974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9" y="12542"/>
                </a:lnTo>
                <a:lnTo>
                  <a:pt x="3163" y="18437"/>
                </a:lnTo>
                <a:lnTo>
                  <a:pt x="8983" y="15080"/>
                </a:lnTo>
                <a:lnTo>
                  <a:pt x="10800" y="21600"/>
                </a:lnTo>
                <a:lnTo>
                  <a:pt x="12542" y="15111"/>
                </a:lnTo>
                <a:lnTo>
                  <a:pt x="18437" y="18437"/>
                </a:lnTo>
                <a:lnTo>
                  <a:pt x="15080" y="12617"/>
                </a:lnTo>
                <a:lnTo>
                  <a:pt x="21600" y="10800"/>
                </a:lnTo>
                <a:lnTo>
                  <a:pt x="15111" y="9058"/>
                </a:lnTo>
                <a:lnTo>
                  <a:pt x="18437" y="3163"/>
                </a:lnTo>
                <a:lnTo>
                  <a:pt x="12617" y="6520"/>
                </a:lnTo>
                <a:lnTo>
                  <a:pt x="10800" y="0"/>
                </a:lnTo>
                <a:lnTo>
                  <a:pt x="9058" y="6489"/>
                </a:lnTo>
                <a:lnTo>
                  <a:pt x="3163" y="3163"/>
                </a:lnTo>
                <a:lnTo>
                  <a:pt x="6520" y="898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96080" y="1447920"/>
            <a:ext cx="457200" cy="457200"/>
          </a:xfrm>
          <a:custGeom>
            <a:avLst/>
            <a:gdLst>
              <a:gd name="textAreaLeft" fmla="*/ 159120 w 457200"/>
              <a:gd name="textAreaRight" fmla="*/ 298080 w 457200"/>
              <a:gd name="textAreaTop" fmla="*/ 159120 h 457200"/>
              <a:gd name="textAreaBottom" fmla="*/ 298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9" y="12542"/>
                </a:lnTo>
                <a:lnTo>
                  <a:pt x="3163" y="18437"/>
                </a:lnTo>
                <a:lnTo>
                  <a:pt x="8983" y="15080"/>
                </a:lnTo>
                <a:lnTo>
                  <a:pt x="10800" y="21600"/>
                </a:lnTo>
                <a:lnTo>
                  <a:pt x="12542" y="15111"/>
                </a:lnTo>
                <a:lnTo>
                  <a:pt x="18437" y="18437"/>
                </a:lnTo>
                <a:lnTo>
                  <a:pt x="15080" y="12617"/>
                </a:lnTo>
                <a:lnTo>
                  <a:pt x="21600" y="10800"/>
                </a:lnTo>
                <a:lnTo>
                  <a:pt x="15111" y="9058"/>
                </a:lnTo>
                <a:lnTo>
                  <a:pt x="18437" y="3163"/>
                </a:lnTo>
                <a:lnTo>
                  <a:pt x="12617" y="6520"/>
                </a:lnTo>
                <a:lnTo>
                  <a:pt x="10800" y="0"/>
                </a:lnTo>
                <a:lnTo>
                  <a:pt x="9058" y="6489"/>
                </a:lnTo>
                <a:lnTo>
                  <a:pt x="3163" y="3163"/>
                </a:lnTo>
                <a:lnTo>
                  <a:pt x="6520" y="898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4724280"/>
            <a:ext cx="9144000" cy="1905120"/>
          </a:xfrm>
          <a:prstGeom prst="rightArrow">
            <a:avLst>
              <a:gd name="adj1" fmla="val 50000"/>
              <a:gd name="adj2" fmla="val 1199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picked it up when I was cruising through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GALACTIC LUTHERAN CHUR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-3429000" y="304920"/>
            <a:ext cx="3200400" cy="3276360"/>
            <a:chOff x="-3429000" y="304920"/>
            <a:chExt cx="3200400" cy="3276360"/>
          </a:xfrm>
        </p:grpSpPr>
        <p:grpSp>
          <p:nvGrpSpPr>
            <p:cNvPr id="654" name=""/>
            <p:cNvGrpSpPr/>
            <p:nvPr/>
          </p:nvGrpSpPr>
          <p:grpSpPr>
            <a:xfrm>
              <a:off x="-2791440" y="304920"/>
              <a:ext cx="1824120" cy="3200400"/>
              <a:chOff x="-2791440" y="304920"/>
              <a:chExt cx="1824120" cy="320040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-2791440" y="304920"/>
                <a:ext cx="1824120" cy="3200400"/>
                <a:chOff x="-2791440" y="304920"/>
                <a:chExt cx="1824120" cy="320040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-2666880" y="304920"/>
                  <a:ext cx="1600200" cy="20574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rot="19351800">
                  <a:off x="-2590560" y="1143000"/>
                  <a:ext cx="527040" cy="838080"/>
                </a:xfrm>
                <a:prstGeom prst="ellips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rot="1925400">
                  <a:off x="-1676520" y="1143000"/>
                  <a:ext cx="527040" cy="838080"/>
                </a:xfrm>
                <a:prstGeom prst="ellips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-2362320" y="2590920"/>
                  <a:ext cx="990720" cy="9144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>
                  <a:off x="-1905120" y="2209680"/>
                  <a:ext cx="76320" cy="533520"/>
                </a:xfrm>
                <a:prstGeom prst="line">
                  <a:avLst/>
                </a:prstGeom>
                <a:ln w="1620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 rot="16200000">
                <a:off x="-1965600" y="1813320"/>
                <a:ext cx="328680" cy="66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5035" y="1520"/>
                      <a:pt x="8470" y="5080"/>
                      <a:pt x="8470" y="10800"/>
                    </a:cubicBezTo>
                    <a:cubicBezTo>
                      <a:pt x="8470" y="16520"/>
                      <a:pt x="15035" y="2008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-3429000" y="2743200"/>
              <a:ext cx="3200400" cy="83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5 -0.07222 C 0.15833 0.02014 0.49132 0.1125 0.52552 0.17778 C 0.5599 0.24352 -0.04497 0.24584 0.03108 0.32084 C 0.10677 0.3963 0.73611 0.57107 0.98038 0.6301 C 1.22483 0.68843 1.45226 0.61158 1.49688 0.67223 C 1.54167 0.73287 1.39479 0.86343 1.24792 0.99445 E">
                                      <p:cBhvr>
                                        <p:cTn id="293" dur="5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" autoRev="1" fill="hold"/>
                                        <p:tgtEl>
                                          <p:spTgt spid="6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250" autoRev="1" fill="hold"/>
                                        <p:tgtEl>
                                          <p:spTgt spid="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6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250" autoRev="1" fill="hold"/>
                                        <p:tgtEl>
                                          <p:spTgt spid="6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250" autoRev="1" fill="hold"/>
                                        <p:tgtEl>
                                          <p:spTgt spid="6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250" autoRev="1" fill="hold"/>
                                        <p:tgtEl>
                                          <p:spTgt spid="6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250" autoRev="1" fill="hold"/>
                                        <p:tgtEl>
                                          <p:spTgt spid="6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250" autoRev="1" fill="hold"/>
                                        <p:tgtEl>
                                          <p:spTgt spid="6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250" autoRev="1" fill="hold"/>
                                        <p:tgtEl>
                                          <p:spTgt spid="6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250" autoRev="1" fill="hold"/>
                                        <p:tgtEl>
                                          <p:spTgt spid="6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250" autoRev="1" fill="hold"/>
                                        <p:tgtEl>
                                          <p:spTgt spid="6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250" autoRev="1" fill="hold"/>
                                        <p:tgtEl>
                                          <p:spTgt spid="6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250" autoRev="1" fill="hold"/>
                                        <p:tgtEl>
                                          <p:spTgt spid="6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250" autoRev="1" fill="hold"/>
                                        <p:tgtEl>
                                          <p:spTgt spid="6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250" autoRev="1" fill="hold"/>
                                        <p:tgtEl>
                                          <p:spTgt spid="6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250" autoRev="1" fill="hold"/>
                                        <p:tgtEl>
                                          <p:spTgt spid="6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250" autoRev="1" fill="hold"/>
                                        <p:tgtEl>
                                          <p:spTgt spid="6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6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6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250" autoRev="1" fill="hold"/>
                                        <p:tgtEl>
                                          <p:spTgt spid="6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9" dur="250" autoRev="1" fill="hold"/>
                                        <p:tgtEl>
                                          <p:spTgt spid="6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250" autoRev="1" fill="hold"/>
                                        <p:tgtEl>
                                          <p:spTgt spid="6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250" autoRev="1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6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250" autoRev="1" fill="hold"/>
                                        <p:tgtEl>
                                          <p:spTgt spid="6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7" dur="25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250" autoRev="1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25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250" autoRev="1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250" autoRev="1" fill="hold"/>
                                        <p:tgtEl>
                                          <p:spTgt spid="6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250" autoRev="1" fill="hold"/>
                                        <p:tgtEl>
                                          <p:spTgt spid="6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000"/>
                            </p:stCondLst>
                            <p:childTnLst>
                              <p:par>
                                <p:cTn id="3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11480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40384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243828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27432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27432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2339280" y="2613960"/>
            <a:ext cx="404640" cy="1272960"/>
          </a:xfrm>
          <a:custGeom>
            <a:avLst/>
            <a:gdLst>
              <a:gd name="textAreaLeft" fmla="*/ 149400 w 404640"/>
              <a:gd name="textAreaRight" fmla="*/ 273600 w 404640"/>
              <a:gd name="textAreaTop" fmla="*/ 142560 h 1272960"/>
              <a:gd name="textAreaBottom" fmla="*/ 1130400 h 127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03" y="2620"/>
                  <a:pt x="14606" y="5080"/>
                  <a:pt x="14606" y="10800"/>
                </a:cubicBezTo>
                <a:cubicBezTo>
                  <a:pt x="14606" y="16520"/>
                  <a:pt x="18103" y="189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133360" y="1600200"/>
            <a:ext cx="5331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228600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297180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657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65760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6187320" y="4099320"/>
            <a:ext cx="32868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4648320"/>
            <a:ext cx="9144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9534600">
            <a:off x="5638320" y="266688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1531400">
            <a:off x="5943240" y="266652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3149000">
            <a:off x="6095520" y="259020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4453400">
            <a:off x="6324480" y="259020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54100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4952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47242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28600"/>
            <a:ext cx="2971800" cy="1905120"/>
          </a:xfrm>
          <a:prstGeom prst="wedgeEllipseCallout">
            <a:avLst>
              <a:gd name="adj1" fmla="val -41666"/>
              <a:gd name="adj2" fmla="val 10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play a little Copy C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838080"/>
            <a:ext cx="2971800" cy="1905120"/>
          </a:xfrm>
          <a:prstGeom prst="wedgeEllipseCallout">
            <a:avLst>
              <a:gd name="adj1" fmla="val -16027"/>
              <a:gd name="adj2" fmla="val 764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! You take the lea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53080" y="31240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16200000">
            <a:off x="6324480" y="3962160"/>
            <a:ext cx="381240" cy="14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34" y="3098"/>
                  <a:pt x="17268" y="5080"/>
                  <a:pt x="17268" y="10800"/>
                </a:cubicBezTo>
                <a:cubicBezTo>
                  <a:pt x="17268" y="16520"/>
                  <a:pt x="19434" y="1850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438280" y="1600200"/>
            <a:ext cx="2362320" cy="1219320"/>
          </a:xfrm>
          <a:prstGeom prst="wedgeEllipseCallout">
            <a:avLst>
              <a:gd name="adj1" fmla="val 52152"/>
              <a:gd name="adj2" fmla="val 114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257800" y="3048120"/>
            <a:ext cx="30492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6400800" y="2404080"/>
            <a:ext cx="2438280" cy="3729960"/>
            <a:chOff x="6400800" y="2404080"/>
            <a:chExt cx="2438280" cy="3729960"/>
          </a:xfrm>
        </p:grpSpPr>
        <p:sp>
          <p:nvSpPr>
            <p:cNvPr id="680" name=""/>
            <p:cNvSpPr/>
            <p:nvPr/>
          </p:nvSpPr>
          <p:spPr>
            <a:xfrm>
              <a:off x="6781680" y="2933640"/>
              <a:ext cx="1676520" cy="167652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86600" y="361944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96080" y="3619440"/>
              <a:ext cx="53352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72400" y="3695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62560" y="36957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62560" y="4610160"/>
              <a:ext cx="91440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9534600">
              <a:off x="6933600" y="262872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1531400">
              <a:off x="7238520" y="262836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3149000">
              <a:off x="7390800" y="2552040"/>
              <a:ext cx="685800" cy="60948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4453400">
              <a:off x="7619760" y="255204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62560" y="5371920"/>
              <a:ext cx="91440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8000" y="613404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772400" y="613404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00800" y="445752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81880" y="491472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72400" y="4228920"/>
              <a:ext cx="304560" cy="2286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1219320" y="152280"/>
            <a:ext cx="3504960" cy="1447920"/>
          </a:xfrm>
          <a:prstGeom prst="wedgeEllipseCallout">
            <a:avLst>
              <a:gd name="adj1" fmla="val 18388"/>
              <a:gd name="adj2" fmla="val 869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 way! Remember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85800" y="1828800"/>
            <a:ext cx="2297160" cy="4542120"/>
            <a:chOff x="685800" y="1828800"/>
            <a:chExt cx="2297160" cy="4542120"/>
          </a:xfrm>
        </p:grpSpPr>
        <p:sp>
          <p:nvSpPr>
            <p:cNvPr id="699" name=""/>
            <p:cNvSpPr/>
            <p:nvPr/>
          </p:nvSpPr>
          <p:spPr>
            <a:xfrm>
              <a:off x="2361960" y="3733560"/>
              <a:ext cx="381240" cy="3524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685800" y="1828800"/>
              <a:ext cx="2297160" cy="4542120"/>
              <a:chOff x="685800" y="1828800"/>
              <a:chExt cx="2297160" cy="454212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685800" y="1828800"/>
                <a:ext cx="1927800" cy="4542120"/>
                <a:chOff x="685800" y="1828800"/>
                <a:chExt cx="1927800" cy="454212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789480" y="1828800"/>
                  <a:ext cx="1824120" cy="4542120"/>
                  <a:chOff x="789480" y="1828800"/>
                  <a:chExt cx="1824120" cy="4542120"/>
                </a:xfrm>
              </p:grpSpPr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789480" y="1828800"/>
                    <a:ext cx="1824120" cy="4542120"/>
                    <a:chOff x="789480" y="1828800"/>
                    <a:chExt cx="1824120" cy="4542120"/>
                  </a:xfrm>
                </p:grpSpPr>
                <p:grpSp>
                  <p:nvGrpSpPr>
                    <p:cNvPr id="704" name=""/>
                    <p:cNvGrpSpPr/>
                    <p:nvPr/>
                  </p:nvGrpSpPr>
                  <p:grpSpPr>
                    <a:xfrm>
                      <a:off x="789480" y="1828800"/>
                      <a:ext cx="1824120" cy="3199680"/>
                      <a:chOff x="789480" y="1828800"/>
                      <a:chExt cx="1824120" cy="3199680"/>
                    </a:xfrm>
                  </p:grpSpPr>
                  <p:sp>
                    <p:nvSpPr>
                      <p:cNvPr id="705" name=""/>
                      <p:cNvSpPr/>
                      <p:nvPr/>
                    </p:nvSpPr>
                    <p:spPr>
                      <a:xfrm>
                        <a:off x="914040" y="1828800"/>
                        <a:ext cx="1600200" cy="205704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6" name=""/>
                      <p:cNvSpPr/>
                      <p:nvPr/>
                    </p:nvSpPr>
                    <p:spPr>
                      <a:xfrm rot="19351800">
                        <a:off x="989640" y="2666160"/>
                        <a:ext cx="527040" cy="837720"/>
                      </a:xfrm>
                      <a:prstGeom prst="ellipse">
                        <a:avLst/>
                      </a:prstGeom>
                      <a:solidFill>
                        <a:srgbClr val="3333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7" name=""/>
                      <p:cNvSpPr/>
                      <p:nvPr/>
                    </p:nvSpPr>
                    <p:spPr>
                      <a:xfrm rot="1925400">
                        <a:off x="1904400" y="2666520"/>
                        <a:ext cx="527040" cy="837720"/>
                      </a:xfrm>
                      <a:prstGeom prst="ellipse">
                        <a:avLst/>
                      </a:prstGeom>
                      <a:solidFill>
                        <a:srgbClr val="3333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>
                        <a:off x="1218600" y="4114440"/>
                        <a:ext cx="990720" cy="91404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9" name=""/>
                      <p:cNvSpPr/>
                      <p:nvPr/>
                    </p:nvSpPr>
                    <p:spPr>
                      <a:xfrm flipH="1">
                        <a:off x="1675800" y="3733200"/>
                        <a:ext cx="76320" cy="533160"/>
                      </a:xfrm>
                      <a:prstGeom prst="line">
                        <a:avLst/>
                      </a:prstGeom>
                      <a:ln w="1620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0" name=""/>
                    <p:cNvGrpSpPr/>
                    <p:nvPr/>
                  </p:nvGrpSpPr>
                  <p:grpSpPr>
                    <a:xfrm>
                      <a:off x="838080" y="4876560"/>
                      <a:ext cx="1752480" cy="1494360"/>
                      <a:chOff x="838080" y="4876560"/>
                      <a:chExt cx="1752480" cy="1494360"/>
                    </a:xfrm>
                  </p:grpSpPr>
                  <p:grpSp>
                    <p:nvGrpSpPr>
                      <p:cNvPr id="711" name=""/>
                      <p:cNvGrpSpPr/>
                      <p:nvPr/>
                    </p:nvGrpSpPr>
                    <p:grpSpPr>
                      <a:xfrm>
                        <a:off x="838080" y="5562000"/>
                        <a:ext cx="1752480" cy="808920"/>
                        <a:chOff x="838080" y="5562000"/>
                        <a:chExt cx="1752480" cy="808920"/>
                      </a:xfrm>
                    </p:grpSpPr>
                    <p:sp>
                      <p:nvSpPr>
                        <p:cNvPr id="712" name=""/>
                        <p:cNvSpPr/>
                        <p:nvPr/>
                      </p:nvSpPr>
                      <p:spPr>
                        <a:xfrm>
                          <a:off x="1523880" y="594252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3" name=""/>
                        <p:cNvSpPr/>
                        <p:nvPr/>
                      </p:nvSpPr>
                      <p:spPr>
                        <a:xfrm>
                          <a:off x="2209680" y="571392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4" name=""/>
                        <p:cNvSpPr/>
                        <p:nvPr/>
                      </p:nvSpPr>
                      <p:spPr>
                        <a:xfrm>
                          <a:off x="1523880" y="556200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5" name=""/>
                        <p:cNvSpPr/>
                        <p:nvPr/>
                      </p:nvSpPr>
                      <p:spPr>
                        <a:xfrm>
                          <a:off x="838080" y="579024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6" name=""/>
                        <p:cNvSpPr/>
                        <p:nvPr/>
                      </p:nvSpPr>
                      <p:spPr>
                        <a:xfrm>
                          <a:off x="1981080" y="601884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17" name=""/>
                      <p:cNvGrpSpPr/>
                      <p:nvPr/>
                    </p:nvGrpSpPr>
                    <p:grpSpPr>
                      <a:xfrm>
                        <a:off x="988920" y="4876560"/>
                        <a:ext cx="1438200" cy="1226160"/>
                        <a:chOff x="988920" y="4876560"/>
                        <a:chExt cx="1438200" cy="1226160"/>
                      </a:xfrm>
                    </p:grpSpPr>
                    <p:sp>
                      <p:nvSpPr>
                        <p:cNvPr id="718" name=""/>
                        <p:cNvSpPr/>
                        <p:nvPr/>
                      </p:nvSpPr>
                      <p:spPr>
                        <a:xfrm>
                          <a:off x="1977840" y="4898160"/>
                          <a:ext cx="449280" cy="90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3" h="569">
                              <a:moveTo>
                                <a:pt x="0" y="0"/>
                              </a:moveTo>
                              <a:cubicBezTo>
                                <a:pt x="46" y="70"/>
                                <a:pt x="59" y="71"/>
                                <a:pt x="128" y="119"/>
                              </a:cubicBezTo>
                              <a:cubicBezTo>
                                <a:pt x="146" y="132"/>
                                <a:pt x="183" y="155"/>
                                <a:pt x="183" y="155"/>
                              </a:cubicBezTo>
                              <a:cubicBezTo>
                                <a:pt x="233" y="231"/>
                                <a:pt x="209" y="216"/>
                                <a:pt x="237" y="301"/>
                              </a:cubicBezTo>
                              <a:cubicBezTo>
                                <a:pt x="248" y="383"/>
                                <a:pt x="245" y="466"/>
                                <a:pt x="256" y="548"/>
                              </a:cubicBezTo>
                              <a:cubicBezTo>
                                <a:pt x="259" y="569"/>
                                <a:pt x="271" y="567"/>
                                <a:pt x="283" y="567"/>
                              </a:cubicBezTo>
                            </a:path>
                          </a:pathLst>
                        </a:custGeom>
                        <a:noFill/>
                        <a:ln w="76320">
                          <a:solidFill>
                            <a:srgbClr val="00f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19" name=""/>
                        <p:cNvGrpSpPr/>
                        <p:nvPr/>
                      </p:nvGrpSpPr>
                      <p:grpSpPr>
                        <a:xfrm>
                          <a:off x="988920" y="4876560"/>
                          <a:ext cx="1230120" cy="1226160"/>
                          <a:chOff x="988920" y="4876560"/>
                          <a:chExt cx="1230120" cy="1226160"/>
                        </a:xfrm>
                      </p:grpSpPr>
                      <p:sp>
                        <p:nvSpPr>
                          <p:cNvPr id="720" name=""/>
                          <p:cNvSpPr/>
                          <p:nvPr/>
                        </p:nvSpPr>
                        <p:spPr>
                          <a:xfrm>
                            <a:off x="988920" y="4955400"/>
                            <a:ext cx="480960" cy="842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3" h="531">
                                <a:moveTo>
                                  <a:pt x="303" y="0"/>
                                </a:moveTo>
                                <a:cubicBezTo>
                                  <a:pt x="294" y="12"/>
                                  <a:pt x="247" y="89"/>
                                  <a:pt x="220" y="101"/>
                                </a:cubicBezTo>
                                <a:cubicBezTo>
                                  <a:pt x="160" y="127"/>
                                  <a:pt x="84" y="133"/>
                                  <a:pt x="19" y="147"/>
                                </a:cubicBezTo>
                                <a:cubicBezTo>
                                  <a:pt x="0" y="205"/>
                                  <a:pt x="13" y="263"/>
                                  <a:pt x="47" y="311"/>
                                </a:cubicBezTo>
                                <a:cubicBezTo>
                                  <a:pt x="61" y="370"/>
                                  <a:pt x="67" y="380"/>
                                  <a:pt x="56" y="448"/>
                                </a:cubicBezTo>
                                <a:cubicBezTo>
                                  <a:pt x="51" y="481"/>
                                  <a:pt x="33" y="500"/>
                                  <a:pt x="47" y="531"/>
                                </a:cubicBezTo>
                              </a:path>
                            </a:pathLst>
                          </a:custGeom>
                          <a:noFill/>
                          <a:ln w="76320">
                            <a:solidFill>
                              <a:srgbClr val="00f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1" name=""/>
                          <p:cNvSpPr/>
                          <p:nvPr/>
                        </p:nvSpPr>
                        <p:spPr>
                          <a:xfrm>
                            <a:off x="1447560" y="4876560"/>
                            <a:ext cx="631800" cy="114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1" h="384">
                                <a:moveTo>
                                  <a:pt x="289" y="384"/>
                                </a:moveTo>
                                <a:cubicBezTo>
                                  <a:pt x="333" y="369"/>
                                  <a:pt x="426" y="357"/>
                                  <a:pt x="426" y="357"/>
                                </a:cubicBezTo>
                                <a:cubicBezTo>
                                  <a:pt x="462" y="332"/>
                                  <a:pt x="470" y="327"/>
                                  <a:pt x="481" y="284"/>
                                </a:cubicBezTo>
                                <a:cubicBezTo>
                                  <a:pt x="475" y="258"/>
                                  <a:pt x="473" y="187"/>
                                  <a:pt x="444" y="174"/>
                                </a:cubicBezTo>
                                <a:cubicBezTo>
                                  <a:pt x="402" y="155"/>
                                  <a:pt x="353" y="162"/>
                                  <a:pt x="307" y="156"/>
                                </a:cubicBezTo>
                                <a:cubicBezTo>
                                  <a:pt x="222" y="145"/>
                                  <a:pt x="136" y="139"/>
                                  <a:pt x="51" y="128"/>
                                </a:cubicBezTo>
                                <a:cubicBezTo>
                                  <a:pt x="0" y="94"/>
                                  <a:pt x="15" y="67"/>
                                  <a:pt x="60" y="37"/>
                                </a:cubicBezTo>
                                <a:cubicBezTo>
                                  <a:pt x="124" y="40"/>
                                  <a:pt x="188" y="41"/>
                                  <a:pt x="252" y="46"/>
                                </a:cubicBezTo>
                                <a:cubicBezTo>
                                  <a:pt x="262" y="47"/>
                                  <a:pt x="273" y="62"/>
                                  <a:pt x="280" y="55"/>
                                </a:cubicBezTo>
                                <a:cubicBezTo>
                                  <a:pt x="294" y="41"/>
                                  <a:pt x="298" y="0"/>
                                  <a:pt x="298" y="0"/>
                                </a:cubicBezTo>
                                <a:cubicBezTo>
                                  <a:pt x="304" y="9"/>
                                  <a:pt x="316" y="28"/>
                                  <a:pt x="316" y="28"/>
                                </a:cubicBezTo>
                              </a:path>
                            </a:pathLst>
                          </a:custGeom>
                          <a:noFill/>
                          <a:ln w="76320">
                            <a:solidFill>
                              <a:srgbClr val="00f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2" name=""/>
                          <p:cNvSpPr/>
                          <p:nvPr/>
                        </p:nvSpPr>
                        <p:spPr>
                          <a:xfrm>
                            <a:off x="1526760" y="4912560"/>
                            <a:ext cx="233640" cy="696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7" h="439">
                                <a:moveTo>
                                  <a:pt x="147" y="439"/>
                                </a:moveTo>
                                <a:cubicBezTo>
                                  <a:pt x="104" y="425"/>
                                  <a:pt x="61" y="416"/>
                                  <a:pt x="19" y="402"/>
                                </a:cubicBezTo>
                                <a:cubicBezTo>
                                  <a:pt x="0" y="350"/>
                                  <a:pt x="7" y="327"/>
                                  <a:pt x="55" y="311"/>
                                </a:cubicBezTo>
                                <a:cubicBezTo>
                                  <a:pt x="72" y="284"/>
                                  <a:pt x="92" y="264"/>
                                  <a:pt x="110" y="238"/>
                                </a:cubicBezTo>
                                <a:cubicBezTo>
                                  <a:pt x="128" y="164"/>
                                  <a:pt x="124" y="198"/>
                                  <a:pt x="110" y="73"/>
                                </a:cubicBezTo>
                                <a:cubicBezTo>
                                  <a:pt x="107" y="48"/>
                                  <a:pt x="92" y="25"/>
                                  <a:pt x="92" y="0"/>
                                </a:cubicBezTo>
                              </a:path>
                            </a:pathLst>
                          </a:custGeom>
                          <a:noFill/>
                          <a:ln w="76320">
                            <a:solidFill>
                              <a:srgbClr val="00f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3" name=""/>
                          <p:cNvSpPr/>
                          <p:nvPr/>
                        </p:nvSpPr>
                        <p:spPr>
                          <a:xfrm>
                            <a:off x="1803240" y="4884120"/>
                            <a:ext cx="415800" cy="1218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2" h="768">
                                <a:moveTo>
                                  <a:pt x="201" y="768"/>
                                </a:moveTo>
                                <a:cubicBezTo>
                                  <a:pt x="208" y="694"/>
                                  <a:pt x="214" y="610"/>
                                  <a:pt x="238" y="539"/>
                                </a:cubicBezTo>
                                <a:cubicBezTo>
                                  <a:pt x="249" y="447"/>
                                  <a:pt x="262" y="314"/>
                                  <a:pt x="174" y="256"/>
                                </a:cubicBezTo>
                                <a:cubicBezTo>
                                  <a:pt x="160" y="213"/>
                                  <a:pt x="147" y="226"/>
                                  <a:pt x="110" y="201"/>
                                </a:cubicBezTo>
                                <a:cubicBezTo>
                                  <a:pt x="93" y="147"/>
                                  <a:pt x="93" y="139"/>
                                  <a:pt x="37" y="118"/>
                                </a:cubicBezTo>
                                <a:cubicBezTo>
                                  <a:pt x="0" y="83"/>
                                  <a:pt x="0" y="46"/>
                                  <a:pt x="0" y="0"/>
                                </a:cubicBezTo>
                              </a:path>
                            </a:pathLst>
                          </a:custGeom>
                          <a:noFill/>
                          <a:ln w="76320">
                            <a:solidFill>
                              <a:srgbClr val="00f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sp>
                <p:nvSpPr>
                  <p:cNvPr id="724" name=""/>
                  <p:cNvSpPr/>
                  <p:nvPr/>
                </p:nvSpPr>
                <p:spPr>
                  <a:xfrm rot="16200000">
                    <a:off x="1614960" y="3336840"/>
                    <a:ext cx="328680" cy="66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5035" y="1520"/>
                          <a:pt x="8470" y="5080"/>
                          <a:pt x="8470" y="10800"/>
                        </a:cubicBezTo>
                        <a:cubicBezTo>
                          <a:pt x="8470" y="16520"/>
                          <a:pt x="15035" y="20080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5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" name=""/>
                <p:cNvGrpSpPr/>
                <p:nvPr/>
              </p:nvGrpSpPr>
              <p:grpSpPr>
                <a:xfrm>
                  <a:off x="685800" y="4010040"/>
                  <a:ext cx="1846080" cy="838080"/>
                  <a:chOff x="685800" y="4010040"/>
                  <a:chExt cx="1846080" cy="83808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>
                    <a:off x="685800" y="4495680"/>
                    <a:ext cx="380880" cy="352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2068560" y="4010040"/>
                    <a:ext cx="46332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292">
                        <a:moveTo>
                          <a:pt x="0" y="283"/>
                        </a:moveTo>
                        <a:cubicBezTo>
                          <a:pt x="62" y="292"/>
                          <a:pt x="87" y="286"/>
                          <a:pt x="146" y="274"/>
                        </a:cubicBezTo>
                        <a:cubicBezTo>
                          <a:pt x="175" y="255"/>
                          <a:pt x="217" y="229"/>
                          <a:pt x="238" y="201"/>
                        </a:cubicBezTo>
                        <a:cubicBezTo>
                          <a:pt x="251" y="183"/>
                          <a:pt x="274" y="146"/>
                          <a:pt x="274" y="146"/>
                        </a:cubicBezTo>
                        <a:cubicBezTo>
                          <a:pt x="292" y="74"/>
                          <a:pt x="283" y="122"/>
                          <a:pt x="283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892080" y="4300560"/>
                    <a:ext cx="493560" cy="28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82">
                        <a:moveTo>
                          <a:pt x="311" y="27"/>
                        </a:moveTo>
                        <a:cubicBezTo>
                          <a:pt x="261" y="10"/>
                          <a:pt x="208" y="8"/>
                          <a:pt x="156" y="0"/>
                        </a:cubicBezTo>
                        <a:cubicBezTo>
                          <a:pt x="109" y="8"/>
                          <a:pt x="84" y="10"/>
                          <a:pt x="46" y="36"/>
                        </a:cubicBezTo>
                        <a:cubicBezTo>
                          <a:pt x="17" y="81"/>
                          <a:pt x="0" y="129"/>
                          <a:pt x="0" y="182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9" name=""/>
              <p:cNvSpPr/>
              <p:nvPr/>
            </p:nvSpPr>
            <p:spPr>
              <a:xfrm>
                <a:off x="2543040" y="3166920"/>
                <a:ext cx="439920" cy="741240"/>
              </a:xfrm>
              <a:custGeom>
                <a:avLst/>
                <a:gdLst/>
                <a:ahLst/>
                <a:rect l="l" t="t" r="r" b="b"/>
                <a:pathLst>
                  <a:path w="277" h="467">
                    <a:moveTo>
                      <a:pt x="21" y="0"/>
                    </a:moveTo>
                    <a:cubicBezTo>
                      <a:pt x="19" y="60"/>
                      <a:pt x="0" y="360"/>
                      <a:pt x="21" y="430"/>
                    </a:cubicBezTo>
                    <a:cubicBezTo>
                      <a:pt x="24" y="441"/>
                      <a:pt x="138" y="464"/>
                      <a:pt x="149" y="467"/>
                    </a:cubicBezTo>
                    <a:cubicBezTo>
                      <a:pt x="215" y="451"/>
                      <a:pt x="173" y="458"/>
                      <a:pt x="277" y="458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0" name=""/>
          <p:cNvGrpSpPr/>
          <p:nvPr/>
        </p:nvGrpSpPr>
        <p:grpSpPr>
          <a:xfrm>
            <a:off x="3124080" y="1371600"/>
            <a:ext cx="3370680" cy="4800600"/>
            <a:chOff x="3124080" y="1371600"/>
            <a:chExt cx="3370680" cy="4800600"/>
          </a:xfrm>
        </p:grpSpPr>
        <p:grpSp>
          <p:nvGrpSpPr>
            <p:cNvPr id="731" name=""/>
            <p:cNvGrpSpPr/>
            <p:nvPr/>
          </p:nvGrpSpPr>
          <p:grpSpPr>
            <a:xfrm>
              <a:off x="3124080" y="1371600"/>
              <a:ext cx="3370680" cy="4800600"/>
              <a:chOff x="3124080" y="1371600"/>
              <a:chExt cx="3370680" cy="4800600"/>
            </a:xfrm>
          </p:grpSpPr>
          <p:sp>
            <p:nvSpPr>
              <p:cNvPr id="732" name=""/>
              <p:cNvSpPr/>
              <p:nvPr/>
            </p:nvSpPr>
            <p:spPr>
              <a:xfrm>
                <a:off x="3885840" y="1523880"/>
                <a:ext cx="2057400" cy="2057400"/>
              </a:xfrm>
              <a:prstGeom prst="ellipse">
                <a:avLst/>
              </a:prstGeom>
              <a:solidFill>
                <a:srgbClr val="ffd5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3" name=""/>
              <p:cNvGrpSpPr/>
              <p:nvPr/>
            </p:nvGrpSpPr>
            <p:grpSpPr>
              <a:xfrm>
                <a:off x="3124080" y="1371600"/>
                <a:ext cx="3370680" cy="4800600"/>
                <a:chOff x="3124080" y="1371600"/>
                <a:chExt cx="3370680" cy="480060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4190760" y="4572000"/>
                  <a:ext cx="1523880" cy="533520"/>
                </a:xfrm>
                <a:prstGeom prst="rect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190760" y="3581280"/>
                  <a:ext cx="1523880" cy="990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343040" y="4952880"/>
                  <a:ext cx="0" cy="990720"/>
                </a:xfrm>
                <a:prstGeom prst="line">
                  <a:avLst/>
                </a:prstGeom>
                <a:ln w="28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562360" y="4876920"/>
                  <a:ext cx="0" cy="990360"/>
                </a:xfrm>
                <a:prstGeom prst="line">
                  <a:avLst/>
                </a:prstGeom>
                <a:ln w="28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885840" y="6172200"/>
                  <a:ext cx="609840" cy="0"/>
                </a:xfrm>
                <a:prstGeom prst="line">
                  <a:avLst/>
                </a:prstGeom>
                <a:ln w="28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5410080" y="6172200"/>
                  <a:ext cx="609480" cy="0"/>
                </a:xfrm>
                <a:prstGeom prst="line">
                  <a:avLst/>
                </a:prstGeom>
                <a:ln w="28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267080" y="2438280"/>
                  <a:ext cx="533160" cy="533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105160" y="259092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343040" y="2590920"/>
                  <a:ext cx="152640" cy="152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 flipV="1">
                  <a:off x="4495320" y="1600200"/>
                  <a:ext cx="53316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H="1" flipV="1">
                  <a:off x="4647960" y="1371600"/>
                  <a:ext cx="457200" cy="45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124080" y="4038480"/>
                  <a:ext cx="527040" cy="507960"/>
                </a:xfrm>
                <a:prstGeom prst="ellipse">
                  <a:avLst/>
                </a:prstGeom>
                <a:solidFill>
                  <a:srgbClr val="ffd5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rot="21314400">
                  <a:off x="6019200" y="4038120"/>
                  <a:ext cx="457200" cy="457200"/>
                </a:xfrm>
                <a:prstGeom prst="ellipse">
                  <a:avLst/>
                </a:prstGeom>
                <a:solidFill>
                  <a:srgbClr val="ffd5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571640" y="3200400"/>
                  <a:ext cx="762120" cy="228600"/>
                </a:xfrm>
                <a:prstGeom prst="ellipse">
                  <a:avLst/>
                </a:prstGeom>
                <a:solidFill>
                  <a:srgbClr val="ff5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8" name=""/>
            <p:cNvSpPr/>
            <p:nvPr/>
          </p:nvSpPr>
          <p:spPr>
            <a:xfrm>
              <a:off x="4952880" y="24382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28840" y="2590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400800" y="2404080"/>
            <a:ext cx="2438280" cy="3729960"/>
            <a:chOff x="6400800" y="2404080"/>
            <a:chExt cx="2438280" cy="3729960"/>
          </a:xfrm>
        </p:grpSpPr>
        <p:sp>
          <p:nvSpPr>
            <p:cNvPr id="754" name=""/>
            <p:cNvSpPr/>
            <p:nvPr/>
          </p:nvSpPr>
          <p:spPr>
            <a:xfrm>
              <a:off x="6781680" y="2933640"/>
              <a:ext cx="1676520" cy="167652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086600" y="361944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696080" y="3619440"/>
              <a:ext cx="53352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772400" y="3695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2560" y="36957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62560" y="4610160"/>
              <a:ext cx="91440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9534600">
              <a:off x="6933600" y="262872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531400">
              <a:off x="7238520" y="262836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3149000">
              <a:off x="7390800" y="2552040"/>
              <a:ext cx="685800" cy="60948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4453400">
              <a:off x="7619760" y="255204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162560" y="5371920"/>
              <a:ext cx="91440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58000" y="613404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613404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400800" y="445752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381880" y="491472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72400" y="4228920"/>
              <a:ext cx="304560" cy="2286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685800" y="1828800"/>
            <a:ext cx="2297160" cy="4542120"/>
            <a:chOff x="685800" y="1828800"/>
            <a:chExt cx="2297160" cy="4542120"/>
          </a:xfrm>
        </p:grpSpPr>
        <p:sp>
          <p:nvSpPr>
            <p:cNvPr id="772" name=""/>
            <p:cNvSpPr/>
            <p:nvPr/>
          </p:nvSpPr>
          <p:spPr>
            <a:xfrm>
              <a:off x="2361960" y="3733560"/>
              <a:ext cx="381240" cy="3524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685800" y="1828800"/>
              <a:ext cx="2297160" cy="4542120"/>
              <a:chOff x="685800" y="1828800"/>
              <a:chExt cx="2297160" cy="4542120"/>
            </a:xfrm>
          </p:grpSpPr>
          <p:grpSp>
            <p:nvGrpSpPr>
              <p:cNvPr id="774" name=""/>
              <p:cNvGrpSpPr/>
              <p:nvPr/>
            </p:nvGrpSpPr>
            <p:grpSpPr>
              <a:xfrm>
                <a:off x="685800" y="1828800"/>
                <a:ext cx="1927800" cy="4542120"/>
                <a:chOff x="685800" y="1828800"/>
                <a:chExt cx="1927800" cy="4542120"/>
              </a:xfrm>
            </p:grpSpPr>
            <p:grpSp>
              <p:nvGrpSpPr>
                <p:cNvPr id="775" name=""/>
                <p:cNvGrpSpPr/>
                <p:nvPr/>
              </p:nvGrpSpPr>
              <p:grpSpPr>
                <a:xfrm>
                  <a:off x="789480" y="1828800"/>
                  <a:ext cx="1824120" cy="4542120"/>
                  <a:chOff x="789480" y="1828800"/>
                  <a:chExt cx="1824120" cy="4542120"/>
                </a:xfrm>
              </p:grpSpPr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789480" y="1828800"/>
                    <a:ext cx="1824120" cy="4542120"/>
                    <a:chOff x="789480" y="1828800"/>
                    <a:chExt cx="1824120" cy="4542120"/>
                  </a:xfrm>
                </p:grpSpPr>
                <p:grpSp>
                  <p:nvGrpSpPr>
                    <p:cNvPr id="777" name=""/>
                    <p:cNvGrpSpPr/>
                    <p:nvPr/>
                  </p:nvGrpSpPr>
                  <p:grpSpPr>
                    <a:xfrm>
                      <a:off x="789480" y="1828800"/>
                      <a:ext cx="1824120" cy="3199680"/>
                      <a:chOff x="789480" y="1828800"/>
                      <a:chExt cx="1824120" cy="3199680"/>
                    </a:xfrm>
                  </p:grpSpPr>
                  <p:sp>
                    <p:nvSpPr>
                      <p:cNvPr id="778" name=""/>
                      <p:cNvSpPr/>
                      <p:nvPr/>
                    </p:nvSpPr>
                    <p:spPr>
                      <a:xfrm>
                        <a:off x="914040" y="1828800"/>
                        <a:ext cx="1600200" cy="205704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9" name=""/>
                      <p:cNvSpPr/>
                      <p:nvPr/>
                    </p:nvSpPr>
                    <p:spPr>
                      <a:xfrm rot="19351800">
                        <a:off x="989640" y="2666160"/>
                        <a:ext cx="527040" cy="837720"/>
                      </a:xfrm>
                      <a:prstGeom prst="ellipse">
                        <a:avLst/>
                      </a:prstGeom>
                      <a:solidFill>
                        <a:srgbClr val="3333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0" name=""/>
                      <p:cNvSpPr/>
                      <p:nvPr/>
                    </p:nvSpPr>
                    <p:spPr>
                      <a:xfrm rot="1925400">
                        <a:off x="1904400" y="2666520"/>
                        <a:ext cx="527040" cy="837720"/>
                      </a:xfrm>
                      <a:prstGeom prst="ellipse">
                        <a:avLst/>
                      </a:prstGeom>
                      <a:solidFill>
                        <a:srgbClr val="3333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1" name=""/>
                      <p:cNvSpPr/>
                      <p:nvPr/>
                    </p:nvSpPr>
                    <p:spPr>
                      <a:xfrm>
                        <a:off x="1218600" y="4114440"/>
                        <a:ext cx="990720" cy="91404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2" name=""/>
                      <p:cNvSpPr/>
                      <p:nvPr/>
                    </p:nvSpPr>
                    <p:spPr>
                      <a:xfrm flipH="1">
                        <a:off x="1675800" y="3733200"/>
                        <a:ext cx="76320" cy="533160"/>
                      </a:xfrm>
                      <a:prstGeom prst="line">
                        <a:avLst/>
                      </a:prstGeom>
                      <a:ln w="1620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83" name=""/>
                    <p:cNvGrpSpPr/>
                    <p:nvPr/>
                  </p:nvGrpSpPr>
                  <p:grpSpPr>
                    <a:xfrm>
                      <a:off x="838080" y="4876560"/>
                      <a:ext cx="1752480" cy="1494360"/>
                      <a:chOff x="838080" y="4876560"/>
                      <a:chExt cx="1752480" cy="1494360"/>
                    </a:xfrm>
                  </p:grpSpPr>
                  <p:grpSp>
                    <p:nvGrpSpPr>
                      <p:cNvPr id="784" name=""/>
                      <p:cNvGrpSpPr/>
                      <p:nvPr/>
                    </p:nvGrpSpPr>
                    <p:grpSpPr>
                      <a:xfrm>
                        <a:off x="838080" y="5562000"/>
                        <a:ext cx="1752480" cy="808920"/>
                        <a:chOff x="838080" y="5562000"/>
                        <a:chExt cx="1752480" cy="808920"/>
                      </a:xfrm>
                    </p:grpSpPr>
                    <p:sp>
                      <p:nvSpPr>
                        <p:cNvPr id="785" name=""/>
                        <p:cNvSpPr/>
                        <p:nvPr/>
                      </p:nvSpPr>
                      <p:spPr>
                        <a:xfrm>
                          <a:off x="1523880" y="594252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6" name=""/>
                        <p:cNvSpPr/>
                        <p:nvPr/>
                      </p:nvSpPr>
                      <p:spPr>
                        <a:xfrm>
                          <a:off x="2209680" y="571392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7" name=""/>
                        <p:cNvSpPr/>
                        <p:nvPr/>
                      </p:nvSpPr>
                      <p:spPr>
                        <a:xfrm>
                          <a:off x="1523880" y="556200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8" name=""/>
                        <p:cNvSpPr/>
                        <p:nvPr/>
                      </p:nvSpPr>
                      <p:spPr>
                        <a:xfrm>
                          <a:off x="838080" y="579024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9" name=""/>
                        <p:cNvSpPr/>
                        <p:nvPr/>
                      </p:nvSpPr>
                      <p:spPr>
                        <a:xfrm>
                          <a:off x="1981080" y="601884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90" name=""/>
                      <p:cNvGrpSpPr/>
                      <p:nvPr/>
                    </p:nvGrpSpPr>
                    <p:grpSpPr>
                      <a:xfrm>
                        <a:off x="988920" y="4876560"/>
                        <a:ext cx="1438200" cy="1226160"/>
                        <a:chOff x="988920" y="4876560"/>
                        <a:chExt cx="1438200" cy="1226160"/>
                      </a:xfrm>
                    </p:grpSpPr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>
                          <a:off x="1977840" y="4898160"/>
                          <a:ext cx="449280" cy="90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3" h="569">
                              <a:moveTo>
                                <a:pt x="0" y="0"/>
                              </a:moveTo>
                              <a:cubicBezTo>
                                <a:pt x="46" y="70"/>
                                <a:pt x="59" y="71"/>
                                <a:pt x="128" y="119"/>
                              </a:cubicBezTo>
                              <a:cubicBezTo>
                                <a:pt x="146" y="132"/>
                                <a:pt x="183" y="155"/>
                                <a:pt x="183" y="155"/>
                              </a:cubicBezTo>
                              <a:cubicBezTo>
                                <a:pt x="233" y="231"/>
                                <a:pt x="209" y="216"/>
                                <a:pt x="237" y="301"/>
                              </a:cubicBezTo>
                              <a:cubicBezTo>
                                <a:pt x="248" y="383"/>
                                <a:pt x="245" y="466"/>
                                <a:pt x="256" y="548"/>
                              </a:cubicBezTo>
                              <a:cubicBezTo>
                                <a:pt x="259" y="569"/>
                                <a:pt x="271" y="567"/>
                                <a:pt x="283" y="567"/>
                              </a:cubicBezTo>
                            </a:path>
                          </a:pathLst>
                        </a:custGeom>
                        <a:noFill/>
                        <a:ln w="76320">
                          <a:solidFill>
                            <a:srgbClr val="00f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92" name=""/>
                        <p:cNvGrpSpPr/>
                        <p:nvPr/>
                      </p:nvGrpSpPr>
                      <p:grpSpPr>
                        <a:xfrm>
                          <a:off x="988920" y="4876560"/>
                          <a:ext cx="1230120" cy="1226160"/>
                          <a:chOff x="988920" y="4876560"/>
                          <a:chExt cx="1230120" cy="1226160"/>
                        </a:xfrm>
                      </p:grpSpPr>
                      <p:sp>
                        <p:nvSpPr>
                          <p:cNvPr id="793" name=""/>
                          <p:cNvSpPr/>
                          <p:nvPr/>
                        </p:nvSpPr>
                        <p:spPr>
                          <a:xfrm>
                            <a:off x="988920" y="4955400"/>
                            <a:ext cx="480960" cy="842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3" h="531">
                                <a:moveTo>
                                  <a:pt x="303" y="0"/>
                                </a:moveTo>
                                <a:cubicBezTo>
                                  <a:pt x="294" y="12"/>
                                  <a:pt x="247" y="89"/>
                                  <a:pt x="220" y="101"/>
                                </a:cubicBezTo>
                                <a:cubicBezTo>
                                  <a:pt x="160" y="127"/>
                                  <a:pt x="84" y="133"/>
                                  <a:pt x="19" y="147"/>
                                </a:cubicBezTo>
                                <a:cubicBezTo>
                                  <a:pt x="0" y="205"/>
                                  <a:pt x="13" y="263"/>
                                  <a:pt x="47" y="311"/>
                                </a:cubicBezTo>
                                <a:cubicBezTo>
                                  <a:pt x="61" y="370"/>
                                  <a:pt x="67" y="380"/>
                                  <a:pt x="56" y="448"/>
                                </a:cubicBezTo>
                                <a:cubicBezTo>
                                  <a:pt x="51" y="481"/>
                                  <a:pt x="33" y="500"/>
                                  <a:pt x="47" y="531"/>
                                </a:cubicBezTo>
                              </a:path>
                            </a:pathLst>
                          </a:custGeom>
                          <a:noFill/>
                          <a:ln w="76320">
                            <a:solidFill>
                              <a:srgbClr val="00f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4" name=""/>
                          <p:cNvSpPr/>
                          <p:nvPr/>
                        </p:nvSpPr>
                        <p:spPr>
                          <a:xfrm>
                            <a:off x="1447560" y="4876560"/>
                            <a:ext cx="631800" cy="114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1" h="384">
                                <a:moveTo>
                                  <a:pt x="289" y="384"/>
                                </a:moveTo>
                                <a:cubicBezTo>
                                  <a:pt x="333" y="369"/>
                                  <a:pt x="426" y="357"/>
                                  <a:pt x="426" y="357"/>
                                </a:cubicBezTo>
                                <a:cubicBezTo>
                                  <a:pt x="462" y="332"/>
                                  <a:pt x="470" y="327"/>
                                  <a:pt x="481" y="284"/>
                                </a:cubicBezTo>
                                <a:cubicBezTo>
                                  <a:pt x="475" y="258"/>
                                  <a:pt x="473" y="187"/>
                                  <a:pt x="444" y="174"/>
                                </a:cubicBezTo>
                                <a:cubicBezTo>
                                  <a:pt x="402" y="155"/>
                                  <a:pt x="353" y="162"/>
                                  <a:pt x="307" y="156"/>
                                </a:cubicBezTo>
                                <a:cubicBezTo>
                                  <a:pt x="222" y="145"/>
                                  <a:pt x="136" y="139"/>
                                  <a:pt x="51" y="128"/>
                                </a:cubicBezTo>
                                <a:cubicBezTo>
                                  <a:pt x="0" y="94"/>
                                  <a:pt x="15" y="67"/>
                                  <a:pt x="60" y="37"/>
                                </a:cubicBezTo>
                                <a:cubicBezTo>
                                  <a:pt x="124" y="40"/>
                                  <a:pt x="188" y="41"/>
                                  <a:pt x="252" y="46"/>
                                </a:cubicBezTo>
                                <a:cubicBezTo>
                                  <a:pt x="262" y="47"/>
                                  <a:pt x="273" y="62"/>
                                  <a:pt x="280" y="55"/>
                                </a:cubicBezTo>
                                <a:cubicBezTo>
                                  <a:pt x="294" y="41"/>
                                  <a:pt x="298" y="0"/>
                                  <a:pt x="298" y="0"/>
                                </a:cubicBezTo>
                                <a:cubicBezTo>
                                  <a:pt x="304" y="9"/>
                                  <a:pt x="316" y="28"/>
                                  <a:pt x="316" y="28"/>
                                </a:cubicBezTo>
                              </a:path>
                            </a:pathLst>
                          </a:custGeom>
                          <a:noFill/>
                          <a:ln w="76320">
                            <a:solidFill>
                              <a:srgbClr val="00f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5" name=""/>
                          <p:cNvSpPr/>
                          <p:nvPr/>
                        </p:nvSpPr>
                        <p:spPr>
                          <a:xfrm>
                            <a:off x="1526760" y="4912560"/>
                            <a:ext cx="233640" cy="696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7" h="439">
                                <a:moveTo>
                                  <a:pt x="147" y="439"/>
                                </a:moveTo>
                                <a:cubicBezTo>
                                  <a:pt x="104" y="425"/>
                                  <a:pt x="61" y="416"/>
                                  <a:pt x="19" y="402"/>
                                </a:cubicBezTo>
                                <a:cubicBezTo>
                                  <a:pt x="0" y="350"/>
                                  <a:pt x="7" y="327"/>
                                  <a:pt x="55" y="311"/>
                                </a:cubicBezTo>
                                <a:cubicBezTo>
                                  <a:pt x="72" y="284"/>
                                  <a:pt x="92" y="264"/>
                                  <a:pt x="110" y="238"/>
                                </a:cubicBezTo>
                                <a:cubicBezTo>
                                  <a:pt x="128" y="164"/>
                                  <a:pt x="124" y="198"/>
                                  <a:pt x="110" y="73"/>
                                </a:cubicBezTo>
                                <a:cubicBezTo>
                                  <a:pt x="107" y="48"/>
                                  <a:pt x="92" y="25"/>
                                  <a:pt x="92" y="0"/>
                                </a:cubicBezTo>
                              </a:path>
                            </a:pathLst>
                          </a:custGeom>
                          <a:noFill/>
                          <a:ln w="76320">
                            <a:solidFill>
                              <a:srgbClr val="00f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6" name=""/>
                          <p:cNvSpPr/>
                          <p:nvPr/>
                        </p:nvSpPr>
                        <p:spPr>
                          <a:xfrm>
                            <a:off x="1803240" y="4884120"/>
                            <a:ext cx="415800" cy="1218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2" h="768">
                                <a:moveTo>
                                  <a:pt x="201" y="768"/>
                                </a:moveTo>
                                <a:cubicBezTo>
                                  <a:pt x="208" y="694"/>
                                  <a:pt x="214" y="610"/>
                                  <a:pt x="238" y="539"/>
                                </a:cubicBezTo>
                                <a:cubicBezTo>
                                  <a:pt x="249" y="447"/>
                                  <a:pt x="262" y="314"/>
                                  <a:pt x="174" y="256"/>
                                </a:cubicBezTo>
                                <a:cubicBezTo>
                                  <a:pt x="160" y="213"/>
                                  <a:pt x="147" y="226"/>
                                  <a:pt x="110" y="201"/>
                                </a:cubicBezTo>
                                <a:cubicBezTo>
                                  <a:pt x="93" y="147"/>
                                  <a:pt x="93" y="139"/>
                                  <a:pt x="37" y="118"/>
                                </a:cubicBezTo>
                                <a:cubicBezTo>
                                  <a:pt x="0" y="83"/>
                                  <a:pt x="0" y="46"/>
                                  <a:pt x="0" y="0"/>
                                </a:cubicBezTo>
                              </a:path>
                            </a:pathLst>
                          </a:custGeom>
                          <a:noFill/>
                          <a:ln w="76320">
                            <a:solidFill>
                              <a:srgbClr val="00f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sp>
                <p:nvSpPr>
                  <p:cNvPr id="797" name=""/>
                  <p:cNvSpPr/>
                  <p:nvPr/>
                </p:nvSpPr>
                <p:spPr>
                  <a:xfrm rot="16200000">
                    <a:off x="1614960" y="3336840"/>
                    <a:ext cx="328680" cy="66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5035" y="1520"/>
                          <a:pt x="8470" y="5080"/>
                          <a:pt x="8470" y="10800"/>
                        </a:cubicBezTo>
                        <a:cubicBezTo>
                          <a:pt x="8470" y="16520"/>
                          <a:pt x="15035" y="20080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5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685800" y="4010040"/>
                  <a:ext cx="1846080" cy="838080"/>
                  <a:chOff x="685800" y="4010040"/>
                  <a:chExt cx="1846080" cy="83808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>
                    <a:off x="685800" y="4495680"/>
                    <a:ext cx="380880" cy="352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2068560" y="4010040"/>
                    <a:ext cx="46332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292">
                        <a:moveTo>
                          <a:pt x="0" y="283"/>
                        </a:moveTo>
                        <a:cubicBezTo>
                          <a:pt x="62" y="292"/>
                          <a:pt x="87" y="286"/>
                          <a:pt x="146" y="274"/>
                        </a:cubicBezTo>
                        <a:cubicBezTo>
                          <a:pt x="175" y="255"/>
                          <a:pt x="217" y="229"/>
                          <a:pt x="238" y="201"/>
                        </a:cubicBezTo>
                        <a:cubicBezTo>
                          <a:pt x="251" y="183"/>
                          <a:pt x="274" y="146"/>
                          <a:pt x="274" y="146"/>
                        </a:cubicBezTo>
                        <a:cubicBezTo>
                          <a:pt x="292" y="74"/>
                          <a:pt x="283" y="122"/>
                          <a:pt x="283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892080" y="4300560"/>
                    <a:ext cx="493560" cy="28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82">
                        <a:moveTo>
                          <a:pt x="311" y="27"/>
                        </a:moveTo>
                        <a:cubicBezTo>
                          <a:pt x="261" y="10"/>
                          <a:pt x="208" y="8"/>
                          <a:pt x="156" y="0"/>
                        </a:cubicBezTo>
                        <a:cubicBezTo>
                          <a:pt x="109" y="8"/>
                          <a:pt x="84" y="10"/>
                          <a:pt x="46" y="36"/>
                        </a:cubicBezTo>
                        <a:cubicBezTo>
                          <a:pt x="17" y="81"/>
                          <a:pt x="0" y="129"/>
                          <a:pt x="0" y="182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02" name=""/>
              <p:cNvSpPr/>
              <p:nvPr/>
            </p:nvSpPr>
            <p:spPr>
              <a:xfrm>
                <a:off x="2543040" y="3166920"/>
                <a:ext cx="439920" cy="741240"/>
              </a:xfrm>
              <a:custGeom>
                <a:avLst/>
                <a:gdLst/>
                <a:ahLst/>
                <a:rect l="l" t="t" r="r" b="b"/>
                <a:pathLst>
                  <a:path w="277" h="467">
                    <a:moveTo>
                      <a:pt x="21" y="0"/>
                    </a:moveTo>
                    <a:cubicBezTo>
                      <a:pt x="19" y="60"/>
                      <a:pt x="0" y="360"/>
                      <a:pt x="21" y="430"/>
                    </a:cubicBezTo>
                    <a:cubicBezTo>
                      <a:pt x="24" y="441"/>
                      <a:pt x="138" y="464"/>
                      <a:pt x="149" y="467"/>
                    </a:cubicBezTo>
                    <a:cubicBezTo>
                      <a:pt x="215" y="451"/>
                      <a:pt x="173" y="458"/>
                      <a:pt x="277" y="458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19112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34340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6272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88620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100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2670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57200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2408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rot="21314400">
            <a:off x="601956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572000" y="3200400"/>
            <a:ext cx="76212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952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25780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52280" y="0"/>
            <a:ext cx="3886200" cy="5257800"/>
          </a:xfrm>
          <a:prstGeom prst="wedgeEllipseCallout">
            <a:avLst>
              <a:gd name="adj1" fmla="val 57106"/>
              <a:gd name="adj2" fmla="val 10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tor said we were supposed to go and make disciples all the way to the ends of the ear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6400800" y="2404080"/>
            <a:ext cx="2438280" cy="3729960"/>
            <a:chOff x="6400800" y="2404080"/>
            <a:chExt cx="2438280" cy="3729960"/>
          </a:xfrm>
        </p:grpSpPr>
        <p:sp>
          <p:nvSpPr>
            <p:cNvPr id="825" name=""/>
            <p:cNvSpPr/>
            <p:nvPr/>
          </p:nvSpPr>
          <p:spPr>
            <a:xfrm>
              <a:off x="6781680" y="2933640"/>
              <a:ext cx="1676520" cy="167652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86600" y="361944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96080" y="3619440"/>
              <a:ext cx="53352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772400" y="3695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62560" y="36957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162560" y="4610160"/>
              <a:ext cx="91440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9534600">
              <a:off x="6933600" y="262872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11531400">
              <a:off x="7238520" y="262836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3149000">
              <a:off x="7390800" y="2552040"/>
              <a:ext cx="685800" cy="60948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14453400">
              <a:off x="7619760" y="255204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62560" y="5371920"/>
              <a:ext cx="91440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58000" y="613404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772400" y="613404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00800" y="445752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381880" y="491472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772400" y="4228920"/>
              <a:ext cx="304560" cy="2286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685800" y="1828800"/>
            <a:ext cx="2297160" cy="4542120"/>
            <a:chOff x="685800" y="1828800"/>
            <a:chExt cx="2297160" cy="4542120"/>
          </a:xfrm>
        </p:grpSpPr>
        <p:sp>
          <p:nvSpPr>
            <p:cNvPr id="843" name=""/>
            <p:cNvSpPr/>
            <p:nvPr/>
          </p:nvSpPr>
          <p:spPr>
            <a:xfrm>
              <a:off x="2361960" y="3733560"/>
              <a:ext cx="381240" cy="3524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685800" y="1828800"/>
              <a:ext cx="2297160" cy="4542120"/>
              <a:chOff x="685800" y="1828800"/>
              <a:chExt cx="2297160" cy="4542120"/>
            </a:xfrm>
          </p:grpSpPr>
          <p:grpSp>
            <p:nvGrpSpPr>
              <p:cNvPr id="845" name=""/>
              <p:cNvGrpSpPr/>
              <p:nvPr/>
            </p:nvGrpSpPr>
            <p:grpSpPr>
              <a:xfrm>
                <a:off x="685800" y="1828800"/>
                <a:ext cx="1927800" cy="4542120"/>
                <a:chOff x="685800" y="1828800"/>
                <a:chExt cx="1927800" cy="4542120"/>
              </a:xfrm>
            </p:grpSpPr>
            <p:grpSp>
              <p:nvGrpSpPr>
                <p:cNvPr id="846" name=""/>
                <p:cNvGrpSpPr/>
                <p:nvPr/>
              </p:nvGrpSpPr>
              <p:grpSpPr>
                <a:xfrm>
                  <a:off x="789480" y="1828800"/>
                  <a:ext cx="1824120" cy="4542120"/>
                  <a:chOff x="789480" y="1828800"/>
                  <a:chExt cx="1824120" cy="4542120"/>
                </a:xfrm>
              </p:grpSpPr>
              <p:grpSp>
                <p:nvGrpSpPr>
                  <p:cNvPr id="847" name=""/>
                  <p:cNvGrpSpPr/>
                  <p:nvPr/>
                </p:nvGrpSpPr>
                <p:grpSpPr>
                  <a:xfrm>
                    <a:off x="789480" y="1828800"/>
                    <a:ext cx="1824120" cy="4542120"/>
                    <a:chOff x="789480" y="1828800"/>
                    <a:chExt cx="1824120" cy="4542120"/>
                  </a:xfrm>
                </p:grpSpPr>
                <p:grpSp>
                  <p:nvGrpSpPr>
                    <p:cNvPr id="848" name=""/>
                    <p:cNvGrpSpPr/>
                    <p:nvPr/>
                  </p:nvGrpSpPr>
                  <p:grpSpPr>
                    <a:xfrm>
                      <a:off x="789480" y="1828800"/>
                      <a:ext cx="1824120" cy="3199680"/>
                      <a:chOff x="789480" y="1828800"/>
                      <a:chExt cx="1824120" cy="3199680"/>
                    </a:xfrm>
                  </p:grpSpPr>
                  <p:sp>
                    <p:nvSpPr>
                      <p:cNvPr id="849" name=""/>
                      <p:cNvSpPr/>
                      <p:nvPr/>
                    </p:nvSpPr>
                    <p:spPr>
                      <a:xfrm>
                        <a:off x="914040" y="1828800"/>
                        <a:ext cx="1600200" cy="205704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0" name=""/>
                      <p:cNvSpPr/>
                      <p:nvPr/>
                    </p:nvSpPr>
                    <p:spPr>
                      <a:xfrm rot="19351800">
                        <a:off x="989640" y="2666160"/>
                        <a:ext cx="527040" cy="837720"/>
                      </a:xfrm>
                      <a:prstGeom prst="ellipse">
                        <a:avLst/>
                      </a:prstGeom>
                      <a:solidFill>
                        <a:srgbClr val="3333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1" name=""/>
                      <p:cNvSpPr/>
                      <p:nvPr/>
                    </p:nvSpPr>
                    <p:spPr>
                      <a:xfrm rot="1925400">
                        <a:off x="1904400" y="2666520"/>
                        <a:ext cx="527040" cy="837720"/>
                      </a:xfrm>
                      <a:prstGeom prst="ellipse">
                        <a:avLst/>
                      </a:prstGeom>
                      <a:solidFill>
                        <a:srgbClr val="3333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2" name=""/>
                      <p:cNvSpPr/>
                      <p:nvPr/>
                    </p:nvSpPr>
                    <p:spPr>
                      <a:xfrm>
                        <a:off x="1218600" y="4114440"/>
                        <a:ext cx="990720" cy="91404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3" name=""/>
                      <p:cNvSpPr/>
                      <p:nvPr/>
                    </p:nvSpPr>
                    <p:spPr>
                      <a:xfrm flipH="1">
                        <a:off x="1675800" y="3733200"/>
                        <a:ext cx="76320" cy="533160"/>
                      </a:xfrm>
                      <a:prstGeom prst="line">
                        <a:avLst/>
                      </a:prstGeom>
                      <a:ln w="1620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54" name=""/>
                    <p:cNvGrpSpPr/>
                    <p:nvPr/>
                  </p:nvGrpSpPr>
                  <p:grpSpPr>
                    <a:xfrm>
                      <a:off x="838080" y="4876560"/>
                      <a:ext cx="1752480" cy="1494360"/>
                      <a:chOff x="838080" y="4876560"/>
                      <a:chExt cx="1752480" cy="1494360"/>
                    </a:xfrm>
                  </p:grpSpPr>
                  <p:grpSp>
                    <p:nvGrpSpPr>
                      <p:cNvPr id="855" name=""/>
                      <p:cNvGrpSpPr/>
                      <p:nvPr/>
                    </p:nvGrpSpPr>
                    <p:grpSpPr>
                      <a:xfrm>
                        <a:off x="838080" y="5562000"/>
                        <a:ext cx="1752480" cy="808920"/>
                        <a:chOff x="838080" y="5562000"/>
                        <a:chExt cx="1752480" cy="808920"/>
                      </a:xfrm>
                    </p:grpSpPr>
                    <p:sp>
                      <p:nvSpPr>
                        <p:cNvPr id="856" name=""/>
                        <p:cNvSpPr/>
                        <p:nvPr/>
                      </p:nvSpPr>
                      <p:spPr>
                        <a:xfrm>
                          <a:off x="1523880" y="594252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7" name=""/>
                        <p:cNvSpPr/>
                        <p:nvPr/>
                      </p:nvSpPr>
                      <p:spPr>
                        <a:xfrm>
                          <a:off x="2209680" y="571392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8" name=""/>
                        <p:cNvSpPr/>
                        <p:nvPr/>
                      </p:nvSpPr>
                      <p:spPr>
                        <a:xfrm>
                          <a:off x="1523880" y="556200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9" name=""/>
                        <p:cNvSpPr/>
                        <p:nvPr/>
                      </p:nvSpPr>
                      <p:spPr>
                        <a:xfrm>
                          <a:off x="838080" y="579024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>
                          <a:off x="1981080" y="6018840"/>
                          <a:ext cx="380880" cy="352080"/>
                        </a:xfrm>
                        <a:prstGeom prst="ellipse">
                          <a:avLst/>
                        </a:prstGeom>
                        <a:solidFill>
                          <a:srgbClr val="00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61" name=""/>
                      <p:cNvGrpSpPr/>
                      <p:nvPr/>
                    </p:nvGrpSpPr>
                    <p:grpSpPr>
                      <a:xfrm>
                        <a:off x="988920" y="4876560"/>
                        <a:ext cx="1438200" cy="1226160"/>
                        <a:chOff x="988920" y="4876560"/>
                        <a:chExt cx="1438200" cy="1226160"/>
                      </a:xfrm>
                    </p:grpSpPr>
                    <p:sp>
                      <p:nvSpPr>
                        <p:cNvPr id="862" name=""/>
                        <p:cNvSpPr/>
                        <p:nvPr/>
                      </p:nvSpPr>
                      <p:spPr>
                        <a:xfrm>
                          <a:off x="1977840" y="4898160"/>
                          <a:ext cx="449280" cy="90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3" h="569">
                              <a:moveTo>
                                <a:pt x="0" y="0"/>
                              </a:moveTo>
                              <a:cubicBezTo>
                                <a:pt x="46" y="70"/>
                                <a:pt x="59" y="71"/>
                                <a:pt x="128" y="119"/>
                              </a:cubicBezTo>
                              <a:cubicBezTo>
                                <a:pt x="146" y="132"/>
                                <a:pt x="183" y="155"/>
                                <a:pt x="183" y="155"/>
                              </a:cubicBezTo>
                              <a:cubicBezTo>
                                <a:pt x="233" y="231"/>
                                <a:pt x="209" y="216"/>
                                <a:pt x="237" y="301"/>
                              </a:cubicBezTo>
                              <a:cubicBezTo>
                                <a:pt x="248" y="383"/>
                                <a:pt x="245" y="466"/>
                                <a:pt x="256" y="548"/>
                              </a:cubicBezTo>
                              <a:cubicBezTo>
                                <a:pt x="259" y="569"/>
                                <a:pt x="271" y="567"/>
                                <a:pt x="283" y="567"/>
                              </a:cubicBezTo>
                            </a:path>
                          </a:pathLst>
                        </a:custGeom>
                        <a:noFill/>
                        <a:ln w="76320">
                          <a:solidFill>
                            <a:srgbClr val="00f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63" name=""/>
                        <p:cNvGrpSpPr/>
                        <p:nvPr/>
                      </p:nvGrpSpPr>
                      <p:grpSpPr>
                        <a:xfrm>
                          <a:off x="988920" y="4876560"/>
                          <a:ext cx="1230120" cy="1226160"/>
                          <a:chOff x="988920" y="4876560"/>
                          <a:chExt cx="1230120" cy="1226160"/>
                        </a:xfrm>
                      </p:grpSpPr>
                      <p:sp>
                        <p:nvSpPr>
                          <p:cNvPr id="864" name=""/>
                          <p:cNvSpPr/>
                          <p:nvPr/>
                        </p:nvSpPr>
                        <p:spPr>
                          <a:xfrm>
                            <a:off x="988920" y="4955400"/>
                            <a:ext cx="480960" cy="842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3" h="531">
                                <a:moveTo>
                                  <a:pt x="303" y="0"/>
                                </a:moveTo>
                                <a:cubicBezTo>
                                  <a:pt x="294" y="12"/>
                                  <a:pt x="247" y="89"/>
                                  <a:pt x="220" y="101"/>
                                </a:cubicBezTo>
                                <a:cubicBezTo>
                                  <a:pt x="160" y="127"/>
                                  <a:pt x="84" y="133"/>
                                  <a:pt x="19" y="147"/>
                                </a:cubicBezTo>
                                <a:cubicBezTo>
                                  <a:pt x="0" y="205"/>
                                  <a:pt x="13" y="263"/>
                                  <a:pt x="47" y="311"/>
                                </a:cubicBezTo>
                                <a:cubicBezTo>
                                  <a:pt x="61" y="370"/>
                                  <a:pt x="67" y="380"/>
                                  <a:pt x="56" y="448"/>
                                </a:cubicBezTo>
                                <a:cubicBezTo>
                                  <a:pt x="51" y="481"/>
                                  <a:pt x="33" y="500"/>
                                  <a:pt x="47" y="531"/>
                                </a:cubicBezTo>
                              </a:path>
                            </a:pathLst>
                          </a:custGeom>
                          <a:noFill/>
                          <a:ln w="76320">
                            <a:solidFill>
                              <a:srgbClr val="00f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5" name=""/>
                          <p:cNvSpPr/>
                          <p:nvPr/>
                        </p:nvSpPr>
                        <p:spPr>
                          <a:xfrm>
                            <a:off x="1447560" y="4876560"/>
                            <a:ext cx="631800" cy="114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1" h="384">
                                <a:moveTo>
                                  <a:pt x="289" y="384"/>
                                </a:moveTo>
                                <a:cubicBezTo>
                                  <a:pt x="333" y="369"/>
                                  <a:pt x="426" y="357"/>
                                  <a:pt x="426" y="357"/>
                                </a:cubicBezTo>
                                <a:cubicBezTo>
                                  <a:pt x="462" y="332"/>
                                  <a:pt x="470" y="327"/>
                                  <a:pt x="481" y="284"/>
                                </a:cubicBezTo>
                                <a:cubicBezTo>
                                  <a:pt x="475" y="258"/>
                                  <a:pt x="473" y="187"/>
                                  <a:pt x="444" y="174"/>
                                </a:cubicBezTo>
                                <a:cubicBezTo>
                                  <a:pt x="402" y="155"/>
                                  <a:pt x="353" y="162"/>
                                  <a:pt x="307" y="156"/>
                                </a:cubicBezTo>
                                <a:cubicBezTo>
                                  <a:pt x="222" y="145"/>
                                  <a:pt x="136" y="139"/>
                                  <a:pt x="51" y="128"/>
                                </a:cubicBezTo>
                                <a:cubicBezTo>
                                  <a:pt x="0" y="94"/>
                                  <a:pt x="15" y="67"/>
                                  <a:pt x="60" y="37"/>
                                </a:cubicBezTo>
                                <a:cubicBezTo>
                                  <a:pt x="124" y="40"/>
                                  <a:pt x="188" y="41"/>
                                  <a:pt x="252" y="46"/>
                                </a:cubicBezTo>
                                <a:cubicBezTo>
                                  <a:pt x="262" y="47"/>
                                  <a:pt x="273" y="62"/>
                                  <a:pt x="280" y="55"/>
                                </a:cubicBezTo>
                                <a:cubicBezTo>
                                  <a:pt x="294" y="41"/>
                                  <a:pt x="298" y="0"/>
                                  <a:pt x="298" y="0"/>
                                </a:cubicBezTo>
                                <a:cubicBezTo>
                                  <a:pt x="304" y="9"/>
                                  <a:pt x="316" y="28"/>
                                  <a:pt x="316" y="28"/>
                                </a:cubicBezTo>
                              </a:path>
                            </a:pathLst>
                          </a:custGeom>
                          <a:noFill/>
                          <a:ln w="76320">
                            <a:solidFill>
                              <a:srgbClr val="00f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6" name=""/>
                          <p:cNvSpPr/>
                          <p:nvPr/>
                        </p:nvSpPr>
                        <p:spPr>
                          <a:xfrm>
                            <a:off x="1526760" y="4912560"/>
                            <a:ext cx="233640" cy="696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7" h="439">
                                <a:moveTo>
                                  <a:pt x="147" y="439"/>
                                </a:moveTo>
                                <a:cubicBezTo>
                                  <a:pt x="104" y="425"/>
                                  <a:pt x="61" y="416"/>
                                  <a:pt x="19" y="402"/>
                                </a:cubicBezTo>
                                <a:cubicBezTo>
                                  <a:pt x="0" y="350"/>
                                  <a:pt x="7" y="327"/>
                                  <a:pt x="55" y="311"/>
                                </a:cubicBezTo>
                                <a:cubicBezTo>
                                  <a:pt x="72" y="284"/>
                                  <a:pt x="92" y="264"/>
                                  <a:pt x="110" y="238"/>
                                </a:cubicBezTo>
                                <a:cubicBezTo>
                                  <a:pt x="128" y="164"/>
                                  <a:pt x="124" y="198"/>
                                  <a:pt x="110" y="73"/>
                                </a:cubicBezTo>
                                <a:cubicBezTo>
                                  <a:pt x="107" y="48"/>
                                  <a:pt x="92" y="25"/>
                                  <a:pt x="92" y="0"/>
                                </a:cubicBezTo>
                              </a:path>
                            </a:pathLst>
                          </a:custGeom>
                          <a:noFill/>
                          <a:ln w="76320">
                            <a:solidFill>
                              <a:srgbClr val="00f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7" name=""/>
                          <p:cNvSpPr/>
                          <p:nvPr/>
                        </p:nvSpPr>
                        <p:spPr>
                          <a:xfrm>
                            <a:off x="1803240" y="4884120"/>
                            <a:ext cx="415800" cy="1218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2" h="768">
                                <a:moveTo>
                                  <a:pt x="201" y="768"/>
                                </a:moveTo>
                                <a:cubicBezTo>
                                  <a:pt x="208" y="694"/>
                                  <a:pt x="214" y="610"/>
                                  <a:pt x="238" y="539"/>
                                </a:cubicBezTo>
                                <a:cubicBezTo>
                                  <a:pt x="249" y="447"/>
                                  <a:pt x="262" y="314"/>
                                  <a:pt x="174" y="256"/>
                                </a:cubicBezTo>
                                <a:cubicBezTo>
                                  <a:pt x="160" y="213"/>
                                  <a:pt x="147" y="226"/>
                                  <a:pt x="110" y="201"/>
                                </a:cubicBezTo>
                                <a:cubicBezTo>
                                  <a:pt x="93" y="147"/>
                                  <a:pt x="93" y="139"/>
                                  <a:pt x="37" y="118"/>
                                </a:cubicBezTo>
                                <a:cubicBezTo>
                                  <a:pt x="0" y="83"/>
                                  <a:pt x="0" y="46"/>
                                  <a:pt x="0" y="0"/>
                                </a:cubicBezTo>
                              </a:path>
                            </a:pathLst>
                          </a:custGeom>
                          <a:noFill/>
                          <a:ln w="76320">
                            <a:solidFill>
                              <a:srgbClr val="00f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sp>
                <p:nvSpPr>
                  <p:cNvPr id="868" name=""/>
                  <p:cNvSpPr/>
                  <p:nvPr/>
                </p:nvSpPr>
                <p:spPr>
                  <a:xfrm rot="16200000">
                    <a:off x="1614960" y="3336840"/>
                    <a:ext cx="328680" cy="66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5035" y="1520"/>
                          <a:pt x="8470" y="5080"/>
                          <a:pt x="8470" y="10800"/>
                        </a:cubicBezTo>
                        <a:cubicBezTo>
                          <a:pt x="8470" y="16520"/>
                          <a:pt x="15035" y="20080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5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9" name=""/>
                <p:cNvGrpSpPr/>
                <p:nvPr/>
              </p:nvGrpSpPr>
              <p:grpSpPr>
                <a:xfrm>
                  <a:off x="685800" y="4010040"/>
                  <a:ext cx="1846080" cy="838080"/>
                  <a:chOff x="685800" y="4010040"/>
                  <a:chExt cx="1846080" cy="838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685800" y="4495680"/>
                    <a:ext cx="380880" cy="352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068560" y="4010040"/>
                    <a:ext cx="46332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292">
                        <a:moveTo>
                          <a:pt x="0" y="283"/>
                        </a:moveTo>
                        <a:cubicBezTo>
                          <a:pt x="62" y="292"/>
                          <a:pt x="87" y="286"/>
                          <a:pt x="146" y="274"/>
                        </a:cubicBezTo>
                        <a:cubicBezTo>
                          <a:pt x="175" y="255"/>
                          <a:pt x="217" y="229"/>
                          <a:pt x="238" y="201"/>
                        </a:cubicBezTo>
                        <a:cubicBezTo>
                          <a:pt x="251" y="183"/>
                          <a:pt x="274" y="146"/>
                          <a:pt x="274" y="146"/>
                        </a:cubicBezTo>
                        <a:cubicBezTo>
                          <a:pt x="292" y="74"/>
                          <a:pt x="283" y="122"/>
                          <a:pt x="283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892080" y="4300560"/>
                    <a:ext cx="493560" cy="28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82">
                        <a:moveTo>
                          <a:pt x="311" y="27"/>
                        </a:moveTo>
                        <a:cubicBezTo>
                          <a:pt x="261" y="10"/>
                          <a:pt x="208" y="8"/>
                          <a:pt x="156" y="0"/>
                        </a:cubicBezTo>
                        <a:cubicBezTo>
                          <a:pt x="109" y="8"/>
                          <a:pt x="84" y="10"/>
                          <a:pt x="46" y="36"/>
                        </a:cubicBezTo>
                        <a:cubicBezTo>
                          <a:pt x="17" y="81"/>
                          <a:pt x="0" y="129"/>
                          <a:pt x="0" y="182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3" name=""/>
              <p:cNvSpPr/>
              <p:nvPr/>
            </p:nvSpPr>
            <p:spPr>
              <a:xfrm>
                <a:off x="2543040" y="3166920"/>
                <a:ext cx="439920" cy="741240"/>
              </a:xfrm>
              <a:custGeom>
                <a:avLst/>
                <a:gdLst/>
                <a:ahLst/>
                <a:rect l="l" t="t" r="r" b="b"/>
                <a:pathLst>
                  <a:path w="277" h="467">
                    <a:moveTo>
                      <a:pt x="21" y="0"/>
                    </a:moveTo>
                    <a:cubicBezTo>
                      <a:pt x="19" y="60"/>
                      <a:pt x="0" y="360"/>
                      <a:pt x="21" y="430"/>
                    </a:cubicBezTo>
                    <a:cubicBezTo>
                      <a:pt x="24" y="441"/>
                      <a:pt x="138" y="464"/>
                      <a:pt x="149" y="467"/>
                    </a:cubicBezTo>
                    <a:cubicBezTo>
                      <a:pt x="215" y="451"/>
                      <a:pt x="173" y="458"/>
                      <a:pt x="277" y="458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19112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19112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34340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56272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88620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4100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2670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12408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rot="21314400">
            <a:off x="601956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572000" y="3200400"/>
            <a:ext cx="76212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25780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800600" y="228600"/>
            <a:ext cx="2590920" cy="1828800"/>
          </a:xfrm>
          <a:prstGeom prst="wedgeEllipseCallout">
            <a:avLst>
              <a:gd name="adj1" fmla="val 29777"/>
              <a:gd name="adj2" fmla="val 1146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ah, 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477120" y="3352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rot="16200000">
            <a:off x="6514920" y="42285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066680" y="1600200"/>
            <a:ext cx="3733920" cy="2590920"/>
          </a:xfrm>
          <a:prstGeom prst="wedgeEllipseCallout">
            <a:avLst>
              <a:gd name="adj1" fmla="val 56462"/>
              <a:gd name="adj2" fmla="val 42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YOU doing here, any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1814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5181480" y="304920"/>
            <a:ext cx="3810240" cy="4495680"/>
          </a:xfrm>
          <a:prstGeom prst="wedgeEllipseCallout">
            <a:avLst>
              <a:gd name="adj1" fmla="val -63625"/>
              <a:gd name="adj2" fmla="val 50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’m on a Faith Trek, looking for the Master of the Univers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438280" y="2514600"/>
            <a:ext cx="38124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84280" y="152280"/>
            <a:ext cx="4265640" cy="5486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rot="19351800">
            <a:off x="1219320" y="2437920"/>
            <a:ext cx="140472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rot="1925400">
            <a:off x="3223800" y="2387520"/>
            <a:ext cx="140508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397160" y="6248520"/>
            <a:ext cx="2639880" cy="2438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2616120" y="5232240"/>
            <a:ext cx="201600" cy="1422720"/>
          </a:xfrm>
          <a:prstGeom prst="line">
            <a:avLst/>
          </a:prstGeom>
          <a:ln w="16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80880" y="8280360"/>
            <a:ext cx="4670280" cy="3985920"/>
            <a:chOff x="380880" y="8280360"/>
            <a:chExt cx="4670280" cy="3985920"/>
          </a:xfrm>
        </p:grpSpPr>
        <p:grpSp>
          <p:nvGrpSpPr>
            <p:cNvPr id="914" name=""/>
            <p:cNvGrpSpPr/>
            <p:nvPr/>
          </p:nvGrpSpPr>
          <p:grpSpPr>
            <a:xfrm>
              <a:off x="380880" y="10108800"/>
              <a:ext cx="4670280" cy="2157480"/>
              <a:chOff x="380880" y="10108800"/>
              <a:chExt cx="4670280" cy="2157480"/>
            </a:xfrm>
          </p:grpSpPr>
          <p:sp>
            <p:nvSpPr>
              <p:cNvPr id="915" name=""/>
              <p:cNvSpPr/>
              <p:nvPr/>
            </p:nvSpPr>
            <p:spPr>
              <a:xfrm>
                <a:off x="2208600" y="111236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036320" y="105145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08600" y="1010880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80880" y="107179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427200" y="113270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782640" y="8280360"/>
              <a:ext cx="3832920" cy="3269160"/>
              <a:chOff x="782640" y="8280360"/>
              <a:chExt cx="3832920" cy="3269160"/>
            </a:xfrm>
          </p:grpSpPr>
          <p:sp>
            <p:nvSpPr>
              <p:cNvPr id="921" name=""/>
              <p:cNvSpPr/>
              <p:nvPr/>
            </p:nvSpPr>
            <p:spPr>
              <a:xfrm>
                <a:off x="3418200" y="8338680"/>
                <a:ext cx="1197360" cy="2408400"/>
              </a:xfrm>
              <a:custGeom>
                <a:avLst/>
                <a:gdLst/>
                <a:ahLst/>
                <a:rect l="l" t="t" r="r" b="b"/>
                <a:pathLst>
                  <a:path w="283" h="569">
                    <a:moveTo>
                      <a:pt x="0" y="0"/>
                    </a:moveTo>
                    <a:cubicBezTo>
                      <a:pt x="46" y="70"/>
                      <a:pt x="59" y="71"/>
                      <a:pt x="128" y="119"/>
                    </a:cubicBezTo>
                    <a:cubicBezTo>
                      <a:pt x="146" y="132"/>
                      <a:pt x="183" y="155"/>
                      <a:pt x="183" y="155"/>
                    </a:cubicBezTo>
                    <a:cubicBezTo>
                      <a:pt x="233" y="231"/>
                      <a:pt x="209" y="216"/>
                      <a:pt x="237" y="301"/>
                    </a:cubicBezTo>
                    <a:cubicBezTo>
                      <a:pt x="248" y="383"/>
                      <a:pt x="245" y="466"/>
                      <a:pt x="256" y="548"/>
                    </a:cubicBezTo>
                    <a:cubicBezTo>
                      <a:pt x="259" y="569"/>
                      <a:pt x="271" y="567"/>
                      <a:pt x="283" y="567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2" name=""/>
              <p:cNvGrpSpPr/>
              <p:nvPr/>
            </p:nvGrpSpPr>
            <p:grpSpPr>
              <a:xfrm>
                <a:off x="782640" y="8280360"/>
                <a:ext cx="3277080" cy="3269160"/>
                <a:chOff x="782640" y="8280360"/>
                <a:chExt cx="3277080" cy="326916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782640" y="8491320"/>
                  <a:ext cx="1281240" cy="2246760"/>
                </a:xfrm>
                <a:custGeom>
                  <a:avLst/>
                  <a:gdLst/>
                  <a:ahLst/>
                  <a:rect l="l" t="t" r="r" b="b"/>
                  <a:pathLst>
                    <a:path w="303" h="531">
                      <a:moveTo>
                        <a:pt x="303" y="0"/>
                      </a:moveTo>
                      <a:cubicBezTo>
                        <a:pt x="294" y="12"/>
                        <a:pt x="247" y="89"/>
                        <a:pt x="220" y="101"/>
                      </a:cubicBezTo>
                      <a:cubicBezTo>
                        <a:pt x="160" y="127"/>
                        <a:pt x="84" y="133"/>
                        <a:pt x="19" y="147"/>
                      </a:cubicBezTo>
                      <a:cubicBezTo>
                        <a:pt x="0" y="205"/>
                        <a:pt x="13" y="263"/>
                        <a:pt x="47" y="311"/>
                      </a:cubicBezTo>
                      <a:cubicBezTo>
                        <a:pt x="61" y="370"/>
                        <a:pt x="67" y="380"/>
                        <a:pt x="56" y="448"/>
                      </a:cubicBezTo>
                      <a:cubicBezTo>
                        <a:pt x="51" y="481"/>
                        <a:pt x="33" y="500"/>
                        <a:pt x="47" y="531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2004480" y="8280360"/>
                  <a:ext cx="1683360" cy="3045960"/>
                </a:xfrm>
                <a:custGeom>
                  <a:avLst/>
                  <a:gdLst/>
                  <a:ahLst/>
                  <a:rect l="l" t="t" r="r" b="b"/>
                  <a:pathLst>
                    <a:path w="481" h="384">
                      <a:moveTo>
                        <a:pt x="289" y="384"/>
                      </a:moveTo>
                      <a:cubicBezTo>
                        <a:pt x="333" y="369"/>
                        <a:pt x="426" y="357"/>
                        <a:pt x="426" y="357"/>
                      </a:cubicBezTo>
                      <a:cubicBezTo>
                        <a:pt x="462" y="332"/>
                        <a:pt x="470" y="327"/>
                        <a:pt x="481" y="284"/>
                      </a:cubicBezTo>
                      <a:cubicBezTo>
                        <a:pt x="475" y="258"/>
                        <a:pt x="473" y="187"/>
                        <a:pt x="444" y="174"/>
                      </a:cubicBezTo>
                      <a:cubicBezTo>
                        <a:pt x="402" y="155"/>
                        <a:pt x="353" y="162"/>
                        <a:pt x="307" y="156"/>
                      </a:cubicBezTo>
                      <a:cubicBezTo>
                        <a:pt x="222" y="145"/>
                        <a:pt x="136" y="139"/>
                        <a:pt x="51" y="128"/>
                      </a:cubicBezTo>
                      <a:cubicBezTo>
                        <a:pt x="0" y="94"/>
                        <a:pt x="15" y="67"/>
                        <a:pt x="60" y="37"/>
                      </a:cubicBezTo>
                      <a:cubicBezTo>
                        <a:pt x="124" y="40"/>
                        <a:pt x="188" y="41"/>
                        <a:pt x="252" y="46"/>
                      </a:cubicBezTo>
                      <a:cubicBezTo>
                        <a:pt x="262" y="47"/>
                        <a:pt x="273" y="62"/>
                        <a:pt x="280" y="55"/>
                      </a:cubicBezTo>
                      <a:cubicBezTo>
                        <a:pt x="294" y="41"/>
                        <a:pt x="298" y="0"/>
                        <a:pt x="298" y="0"/>
                      </a:cubicBezTo>
                      <a:cubicBezTo>
                        <a:pt x="304" y="9"/>
                        <a:pt x="316" y="28"/>
                        <a:pt x="316" y="28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2215440" y="8377200"/>
                  <a:ext cx="622440" cy="1857240"/>
                </a:xfrm>
                <a:custGeom>
                  <a:avLst/>
                  <a:gdLst/>
                  <a:ahLst/>
                  <a:rect l="l" t="t" r="r" b="b"/>
                  <a:pathLst>
                    <a:path w="147" h="439">
                      <a:moveTo>
                        <a:pt x="147" y="439"/>
                      </a:moveTo>
                      <a:cubicBezTo>
                        <a:pt x="104" y="425"/>
                        <a:pt x="61" y="416"/>
                        <a:pt x="19" y="402"/>
                      </a:cubicBezTo>
                      <a:cubicBezTo>
                        <a:pt x="0" y="350"/>
                        <a:pt x="7" y="327"/>
                        <a:pt x="55" y="311"/>
                      </a:cubicBezTo>
                      <a:cubicBezTo>
                        <a:pt x="72" y="284"/>
                        <a:pt x="92" y="264"/>
                        <a:pt x="110" y="238"/>
                      </a:cubicBezTo>
                      <a:cubicBezTo>
                        <a:pt x="128" y="164"/>
                        <a:pt x="124" y="198"/>
                        <a:pt x="110" y="73"/>
                      </a:cubicBezTo>
                      <a:cubicBezTo>
                        <a:pt x="107" y="48"/>
                        <a:pt x="92" y="25"/>
                        <a:pt x="92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2952000" y="8301240"/>
                  <a:ext cx="1107720" cy="3248280"/>
                </a:xfrm>
                <a:custGeom>
                  <a:avLst/>
                  <a:gdLst/>
                  <a:ahLst/>
                  <a:rect l="l" t="t" r="r" b="b"/>
                  <a:pathLst>
                    <a:path w="262" h="768">
                      <a:moveTo>
                        <a:pt x="201" y="768"/>
                      </a:moveTo>
                      <a:cubicBezTo>
                        <a:pt x="208" y="694"/>
                        <a:pt x="214" y="610"/>
                        <a:pt x="238" y="539"/>
                      </a:cubicBezTo>
                      <a:cubicBezTo>
                        <a:pt x="249" y="447"/>
                        <a:pt x="262" y="314"/>
                        <a:pt x="174" y="256"/>
                      </a:cubicBezTo>
                      <a:cubicBezTo>
                        <a:pt x="160" y="213"/>
                        <a:pt x="147" y="226"/>
                        <a:pt x="110" y="201"/>
                      </a:cubicBezTo>
                      <a:cubicBezTo>
                        <a:pt x="93" y="147"/>
                        <a:pt x="93" y="139"/>
                        <a:pt x="37" y="118"/>
                      </a:cubicBezTo>
                      <a:cubicBezTo>
                        <a:pt x="0" y="83"/>
                        <a:pt x="0" y="46"/>
                        <a:pt x="0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7" name=""/>
          <p:cNvSpPr/>
          <p:nvPr/>
        </p:nvSpPr>
        <p:spPr>
          <a:xfrm rot="16200000">
            <a:off x="2698920" y="4464000"/>
            <a:ext cx="622080" cy="144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781680" y="293364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08660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69608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77240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1629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162920" y="4610160"/>
            <a:ext cx="914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rot="9534600">
            <a:off x="6933960" y="262872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rot="11531400">
            <a:off x="7238520" y="262836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rot="13149000">
            <a:off x="73911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rot="14453400">
            <a:off x="76197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162920" y="53722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8580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7724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400800" y="4457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8381880" y="49150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467480" y="4229280"/>
            <a:ext cx="30492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362320" y="3733920"/>
            <a:ext cx="38088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789480" y="1828800"/>
            <a:ext cx="1824120" cy="4543560"/>
            <a:chOff x="789480" y="1828800"/>
            <a:chExt cx="1824120" cy="4543560"/>
          </a:xfrm>
        </p:grpSpPr>
        <p:grpSp>
          <p:nvGrpSpPr>
            <p:cNvPr id="950" name=""/>
            <p:cNvGrpSpPr/>
            <p:nvPr/>
          </p:nvGrpSpPr>
          <p:grpSpPr>
            <a:xfrm>
              <a:off x="789480" y="1828800"/>
              <a:ext cx="1824120" cy="3200400"/>
              <a:chOff x="789480" y="1828800"/>
              <a:chExt cx="1824120" cy="3200400"/>
            </a:xfrm>
          </p:grpSpPr>
          <p:sp>
            <p:nvSpPr>
              <p:cNvPr id="951" name=""/>
              <p:cNvSpPr/>
              <p:nvPr/>
            </p:nvSpPr>
            <p:spPr>
              <a:xfrm>
                <a:off x="914040" y="1828800"/>
                <a:ext cx="1600200" cy="2057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9351800">
                <a:off x="99000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925400">
                <a:off x="190404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218600" y="4114800"/>
                <a:ext cx="990720" cy="914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>
                <a:off x="1675800" y="3733560"/>
                <a:ext cx="76320" cy="533520"/>
              </a:xfrm>
              <a:prstGeom prst="line">
                <a:avLst/>
              </a:prstGeom>
              <a:ln w="1620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838080" y="4876920"/>
              <a:ext cx="1752480" cy="1495440"/>
              <a:chOff x="838080" y="4876920"/>
              <a:chExt cx="1752480" cy="1495440"/>
            </a:xfrm>
          </p:grpSpPr>
          <p:grpSp>
            <p:nvGrpSpPr>
              <p:cNvPr id="957" name=""/>
              <p:cNvGrpSpPr/>
              <p:nvPr/>
            </p:nvGrpSpPr>
            <p:grpSpPr>
              <a:xfrm>
                <a:off x="838080" y="5562720"/>
                <a:ext cx="1752480" cy="809640"/>
                <a:chOff x="838080" y="5562720"/>
                <a:chExt cx="1752480" cy="80964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1523880" y="59436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2209680" y="57150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523880" y="55627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838080" y="57913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81080" y="60199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988920" y="4876920"/>
                <a:ext cx="1438200" cy="1226880"/>
                <a:chOff x="988920" y="4876920"/>
                <a:chExt cx="1438200" cy="122688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1977840" y="4898880"/>
                  <a:ext cx="449280" cy="903600"/>
                </a:xfrm>
                <a:custGeom>
                  <a:avLst/>
                  <a:gdLst/>
                  <a:ahLst/>
                  <a:rect l="l" t="t" r="r" b="b"/>
                  <a:pathLst>
                    <a:path w="283" h="569">
                      <a:moveTo>
                        <a:pt x="0" y="0"/>
                      </a:moveTo>
                      <a:cubicBezTo>
                        <a:pt x="46" y="70"/>
                        <a:pt x="59" y="71"/>
                        <a:pt x="128" y="119"/>
                      </a:cubicBezTo>
                      <a:cubicBezTo>
                        <a:pt x="146" y="132"/>
                        <a:pt x="183" y="155"/>
                        <a:pt x="183" y="155"/>
                      </a:cubicBezTo>
                      <a:cubicBezTo>
                        <a:pt x="233" y="231"/>
                        <a:pt x="209" y="216"/>
                        <a:pt x="237" y="301"/>
                      </a:cubicBezTo>
                      <a:cubicBezTo>
                        <a:pt x="248" y="383"/>
                        <a:pt x="245" y="466"/>
                        <a:pt x="256" y="548"/>
                      </a:cubicBezTo>
                      <a:cubicBezTo>
                        <a:pt x="259" y="569"/>
                        <a:pt x="271" y="567"/>
                        <a:pt x="283" y="567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5" name=""/>
                <p:cNvGrpSpPr/>
                <p:nvPr/>
              </p:nvGrpSpPr>
              <p:grpSpPr>
                <a:xfrm>
                  <a:off x="988920" y="4876920"/>
                  <a:ext cx="1230120" cy="1226880"/>
                  <a:chOff x="988920" y="4876920"/>
                  <a:chExt cx="1230120" cy="122688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988920" y="4956120"/>
                    <a:ext cx="480960" cy="84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531">
                        <a:moveTo>
                          <a:pt x="303" y="0"/>
                        </a:moveTo>
                        <a:cubicBezTo>
                          <a:pt x="294" y="12"/>
                          <a:pt x="247" y="89"/>
                          <a:pt x="220" y="101"/>
                        </a:cubicBezTo>
                        <a:cubicBezTo>
                          <a:pt x="160" y="127"/>
                          <a:pt x="84" y="133"/>
                          <a:pt x="19" y="147"/>
                        </a:cubicBezTo>
                        <a:cubicBezTo>
                          <a:pt x="0" y="205"/>
                          <a:pt x="13" y="263"/>
                          <a:pt x="47" y="311"/>
                        </a:cubicBezTo>
                        <a:cubicBezTo>
                          <a:pt x="61" y="370"/>
                          <a:pt x="67" y="380"/>
                          <a:pt x="56" y="448"/>
                        </a:cubicBezTo>
                        <a:cubicBezTo>
                          <a:pt x="51" y="481"/>
                          <a:pt x="33" y="500"/>
                          <a:pt x="47" y="531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447560" y="4876920"/>
                    <a:ext cx="631800" cy="11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384">
                        <a:moveTo>
                          <a:pt x="289" y="384"/>
                        </a:moveTo>
                        <a:cubicBezTo>
                          <a:pt x="333" y="369"/>
                          <a:pt x="426" y="357"/>
                          <a:pt x="426" y="357"/>
                        </a:cubicBezTo>
                        <a:cubicBezTo>
                          <a:pt x="462" y="332"/>
                          <a:pt x="470" y="327"/>
                          <a:pt x="481" y="284"/>
                        </a:cubicBezTo>
                        <a:cubicBezTo>
                          <a:pt x="475" y="258"/>
                          <a:pt x="473" y="187"/>
                          <a:pt x="444" y="174"/>
                        </a:cubicBezTo>
                        <a:cubicBezTo>
                          <a:pt x="402" y="155"/>
                          <a:pt x="353" y="162"/>
                          <a:pt x="307" y="156"/>
                        </a:cubicBezTo>
                        <a:cubicBezTo>
                          <a:pt x="222" y="145"/>
                          <a:pt x="136" y="139"/>
                          <a:pt x="51" y="128"/>
                        </a:cubicBezTo>
                        <a:cubicBezTo>
                          <a:pt x="0" y="94"/>
                          <a:pt x="15" y="67"/>
                          <a:pt x="60" y="37"/>
                        </a:cubicBezTo>
                        <a:cubicBezTo>
                          <a:pt x="124" y="40"/>
                          <a:pt x="188" y="41"/>
                          <a:pt x="252" y="46"/>
                        </a:cubicBezTo>
                        <a:cubicBezTo>
                          <a:pt x="262" y="47"/>
                          <a:pt x="273" y="62"/>
                          <a:pt x="280" y="55"/>
                        </a:cubicBezTo>
                        <a:cubicBezTo>
                          <a:pt x="294" y="41"/>
                          <a:pt x="298" y="0"/>
                          <a:pt x="298" y="0"/>
                        </a:cubicBezTo>
                        <a:cubicBezTo>
                          <a:pt x="304" y="9"/>
                          <a:pt x="316" y="28"/>
                          <a:pt x="316" y="2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1526760" y="4913280"/>
                    <a:ext cx="233640" cy="69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439">
                        <a:moveTo>
                          <a:pt x="147" y="439"/>
                        </a:moveTo>
                        <a:cubicBezTo>
                          <a:pt x="104" y="425"/>
                          <a:pt x="61" y="416"/>
                          <a:pt x="19" y="402"/>
                        </a:cubicBezTo>
                        <a:cubicBezTo>
                          <a:pt x="0" y="350"/>
                          <a:pt x="7" y="327"/>
                          <a:pt x="55" y="311"/>
                        </a:cubicBezTo>
                        <a:cubicBezTo>
                          <a:pt x="72" y="284"/>
                          <a:pt x="92" y="264"/>
                          <a:pt x="110" y="238"/>
                        </a:cubicBezTo>
                        <a:cubicBezTo>
                          <a:pt x="128" y="164"/>
                          <a:pt x="124" y="198"/>
                          <a:pt x="110" y="73"/>
                        </a:cubicBezTo>
                        <a:cubicBezTo>
                          <a:pt x="107" y="48"/>
                          <a:pt x="92" y="25"/>
                          <a:pt x="92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803240" y="4884840"/>
                    <a:ext cx="415800" cy="12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768">
                        <a:moveTo>
                          <a:pt x="201" y="768"/>
                        </a:moveTo>
                        <a:cubicBezTo>
                          <a:pt x="208" y="694"/>
                          <a:pt x="214" y="610"/>
                          <a:pt x="238" y="539"/>
                        </a:cubicBezTo>
                        <a:cubicBezTo>
                          <a:pt x="249" y="447"/>
                          <a:pt x="262" y="314"/>
                          <a:pt x="174" y="256"/>
                        </a:cubicBezTo>
                        <a:cubicBezTo>
                          <a:pt x="160" y="213"/>
                          <a:pt x="147" y="226"/>
                          <a:pt x="110" y="201"/>
                        </a:cubicBezTo>
                        <a:cubicBezTo>
                          <a:pt x="93" y="147"/>
                          <a:pt x="93" y="139"/>
                          <a:pt x="37" y="118"/>
                        </a:cubicBezTo>
                        <a:cubicBezTo>
                          <a:pt x="0" y="83"/>
                          <a:pt x="0" y="46"/>
                          <a:pt x="0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70" name=""/>
          <p:cNvSpPr/>
          <p:nvPr/>
        </p:nvSpPr>
        <p:spPr>
          <a:xfrm rot="16200000">
            <a:off x="1615320" y="3337560"/>
            <a:ext cx="32832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685800" y="4010040"/>
            <a:ext cx="1846080" cy="838080"/>
            <a:chOff x="685800" y="4010040"/>
            <a:chExt cx="1846080" cy="838080"/>
          </a:xfrm>
        </p:grpSpPr>
        <p:sp>
          <p:nvSpPr>
            <p:cNvPr id="972" name=""/>
            <p:cNvSpPr/>
            <p:nvPr/>
          </p:nvSpPr>
          <p:spPr>
            <a:xfrm>
              <a:off x="685800" y="4495680"/>
              <a:ext cx="380880" cy="3524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68560" y="4010040"/>
              <a:ext cx="46332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0" y="283"/>
                  </a:moveTo>
                  <a:cubicBezTo>
                    <a:pt x="62" y="292"/>
                    <a:pt x="87" y="286"/>
                    <a:pt x="146" y="274"/>
                  </a:cubicBezTo>
                  <a:cubicBezTo>
                    <a:pt x="175" y="255"/>
                    <a:pt x="217" y="229"/>
                    <a:pt x="238" y="201"/>
                  </a:cubicBezTo>
                  <a:cubicBezTo>
                    <a:pt x="251" y="183"/>
                    <a:pt x="274" y="146"/>
                    <a:pt x="274" y="146"/>
                  </a:cubicBezTo>
                  <a:cubicBezTo>
                    <a:pt x="292" y="74"/>
                    <a:pt x="283" y="122"/>
                    <a:pt x="283" y="0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92080" y="4300560"/>
              <a:ext cx="493560" cy="288720"/>
            </a:xfrm>
            <a:custGeom>
              <a:avLst/>
              <a:gdLst/>
              <a:ahLst/>
              <a:rect l="l" t="t" r="r" b="b"/>
              <a:pathLst>
                <a:path w="311" h="182">
                  <a:moveTo>
                    <a:pt x="311" y="27"/>
                  </a:moveTo>
                  <a:cubicBezTo>
                    <a:pt x="261" y="10"/>
                    <a:pt x="208" y="8"/>
                    <a:pt x="156" y="0"/>
                  </a:cubicBezTo>
                  <a:cubicBezTo>
                    <a:pt x="109" y="8"/>
                    <a:pt x="84" y="10"/>
                    <a:pt x="46" y="36"/>
                  </a:cubicBezTo>
                  <a:cubicBezTo>
                    <a:pt x="17" y="81"/>
                    <a:pt x="0" y="129"/>
                    <a:pt x="0" y="182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19112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19112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34340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56272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88620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4100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2670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34340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12408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rot="21314400">
            <a:off x="601956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952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02920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133720" y="152280"/>
            <a:ext cx="6553080" cy="2895840"/>
          </a:xfrm>
          <a:prstGeom prst="wedgeEllipseCallout">
            <a:avLst>
              <a:gd name="adj1" fmla="val -41328"/>
              <a:gd name="adj2" fmla="val 658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s just cruisin’ by, faster than the speed of light, when I thought I heard you s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6200000">
            <a:off x="4701240" y="2841840"/>
            <a:ext cx="328680" cy="892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5181480" y="304920"/>
            <a:ext cx="3810240" cy="2133360"/>
          </a:xfrm>
          <a:prstGeom prst="wedgeEllipseCallout">
            <a:avLst>
              <a:gd name="adj1" fmla="val -63625"/>
              <a:gd name="adj2" fmla="val 161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me to your lead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438280" y="2514600"/>
            <a:ext cx="38124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84280" y="152280"/>
            <a:ext cx="4265640" cy="5486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rot="19351800">
            <a:off x="1219320" y="2437920"/>
            <a:ext cx="140472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rot="1925400">
            <a:off x="3223800" y="2387520"/>
            <a:ext cx="140508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397160" y="6248520"/>
            <a:ext cx="2639880" cy="2438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2616120" y="5232240"/>
            <a:ext cx="201600" cy="1422720"/>
          </a:xfrm>
          <a:prstGeom prst="line">
            <a:avLst/>
          </a:prstGeom>
          <a:ln w="16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380880" y="8280360"/>
            <a:ext cx="4670280" cy="3985920"/>
            <a:chOff x="380880" y="8280360"/>
            <a:chExt cx="4670280" cy="3985920"/>
          </a:xfrm>
        </p:grpSpPr>
        <p:grpSp>
          <p:nvGrpSpPr>
            <p:cNvPr id="1002" name=""/>
            <p:cNvGrpSpPr/>
            <p:nvPr/>
          </p:nvGrpSpPr>
          <p:grpSpPr>
            <a:xfrm>
              <a:off x="380880" y="10108800"/>
              <a:ext cx="4670280" cy="2157480"/>
              <a:chOff x="380880" y="10108800"/>
              <a:chExt cx="4670280" cy="2157480"/>
            </a:xfrm>
          </p:grpSpPr>
          <p:sp>
            <p:nvSpPr>
              <p:cNvPr id="1003" name=""/>
              <p:cNvSpPr/>
              <p:nvPr/>
            </p:nvSpPr>
            <p:spPr>
              <a:xfrm>
                <a:off x="2208600" y="111236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036320" y="105145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208600" y="1010880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80880" y="107179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427200" y="113270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782640" y="8280360"/>
              <a:ext cx="3832920" cy="3269160"/>
              <a:chOff x="782640" y="8280360"/>
              <a:chExt cx="3832920" cy="3269160"/>
            </a:xfrm>
          </p:grpSpPr>
          <p:sp>
            <p:nvSpPr>
              <p:cNvPr id="1009" name=""/>
              <p:cNvSpPr/>
              <p:nvPr/>
            </p:nvSpPr>
            <p:spPr>
              <a:xfrm>
                <a:off x="3418200" y="8338680"/>
                <a:ext cx="1197360" cy="2408400"/>
              </a:xfrm>
              <a:custGeom>
                <a:avLst/>
                <a:gdLst/>
                <a:ahLst/>
                <a:rect l="l" t="t" r="r" b="b"/>
                <a:pathLst>
                  <a:path w="283" h="569">
                    <a:moveTo>
                      <a:pt x="0" y="0"/>
                    </a:moveTo>
                    <a:cubicBezTo>
                      <a:pt x="46" y="70"/>
                      <a:pt x="59" y="71"/>
                      <a:pt x="128" y="119"/>
                    </a:cubicBezTo>
                    <a:cubicBezTo>
                      <a:pt x="146" y="132"/>
                      <a:pt x="183" y="155"/>
                      <a:pt x="183" y="155"/>
                    </a:cubicBezTo>
                    <a:cubicBezTo>
                      <a:pt x="233" y="231"/>
                      <a:pt x="209" y="216"/>
                      <a:pt x="237" y="301"/>
                    </a:cubicBezTo>
                    <a:cubicBezTo>
                      <a:pt x="248" y="383"/>
                      <a:pt x="245" y="466"/>
                      <a:pt x="256" y="548"/>
                    </a:cubicBezTo>
                    <a:cubicBezTo>
                      <a:pt x="259" y="569"/>
                      <a:pt x="271" y="567"/>
                      <a:pt x="283" y="567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"/>
              <p:cNvGrpSpPr/>
              <p:nvPr/>
            </p:nvGrpSpPr>
            <p:grpSpPr>
              <a:xfrm>
                <a:off x="782640" y="8280360"/>
                <a:ext cx="3277080" cy="3269160"/>
                <a:chOff x="782640" y="8280360"/>
                <a:chExt cx="3277080" cy="326916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782640" y="8491320"/>
                  <a:ext cx="1281240" cy="2246760"/>
                </a:xfrm>
                <a:custGeom>
                  <a:avLst/>
                  <a:gdLst/>
                  <a:ahLst/>
                  <a:rect l="l" t="t" r="r" b="b"/>
                  <a:pathLst>
                    <a:path w="303" h="531">
                      <a:moveTo>
                        <a:pt x="303" y="0"/>
                      </a:moveTo>
                      <a:cubicBezTo>
                        <a:pt x="294" y="12"/>
                        <a:pt x="247" y="89"/>
                        <a:pt x="220" y="101"/>
                      </a:cubicBezTo>
                      <a:cubicBezTo>
                        <a:pt x="160" y="127"/>
                        <a:pt x="84" y="133"/>
                        <a:pt x="19" y="147"/>
                      </a:cubicBezTo>
                      <a:cubicBezTo>
                        <a:pt x="0" y="205"/>
                        <a:pt x="13" y="263"/>
                        <a:pt x="47" y="311"/>
                      </a:cubicBezTo>
                      <a:cubicBezTo>
                        <a:pt x="61" y="370"/>
                        <a:pt x="67" y="380"/>
                        <a:pt x="56" y="448"/>
                      </a:cubicBezTo>
                      <a:cubicBezTo>
                        <a:pt x="51" y="481"/>
                        <a:pt x="33" y="500"/>
                        <a:pt x="47" y="531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2004480" y="8280360"/>
                  <a:ext cx="1683360" cy="3045960"/>
                </a:xfrm>
                <a:custGeom>
                  <a:avLst/>
                  <a:gdLst/>
                  <a:ahLst/>
                  <a:rect l="l" t="t" r="r" b="b"/>
                  <a:pathLst>
                    <a:path w="481" h="384">
                      <a:moveTo>
                        <a:pt x="289" y="384"/>
                      </a:moveTo>
                      <a:cubicBezTo>
                        <a:pt x="333" y="369"/>
                        <a:pt x="426" y="357"/>
                        <a:pt x="426" y="357"/>
                      </a:cubicBezTo>
                      <a:cubicBezTo>
                        <a:pt x="462" y="332"/>
                        <a:pt x="470" y="327"/>
                        <a:pt x="481" y="284"/>
                      </a:cubicBezTo>
                      <a:cubicBezTo>
                        <a:pt x="475" y="258"/>
                        <a:pt x="473" y="187"/>
                        <a:pt x="444" y="174"/>
                      </a:cubicBezTo>
                      <a:cubicBezTo>
                        <a:pt x="402" y="155"/>
                        <a:pt x="353" y="162"/>
                        <a:pt x="307" y="156"/>
                      </a:cubicBezTo>
                      <a:cubicBezTo>
                        <a:pt x="222" y="145"/>
                        <a:pt x="136" y="139"/>
                        <a:pt x="51" y="128"/>
                      </a:cubicBezTo>
                      <a:cubicBezTo>
                        <a:pt x="0" y="94"/>
                        <a:pt x="15" y="67"/>
                        <a:pt x="60" y="37"/>
                      </a:cubicBezTo>
                      <a:cubicBezTo>
                        <a:pt x="124" y="40"/>
                        <a:pt x="188" y="41"/>
                        <a:pt x="252" y="46"/>
                      </a:cubicBezTo>
                      <a:cubicBezTo>
                        <a:pt x="262" y="47"/>
                        <a:pt x="273" y="62"/>
                        <a:pt x="280" y="55"/>
                      </a:cubicBezTo>
                      <a:cubicBezTo>
                        <a:pt x="294" y="41"/>
                        <a:pt x="298" y="0"/>
                        <a:pt x="298" y="0"/>
                      </a:cubicBezTo>
                      <a:cubicBezTo>
                        <a:pt x="304" y="9"/>
                        <a:pt x="316" y="28"/>
                        <a:pt x="316" y="28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2215440" y="8377200"/>
                  <a:ext cx="622440" cy="1857240"/>
                </a:xfrm>
                <a:custGeom>
                  <a:avLst/>
                  <a:gdLst/>
                  <a:ahLst/>
                  <a:rect l="l" t="t" r="r" b="b"/>
                  <a:pathLst>
                    <a:path w="147" h="439">
                      <a:moveTo>
                        <a:pt x="147" y="439"/>
                      </a:moveTo>
                      <a:cubicBezTo>
                        <a:pt x="104" y="425"/>
                        <a:pt x="61" y="416"/>
                        <a:pt x="19" y="402"/>
                      </a:cubicBezTo>
                      <a:cubicBezTo>
                        <a:pt x="0" y="350"/>
                        <a:pt x="7" y="327"/>
                        <a:pt x="55" y="311"/>
                      </a:cubicBezTo>
                      <a:cubicBezTo>
                        <a:pt x="72" y="284"/>
                        <a:pt x="92" y="264"/>
                        <a:pt x="110" y="238"/>
                      </a:cubicBezTo>
                      <a:cubicBezTo>
                        <a:pt x="128" y="164"/>
                        <a:pt x="124" y="198"/>
                        <a:pt x="110" y="73"/>
                      </a:cubicBezTo>
                      <a:cubicBezTo>
                        <a:pt x="107" y="48"/>
                        <a:pt x="92" y="25"/>
                        <a:pt x="92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2952000" y="8301240"/>
                  <a:ext cx="1107720" cy="3248280"/>
                </a:xfrm>
                <a:custGeom>
                  <a:avLst/>
                  <a:gdLst/>
                  <a:ahLst/>
                  <a:rect l="l" t="t" r="r" b="b"/>
                  <a:pathLst>
                    <a:path w="262" h="768">
                      <a:moveTo>
                        <a:pt x="201" y="768"/>
                      </a:moveTo>
                      <a:cubicBezTo>
                        <a:pt x="208" y="694"/>
                        <a:pt x="214" y="610"/>
                        <a:pt x="238" y="539"/>
                      </a:cubicBezTo>
                      <a:cubicBezTo>
                        <a:pt x="249" y="447"/>
                        <a:pt x="262" y="314"/>
                        <a:pt x="174" y="256"/>
                      </a:cubicBezTo>
                      <a:cubicBezTo>
                        <a:pt x="160" y="213"/>
                        <a:pt x="147" y="226"/>
                        <a:pt x="110" y="201"/>
                      </a:cubicBezTo>
                      <a:cubicBezTo>
                        <a:pt x="93" y="147"/>
                        <a:pt x="93" y="139"/>
                        <a:pt x="37" y="118"/>
                      </a:cubicBezTo>
                      <a:cubicBezTo>
                        <a:pt x="0" y="83"/>
                        <a:pt x="0" y="46"/>
                        <a:pt x="0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5" name=""/>
          <p:cNvSpPr/>
          <p:nvPr/>
        </p:nvSpPr>
        <p:spPr>
          <a:xfrm rot="16200000">
            <a:off x="2698920" y="4464000"/>
            <a:ext cx="622080" cy="144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477120" y="3352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rot="16200000">
            <a:off x="6514920" y="42285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1814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80880" y="304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57400" y="1676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33720" y="2133720"/>
            <a:ext cx="30456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rot="16200000">
            <a:off x="1866960" y="2933640"/>
            <a:ext cx="38088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72" y="3076"/>
                  <a:pt x="17144" y="5080"/>
                  <a:pt x="17144" y="10800"/>
                </a:cubicBezTo>
                <a:cubicBezTo>
                  <a:pt x="17144" y="16520"/>
                  <a:pt x="19372" y="185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3520" y="1676520"/>
            <a:ext cx="121896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09480" y="2133720"/>
            <a:ext cx="30492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85800" y="4038480"/>
            <a:ext cx="3048120" cy="2819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2286000" y="456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2362320" y="76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572000" y="533520"/>
            <a:ext cx="3733920" cy="4647960"/>
          </a:xfrm>
          <a:prstGeom prst="wedgeEllipseCallout">
            <a:avLst>
              <a:gd name="adj1" fmla="val -68708"/>
              <a:gd name="adj2" fmla="val 12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a! Better check your scanner screen.  We’re not on the Starship Enterp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477120" y="3352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rot="16200000">
            <a:off x="6514920" y="42285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1814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80880" y="304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676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133720" y="2133720"/>
            <a:ext cx="30456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rot="16200000">
            <a:off x="1866960" y="2933640"/>
            <a:ext cx="38088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72" y="3076"/>
                  <a:pt x="17144" y="5080"/>
                  <a:pt x="17144" y="10800"/>
                </a:cubicBezTo>
                <a:cubicBezTo>
                  <a:pt x="17144" y="16520"/>
                  <a:pt x="19372" y="185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1676520"/>
            <a:ext cx="121896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09480" y="2133720"/>
            <a:ext cx="30492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5800" y="4038480"/>
            <a:ext cx="3048120" cy="2819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2286000" y="456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2362320" y="76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914400" y="304920"/>
            <a:ext cx="3733920" cy="4952880"/>
          </a:xfrm>
          <a:prstGeom prst="wedgeEllipseCallout">
            <a:avLst>
              <a:gd name="adj1" fmla="val 74828"/>
              <a:gd name="adj2" fmla="val 39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way! We’re just a couple kids playin’ a little game over here on the planet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40384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3828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7432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27432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2339280" y="2613960"/>
            <a:ext cx="404640" cy="1272960"/>
          </a:xfrm>
          <a:custGeom>
            <a:avLst/>
            <a:gdLst>
              <a:gd name="textAreaLeft" fmla="*/ 149400 w 404640"/>
              <a:gd name="textAreaRight" fmla="*/ 273600 w 404640"/>
              <a:gd name="textAreaTop" fmla="*/ 142560 h 1272960"/>
              <a:gd name="textAreaBottom" fmla="*/ 1130400 h 127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03" y="2620"/>
                  <a:pt x="14606" y="5080"/>
                  <a:pt x="14606" y="10800"/>
                </a:cubicBezTo>
                <a:cubicBezTo>
                  <a:pt x="14606" y="16520"/>
                  <a:pt x="18103" y="189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33360" y="1600200"/>
            <a:ext cx="5331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28600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97180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3657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365760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6187320" y="4099320"/>
            <a:ext cx="32868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4648320"/>
            <a:ext cx="9144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9534600">
            <a:off x="5638320" y="266688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1531400">
            <a:off x="5943240" y="266652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3149000">
            <a:off x="6095520" y="259020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4453400">
            <a:off x="6324480" y="259020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54100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4952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86600" y="47242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838080"/>
            <a:ext cx="2971800" cy="1524240"/>
          </a:xfrm>
          <a:prstGeom prst="wedgeEllipseCallout">
            <a:avLst>
              <a:gd name="adj1" fmla="val -35898"/>
              <a:gd name="adj2" fmla="val 6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y,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low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5.55112E-017 -0.2 E">
                                      <p:cBhvr>
                                        <p:cTn id="53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 -0.1 E">
                                      <p:cBhvr>
                                        <p:cTn id="59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477120" y="3352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rot="16200000">
            <a:off x="6514920" y="42285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1814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0880" y="304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057400" y="1676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133720" y="2133720"/>
            <a:ext cx="30456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rot="16200000">
            <a:off x="1866960" y="2933640"/>
            <a:ext cx="38088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72" y="3076"/>
                  <a:pt x="17144" y="5080"/>
                  <a:pt x="17144" y="10800"/>
                </a:cubicBezTo>
                <a:cubicBezTo>
                  <a:pt x="17144" y="16520"/>
                  <a:pt x="19372" y="185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676520"/>
            <a:ext cx="121896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09480" y="2133720"/>
            <a:ext cx="30492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85800" y="4038480"/>
            <a:ext cx="3048120" cy="2819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2286000" y="456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2362320" y="76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4419720"/>
            <a:ext cx="3733560" cy="2133360"/>
          </a:xfrm>
          <a:prstGeom prst="wedgeEllipseCallout">
            <a:avLst>
              <a:gd name="adj1" fmla="val -28912"/>
              <a:gd name="adj2" fmla="val -607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ah! Ya wanna p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6400800" y="2404080"/>
            <a:ext cx="2438280" cy="3729960"/>
            <a:chOff x="6400800" y="2404080"/>
            <a:chExt cx="2438280" cy="3729960"/>
          </a:xfrm>
        </p:grpSpPr>
        <p:sp>
          <p:nvSpPr>
            <p:cNvPr id="1086" name=""/>
            <p:cNvSpPr/>
            <p:nvPr/>
          </p:nvSpPr>
          <p:spPr>
            <a:xfrm>
              <a:off x="6781680" y="2933640"/>
              <a:ext cx="1676520" cy="167652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086600" y="361944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696080" y="3619440"/>
              <a:ext cx="53352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772400" y="3695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62560" y="36957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162560" y="4610160"/>
              <a:ext cx="91440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9534600">
              <a:off x="6933600" y="262872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11531400">
              <a:off x="7238520" y="262836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3149000">
              <a:off x="7390800" y="2552040"/>
              <a:ext cx="685800" cy="60948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14453400">
              <a:off x="7619760" y="255204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162560" y="5371920"/>
              <a:ext cx="91440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858000" y="613404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772400" y="613404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400800" y="445752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381880" y="491472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772400" y="4228920"/>
              <a:ext cx="304560" cy="2286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1219320" y="152280"/>
            <a:ext cx="3504960" cy="1447920"/>
          </a:xfrm>
          <a:prstGeom prst="wedgeEllipseCallout">
            <a:avLst>
              <a:gd name="adj1" fmla="val 23458"/>
              <a:gd name="adj2" fmla="val 983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y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low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362320" y="3733920"/>
            <a:ext cx="38088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685800" y="1828800"/>
            <a:ext cx="1927800" cy="4542120"/>
            <a:chOff x="685800" y="1828800"/>
            <a:chExt cx="1927800" cy="4542120"/>
          </a:xfrm>
        </p:grpSpPr>
        <p:grpSp>
          <p:nvGrpSpPr>
            <p:cNvPr id="1106" name=""/>
            <p:cNvGrpSpPr/>
            <p:nvPr/>
          </p:nvGrpSpPr>
          <p:grpSpPr>
            <a:xfrm>
              <a:off x="789480" y="1828800"/>
              <a:ext cx="1824120" cy="4542120"/>
              <a:chOff x="789480" y="1828800"/>
              <a:chExt cx="1824120" cy="4542120"/>
            </a:xfrm>
          </p:grpSpPr>
          <p:grpSp>
            <p:nvGrpSpPr>
              <p:cNvPr id="1107" name=""/>
              <p:cNvGrpSpPr/>
              <p:nvPr/>
            </p:nvGrpSpPr>
            <p:grpSpPr>
              <a:xfrm>
                <a:off x="789480" y="1828800"/>
                <a:ext cx="1824120" cy="4542120"/>
                <a:chOff x="789480" y="1828800"/>
                <a:chExt cx="1824120" cy="4542120"/>
              </a:xfrm>
            </p:grpSpPr>
            <p:grpSp>
              <p:nvGrpSpPr>
                <p:cNvPr id="1108" name=""/>
                <p:cNvGrpSpPr/>
                <p:nvPr/>
              </p:nvGrpSpPr>
              <p:grpSpPr>
                <a:xfrm>
                  <a:off x="789480" y="1828800"/>
                  <a:ext cx="1824120" cy="3199680"/>
                  <a:chOff x="789480" y="1828800"/>
                  <a:chExt cx="1824120" cy="3199680"/>
                </a:xfrm>
              </p:grpSpPr>
              <p:sp>
                <p:nvSpPr>
                  <p:cNvPr id="1109" name=""/>
                  <p:cNvSpPr/>
                  <p:nvPr/>
                </p:nvSpPr>
                <p:spPr>
                  <a:xfrm>
                    <a:off x="914040" y="1828800"/>
                    <a:ext cx="1600200" cy="20570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 rot="19351800">
                    <a:off x="989640" y="2666160"/>
                    <a:ext cx="527040" cy="83772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rot="1925400">
                    <a:off x="1904400" y="2666520"/>
                    <a:ext cx="527040" cy="83772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1218600" y="4114440"/>
                    <a:ext cx="990720" cy="9140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 flipH="1">
                    <a:off x="1675800" y="3733200"/>
                    <a:ext cx="76320" cy="533160"/>
                  </a:xfrm>
                  <a:prstGeom prst="line">
                    <a:avLst/>
                  </a:prstGeom>
                  <a:ln w="1620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4" name=""/>
                <p:cNvGrpSpPr/>
                <p:nvPr/>
              </p:nvGrpSpPr>
              <p:grpSpPr>
                <a:xfrm>
                  <a:off x="838080" y="4876560"/>
                  <a:ext cx="1752480" cy="1494360"/>
                  <a:chOff x="838080" y="4876560"/>
                  <a:chExt cx="1752480" cy="1494360"/>
                </a:xfrm>
              </p:grpSpPr>
              <p:grpSp>
                <p:nvGrpSpPr>
                  <p:cNvPr id="1115" name=""/>
                  <p:cNvGrpSpPr/>
                  <p:nvPr/>
                </p:nvGrpSpPr>
                <p:grpSpPr>
                  <a:xfrm>
                    <a:off x="838080" y="5562000"/>
                    <a:ext cx="1752480" cy="808920"/>
                    <a:chOff x="838080" y="5562000"/>
                    <a:chExt cx="1752480" cy="808920"/>
                  </a:xfrm>
                </p:grpSpPr>
                <p:sp>
                  <p:nvSpPr>
                    <p:cNvPr id="1116" name=""/>
                    <p:cNvSpPr/>
                    <p:nvPr/>
                  </p:nvSpPr>
                  <p:spPr>
                    <a:xfrm>
                      <a:off x="1523880" y="5942520"/>
                      <a:ext cx="380880" cy="3520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7" name=""/>
                    <p:cNvSpPr/>
                    <p:nvPr/>
                  </p:nvSpPr>
                  <p:spPr>
                    <a:xfrm>
                      <a:off x="2209680" y="5713920"/>
                      <a:ext cx="380880" cy="3520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>
                      <a:off x="1523880" y="5562000"/>
                      <a:ext cx="380880" cy="3520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9" name=""/>
                    <p:cNvSpPr/>
                    <p:nvPr/>
                  </p:nvSpPr>
                  <p:spPr>
                    <a:xfrm>
                      <a:off x="838080" y="5790240"/>
                      <a:ext cx="380880" cy="3520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>
                      <a:off x="1981080" y="6018840"/>
                      <a:ext cx="380880" cy="3520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1" name=""/>
                  <p:cNvGrpSpPr/>
                  <p:nvPr/>
                </p:nvGrpSpPr>
                <p:grpSpPr>
                  <a:xfrm>
                    <a:off x="988920" y="4876560"/>
                    <a:ext cx="1438200" cy="1226160"/>
                    <a:chOff x="988920" y="4876560"/>
                    <a:chExt cx="1438200" cy="1226160"/>
                  </a:xfrm>
                </p:grpSpPr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1977840" y="4898160"/>
                      <a:ext cx="449280" cy="90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3" h="569">
                          <a:moveTo>
                            <a:pt x="0" y="0"/>
                          </a:moveTo>
                          <a:cubicBezTo>
                            <a:pt x="46" y="70"/>
                            <a:pt x="59" y="71"/>
                            <a:pt x="128" y="119"/>
                          </a:cubicBezTo>
                          <a:cubicBezTo>
                            <a:pt x="146" y="132"/>
                            <a:pt x="183" y="155"/>
                            <a:pt x="183" y="155"/>
                          </a:cubicBezTo>
                          <a:cubicBezTo>
                            <a:pt x="233" y="231"/>
                            <a:pt x="209" y="216"/>
                            <a:pt x="237" y="301"/>
                          </a:cubicBezTo>
                          <a:cubicBezTo>
                            <a:pt x="248" y="383"/>
                            <a:pt x="245" y="466"/>
                            <a:pt x="256" y="548"/>
                          </a:cubicBezTo>
                          <a:cubicBezTo>
                            <a:pt x="259" y="569"/>
                            <a:pt x="271" y="567"/>
                            <a:pt x="283" y="567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00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23" name=""/>
                    <p:cNvGrpSpPr/>
                    <p:nvPr/>
                  </p:nvGrpSpPr>
                  <p:grpSpPr>
                    <a:xfrm>
                      <a:off x="988920" y="4876560"/>
                      <a:ext cx="1230120" cy="1226160"/>
                      <a:chOff x="988920" y="4876560"/>
                      <a:chExt cx="1230120" cy="1226160"/>
                    </a:xfrm>
                  </p:grpSpPr>
                  <p:sp>
                    <p:nvSpPr>
                      <p:cNvPr id="1124" name=""/>
                      <p:cNvSpPr/>
                      <p:nvPr/>
                    </p:nvSpPr>
                    <p:spPr>
                      <a:xfrm>
                        <a:off x="988920" y="4955400"/>
                        <a:ext cx="480960" cy="84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3" h="531">
                            <a:moveTo>
                              <a:pt x="303" y="0"/>
                            </a:moveTo>
                            <a:cubicBezTo>
                              <a:pt x="294" y="12"/>
                              <a:pt x="247" y="89"/>
                              <a:pt x="220" y="101"/>
                            </a:cubicBezTo>
                            <a:cubicBezTo>
                              <a:pt x="160" y="127"/>
                              <a:pt x="84" y="133"/>
                              <a:pt x="19" y="147"/>
                            </a:cubicBezTo>
                            <a:cubicBezTo>
                              <a:pt x="0" y="205"/>
                              <a:pt x="13" y="263"/>
                              <a:pt x="47" y="311"/>
                            </a:cubicBezTo>
                            <a:cubicBezTo>
                              <a:pt x="61" y="370"/>
                              <a:pt x="67" y="380"/>
                              <a:pt x="56" y="448"/>
                            </a:cubicBezTo>
                            <a:cubicBezTo>
                              <a:pt x="51" y="481"/>
                              <a:pt x="33" y="500"/>
                              <a:pt x="47" y="531"/>
                            </a:cubicBezTo>
                          </a:path>
                        </a:pathLst>
                      </a:custGeom>
                      <a:noFill/>
                      <a:ln w="76320">
                        <a:solidFill>
                          <a:srgbClr val="00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5" name=""/>
                      <p:cNvSpPr/>
                      <p:nvPr/>
                    </p:nvSpPr>
                    <p:spPr>
                      <a:xfrm>
                        <a:off x="1447560" y="4876560"/>
                        <a:ext cx="631800" cy="114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1" h="384">
                            <a:moveTo>
                              <a:pt x="289" y="384"/>
                            </a:moveTo>
                            <a:cubicBezTo>
                              <a:pt x="333" y="369"/>
                              <a:pt x="426" y="357"/>
                              <a:pt x="426" y="357"/>
                            </a:cubicBezTo>
                            <a:cubicBezTo>
                              <a:pt x="462" y="332"/>
                              <a:pt x="470" y="327"/>
                              <a:pt x="481" y="284"/>
                            </a:cubicBezTo>
                            <a:cubicBezTo>
                              <a:pt x="475" y="258"/>
                              <a:pt x="473" y="187"/>
                              <a:pt x="444" y="174"/>
                            </a:cubicBezTo>
                            <a:cubicBezTo>
                              <a:pt x="402" y="155"/>
                              <a:pt x="353" y="162"/>
                              <a:pt x="307" y="156"/>
                            </a:cubicBezTo>
                            <a:cubicBezTo>
                              <a:pt x="222" y="145"/>
                              <a:pt x="136" y="139"/>
                              <a:pt x="51" y="128"/>
                            </a:cubicBezTo>
                            <a:cubicBezTo>
                              <a:pt x="0" y="94"/>
                              <a:pt x="15" y="67"/>
                              <a:pt x="60" y="37"/>
                            </a:cubicBezTo>
                            <a:cubicBezTo>
                              <a:pt x="124" y="40"/>
                              <a:pt x="188" y="41"/>
                              <a:pt x="252" y="46"/>
                            </a:cubicBezTo>
                            <a:cubicBezTo>
                              <a:pt x="262" y="47"/>
                              <a:pt x="273" y="62"/>
                              <a:pt x="280" y="55"/>
                            </a:cubicBezTo>
                            <a:cubicBezTo>
                              <a:pt x="294" y="41"/>
                              <a:pt x="298" y="0"/>
                              <a:pt x="298" y="0"/>
                            </a:cubicBezTo>
                            <a:cubicBezTo>
                              <a:pt x="304" y="9"/>
                              <a:pt x="316" y="28"/>
                              <a:pt x="316" y="28"/>
                            </a:cubicBezTo>
                          </a:path>
                        </a:pathLst>
                      </a:custGeom>
                      <a:noFill/>
                      <a:ln w="76320">
                        <a:solidFill>
                          <a:srgbClr val="00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6" name=""/>
                      <p:cNvSpPr/>
                      <p:nvPr/>
                    </p:nvSpPr>
                    <p:spPr>
                      <a:xfrm>
                        <a:off x="1526760" y="4912560"/>
                        <a:ext cx="233640" cy="69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7" h="439">
                            <a:moveTo>
                              <a:pt x="147" y="439"/>
                            </a:moveTo>
                            <a:cubicBezTo>
                              <a:pt x="104" y="425"/>
                              <a:pt x="61" y="416"/>
                              <a:pt x="19" y="402"/>
                            </a:cubicBezTo>
                            <a:cubicBezTo>
                              <a:pt x="0" y="350"/>
                              <a:pt x="7" y="327"/>
                              <a:pt x="55" y="311"/>
                            </a:cubicBezTo>
                            <a:cubicBezTo>
                              <a:pt x="72" y="284"/>
                              <a:pt x="92" y="264"/>
                              <a:pt x="110" y="238"/>
                            </a:cubicBezTo>
                            <a:cubicBezTo>
                              <a:pt x="128" y="164"/>
                              <a:pt x="124" y="198"/>
                              <a:pt x="110" y="73"/>
                            </a:cubicBezTo>
                            <a:cubicBezTo>
                              <a:pt x="107" y="48"/>
                              <a:pt x="92" y="25"/>
                              <a:pt x="92" y="0"/>
                            </a:cubicBezTo>
                          </a:path>
                        </a:pathLst>
                      </a:custGeom>
                      <a:noFill/>
                      <a:ln w="76320">
                        <a:solidFill>
                          <a:srgbClr val="00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7" name=""/>
                      <p:cNvSpPr/>
                      <p:nvPr/>
                    </p:nvSpPr>
                    <p:spPr>
                      <a:xfrm>
                        <a:off x="1803240" y="4884120"/>
                        <a:ext cx="415800" cy="121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2" h="768">
                            <a:moveTo>
                              <a:pt x="201" y="768"/>
                            </a:moveTo>
                            <a:cubicBezTo>
                              <a:pt x="208" y="694"/>
                              <a:pt x="214" y="610"/>
                              <a:pt x="238" y="539"/>
                            </a:cubicBezTo>
                            <a:cubicBezTo>
                              <a:pt x="249" y="447"/>
                              <a:pt x="262" y="314"/>
                              <a:pt x="174" y="256"/>
                            </a:cubicBezTo>
                            <a:cubicBezTo>
                              <a:pt x="160" y="213"/>
                              <a:pt x="147" y="226"/>
                              <a:pt x="110" y="201"/>
                            </a:cubicBezTo>
                            <a:cubicBezTo>
                              <a:pt x="93" y="147"/>
                              <a:pt x="93" y="139"/>
                              <a:pt x="37" y="118"/>
                            </a:cubicBezTo>
                            <a:cubicBezTo>
                              <a:pt x="0" y="83"/>
                              <a:pt x="0" y="46"/>
                              <a:pt x="0" y="0"/>
                            </a:cubicBezTo>
                          </a:path>
                        </a:pathLst>
                      </a:custGeom>
                      <a:noFill/>
                      <a:ln w="76320">
                        <a:solidFill>
                          <a:srgbClr val="00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128" name=""/>
              <p:cNvSpPr/>
              <p:nvPr/>
            </p:nvSpPr>
            <p:spPr>
              <a:xfrm rot="16200000">
                <a:off x="1614960" y="3336840"/>
                <a:ext cx="328680" cy="66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5035" y="1520"/>
                      <a:pt x="8470" y="5080"/>
                      <a:pt x="8470" y="10800"/>
                    </a:cubicBezTo>
                    <a:cubicBezTo>
                      <a:pt x="8470" y="16520"/>
                      <a:pt x="15035" y="2008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685800" y="4010040"/>
              <a:ext cx="1846080" cy="838080"/>
              <a:chOff x="685800" y="4010040"/>
              <a:chExt cx="1846080" cy="838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85800" y="4495680"/>
                <a:ext cx="380880" cy="352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068560" y="4010040"/>
                <a:ext cx="463320" cy="463320"/>
              </a:xfrm>
              <a:custGeom>
                <a:avLst/>
                <a:gdLst/>
                <a:ahLst/>
                <a:rect l="l" t="t" r="r" b="b"/>
                <a:pathLst>
                  <a:path w="292" h="292">
                    <a:moveTo>
                      <a:pt x="0" y="283"/>
                    </a:moveTo>
                    <a:cubicBezTo>
                      <a:pt x="62" y="292"/>
                      <a:pt x="87" y="286"/>
                      <a:pt x="146" y="274"/>
                    </a:cubicBezTo>
                    <a:cubicBezTo>
                      <a:pt x="175" y="255"/>
                      <a:pt x="217" y="229"/>
                      <a:pt x="238" y="201"/>
                    </a:cubicBezTo>
                    <a:cubicBezTo>
                      <a:pt x="251" y="183"/>
                      <a:pt x="274" y="146"/>
                      <a:pt x="274" y="146"/>
                    </a:cubicBezTo>
                    <a:cubicBezTo>
                      <a:pt x="292" y="74"/>
                      <a:pt x="283" y="122"/>
                      <a:pt x="283" y="0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92080" y="4300560"/>
                <a:ext cx="493560" cy="288720"/>
              </a:xfrm>
              <a:custGeom>
                <a:avLst/>
                <a:gdLst/>
                <a:ahLst/>
                <a:rect l="l" t="t" r="r" b="b"/>
                <a:pathLst>
                  <a:path w="311" h="182">
                    <a:moveTo>
                      <a:pt x="311" y="27"/>
                    </a:moveTo>
                    <a:cubicBezTo>
                      <a:pt x="261" y="10"/>
                      <a:pt x="208" y="8"/>
                      <a:pt x="156" y="0"/>
                    </a:cubicBezTo>
                    <a:cubicBezTo>
                      <a:pt x="109" y="8"/>
                      <a:pt x="84" y="10"/>
                      <a:pt x="46" y="36"/>
                    </a:cubicBezTo>
                    <a:cubicBezTo>
                      <a:pt x="17" y="81"/>
                      <a:pt x="0" y="129"/>
                      <a:pt x="0" y="182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3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19112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19112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34340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556272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88620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4100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2670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34340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12408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rot="21314400">
            <a:off x="601956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3200400"/>
            <a:ext cx="76212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952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rot="16200000">
            <a:off x="4750560" y="2640600"/>
            <a:ext cx="404640" cy="1219320"/>
          </a:xfrm>
          <a:custGeom>
            <a:avLst/>
            <a:gdLst>
              <a:gd name="textAreaLeft" fmla="*/ 6480 w 404640"/>
              <a:gd name="textAreaRight" fmla="*/ 309600 w 404640"/>
              <a:gd name="textAreaTop" fmla="*/ 499320 h 1219320"/>
              <a:gd name="textAreaBottom" fmla="*/ 7200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9059" y="2963"/>
                  <a:pt x="16517" y="5080"/>
                  <a:pt x="16517" y="10800"/>
                </a:cubicBezTo>
                <a:cubicBezTo>
                  <a:pt x="16517" y="16520"/>
                  <a:pt x="19059" y="1863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07" dur="1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10" dur="1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5181480" y="304920"/>
            <a:ext cx="3810240" cy="2133360"/>
          </a:xfrm>
          <a:prstGeom prst="wedgeEllipseCallout">
            <a:avLst>
              <a:gd name="adj1" fmla="val -63625"/>
              <a:gd name="adj2" fmla="val 161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point exactl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438280" y="2514600"/>
            <a:ext cx="38124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84280" y="152280"/>
            <a:ext cx="4265640" cy="5486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rot="19351800">
            <a:off x="1219320" y="2437920"/>
            <a:ext cx="140472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rot="1925400">
            <a:off x="3223800" y="2387520"/>
            <a:ext cx="140508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397160" y="6248520"/>
            <a:ext cx="2639880" cy="2438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2616120" y="5232240"/>
            <a:ext cx="201600" cy="1422720"/>
          </a:xfrm>
          <a:prstGeom prst="line">
            <a:avLst/>
          </a:prstGeom>
          <a:ln w="16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380880" y="8280360"/>
            <a:ext cx="4670280" cy="3985920"/>
            <a:chOff x="380880" y="8280360"/>
            <a:chExt cx="4670280" cy="3985920"/>
          </a:xfrm>
        </p:grpSpPr>
        <p:grpSp>
          <p:nvGrpSpPr>
            <p:cNvPr id="1160" name=""/>
            <p:cNvGrpSpPr/>
            <p:nvPr/>
          </p:nvGrpSpPr>
          <p:grpSpPr>
            <a:xfrm>
              <a:off x="380880" y="10108800"/>
              <a:ext cx="4670280" cy="2157480"/>
              <a:chOff x="380880" y="10108800"/>
              <a:chExt cx="4670280" cy="2157480"/>
            </a:xfrm>
          </p:grpSpPr>
          <p:sp>
            <p:nvSpPr>
              <p:cNvPr id="1161" name=""/>
              <p:cNvSpPr/>
              <p:nvPr/>
            </p:nvSpPr>
            <p:spPr>
              <a:xfrm>
                <a:off x="2208600" y="111236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036320" y="105145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208600" y="1010880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80880" y="107179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427200" y="113270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782640" y="8280360"/>
              <a:ext cx="3832920" cy="3269160"/>
              <a:chOff x="782640" y="8280360"/>
              <a:chExt cx="3832920" cy="3269160"/>
            </a:xfrm>
          </p:grpSpPr>
          <p:sp>
            <p:nvSpPr>
              <p:cNvPr id="1167" name=""/>
              <p:cNvSpPr/>
              <p:nvPr/>
            </p:nvSpPr>
            <p:spPr>
              <a:xfrm>
                <a:off x="3418200" y="8338680"/>
                <a:ext cx="1197360" cy="2408400"/>
              </a:xfrm>
              <a:custGeom>
                <a:avLst/>
                <a:gdLst/>
                <a:ahLst/>
                <a:rect l="l" t="t" r="r" b="b"/>
                <a:pathLst>
                  <a:path w="283" h="569">
                    <a:moveTo>
                      <a:pt x="0" y="0"/>
                    </a:moveTo>
                    <a:cubicBezTo>
                      <a:pt x="46" y="70"/>
                      <a:pt x="59" y="71"/>
                      <a:pt x="128" y="119"/>
                    </a:cubicBezTo>
                    <a:cubicBezTo>
                      <a:pt x="146" y="132"/>
                      <a:pt x="183" y="155"/>
                      <a:pt x="183" y="155"/>
                    </a:cubicBezTo>
                    <a:cubicBezTo>
                      <a:pt x="233" y="231"/>
                      <a:pt x="209" y="216"/>
                      <a:pt x="237" y="301"/>
                    </a:cubicBezTo>
                    <a:cubicBezTo>
                      <a:pt x="248" y="383"/>
                      <a:pt x="245" y="466"/>
                      <a:pt x="256" y="548"/>
                    </a:cubicBezTo>
                    <a:cubicBezTo>
                      <a:pt x="259" y="569"/>
                      <a:pt x="271" y="567"/>
                      <a:pt x="283" y="567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"/>
              <p:cNvGrpSpPr/>
              <p:nvPr/>
            </p:nvGrpSpPr>
            <p:grpSpPr>
              <a:xfrm>
                <a:off x="782640" y="8280360"/>
                <a:ext cx="3277080" cy="3269160"/>
                <a:chOff x="782640" y="8280360"/>
                <a:chExt cx="3277080" cy="326916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782640" y="8491320"/>
                  <a:ext cx="1281240" cy="2246760"/>
                </a:xfrm>
                <a:custGeom>
                  <a:avLst/>
                  <a:gdLst/>
                  <a:ahLst/>
                  <a:rect l="l" t="t" r="r" b="b"/>
                  <a:pathLst>
                    <a:path w="303" h="531">
                      <a:moveTo>
                        <a:pt x="303" y="0"/>
                      </a:moveTo>
                      <a:cubicBezTo>
                        <a:pt x="294" y="12"/>
                        <a:pt x="247" y="89"/>
                        <a:pt x="220" y="101"/>
                      </a:cubicBezTo>
                      <a:cubicBezTo>
                        <a:pt x="160" y="127"/>
                        <a:pt x="84" y="133"/>
                        <a:pt x="19" y="147"/>
                      </a:cubicBezTo>
                      <a:cubicBezTo>
                        <a:pt x="0" y="205"/>
                        <a:pt x="13" y="263"/>
                        <a:pt x="47" y="311"/>
                      </a:cubicBezTo>
                      <a:cubicBezTo>
                        <a:pt x="61" y="370"/>
                        <a:pt x="67" y="380"/>
                        <a:pt x="56" y="448"/>
                      </a:cubicBezTo>
                      <a:cubicBezTo>
                        <a:pt x="51" y="481"/>
                        <a:pt x="33" y="500"/>
                        <a:pt x="47" y="531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004480" y="8280360"/>
                  <a:ext cx="1683360" cy="3045960"/>
                </a:xfrm>
                <a:custGeom>
                  <a:avLst/>
                  <a:gdLst/>
                  <a:ahLst/>
                  <a:rect l="l" t="t" r="r" b="b"/>
                  <a:pathLst>
                    <a:path w="481" h="384">
                      <a:moveTo>
                        <a:pt x="289" y="384"/>
                      </a:moveTo>
                      <a:cubicBezTo>
                        <a:pt x="333" y="369"/>
                        <a:pt x="426" y="357"/>
                        <a:pt x="426" y="357"/>
                      </a:cubicBezTo>
                      <a:cubicBezTo>
                        <a:pt x="462" y="332"/>
                        <a:pt x="470" y="327"/>
                        <a:pt x="481" y="284"/>
                      </a:cubicBezTo>
                      <a:cubicBezTo>
                        <a:pt x="475" y="258"/>
                        <a:pt x="473" y="187"/>
                        <a:pt x="444" y="174"/>
                      </a:cubicBezTo>
                      <a:cubicBezTo>
                        <a:pt x="402" y="155"/>
                        <a:pt x="353" y="162"/>
                        <a:pt x="307" y="156"/>
                      </a:cubicBezTo>
                      <a:cubicBezTo>
                        <a:pt x="222" y="145"/>
                        <a:pt x="136" y="139"/>
                        <a:pt x="51" y="128"/>
                      </a:cubicBezTo>
                      <a:cubicBezTo>
                        <a:pt x="0" y="94"/>
                        <a:pt x="15" y="67"/>
                        <a:pt x="60" y="37"/>
                      </a:cubicBezTo>
                      <a:cubicBezTo>
                        <a:pt x="124" y="40"/>
                        <a:pt x="188" y="41"/>
                        <a:pt x="252" y="46"/>
                      </a:cubicBezTo>
                      <a:cubicBezTo>
                        <a:pt x="262" y="47"/>
                        <a:pt x="273" y="62"/>
                        <a:pt x="280" y="55"/>
                      </a:cubicBezTo>
                      <a:cubicBezTo>
                        <a:pt x="294" y="41"/>
                        <a:pt x="298" y="0"/>
                        <a:pt x="298" y="0"/>
                      </a:cubicBezTo>
                      <a:cubicBezTo>
                        <a:pt x="304" y="9"/>
                        <a:pt x="316" y="28"/>
                        <a:pt x="316" y="28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2215440" y="8377200"/>
                  <a:ext cx="622440" cy="1857240"/>
                </a:xfrm>
                <a:custGeom>
                  <a:avLst/>
                  <a:gdLst/>
                  <a:ahLst/>
                  <a:rect l="l" t="t" r="r" b="b"/>
                  <a:pathLst>
                    <a:path w="147" h="439">
                      <a:moveTo>
                        <a:pt x="147" y="439"/>
                      </a:moveTo>
                      <a:cubicBezTo>
                        <a:pt x="104" y="425"/>
                        <a:pt x="61" y="416"/>
                        <a:pt x="19" y="402"/>
                      </a:cubicBezTo>
                      <a:cubicBezTo>
                        <a:pt x="0" y="350"/>
                        <a:pt x="7" y="327"/>
                        <a:pt x="55" y="311"/>
                      </a:cubicBezTo>
                      <a:cubicBezTo>
                        <a:pt x="72" y="284"/>
                        <a:pt x="92" y="264"/>
                        <a:pt x="110" y="238"/>
                      </a:cubicBezTo>
                      <a:cubicBezTo>
                        <a:pt x="128" y="164"/>
                        <a:pt x="124" y="198"/>
                        <a:pt x="110" y="73"/>
                      </a:cubicBezTo>
                      <a:cubicBezTo>
                        <a:pt x="107" y="48"/>
                        <a:pt x="92" y="25"/>
                        <a:pt x="92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952000" y="8301240"/>
                  <a:ext cx="1107720" cy="3248280"/>
                </a:xfrm>
                <a:custGeom>
                  <a:avLst/>
                  <a:gdLst/>
                  <a:ahLst/>
                  <a:rect l="l" t="t" r="r" b="b"/>
                  <a:pathLst>
                    <a:path w="262" h="768">
                      <a:moveTo>
                        <a:pt x="201" y="768"/>
                      </a:moveTo>
                      <a:cubicBezTo>
                        <a:pt x="208" y="694"/>
                        <a:pt x="214" y="610"/>
                        <a:pt x="238" y="539"/>
                      </a:cubicBezTo>
                      <a:cubicBezTo>
                        <a:pt x="249" y="447"/>
                        <a:pt x="262" y="314"/>
                        <a:pt x="174" y="256"/>
                      </a:cubicBezTo>
                      <a:cubicBezTo>
                        <a:pt x="160" y="213"/>
                        <a:pt x="147" y="226"/>
                        <a:pt x="110" y="201"/>
                      </a:cubicBezTo>
                      <a:cubicBezTo>
                        <a:pt x="93" y="147"/>
                        <a:pt x="93" y="139"/>
                        <a:pt x="37" y="118"/>
                      </a:cubicBezTo>
                      <a:cubicBezTo>
                        <a:pt x="0" y="83"/>
                        <a:pt x="0" y="46"/>
                        <a:pt x="0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73" name=""/>
          <p:cNvSpPr/>
          <p:nvPr/>
        </p:nvSpPr>
        <p:spPr>
          <a:xfrm rot="16200000">
            <a:off x="2698920" y="4464000"/>
            <a:ext cx="622080" cy="144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781680" y="293364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08660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69608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77240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1629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7162920" y="4610160"/>
            <a:ext cx="914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rot="9534600">
            <a:off x="6933960" y="262872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rot="11531400">
            <a:off x="7238520" y="262836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rot="13149000">
            <a:off x="73911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rot="14453400">
            <a:off x="76197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162920" y="53722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8580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7724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400800" y="4457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8381880" y="49150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238880" y="4267080"/>
            <a:ext cx="30492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791320" y="152280"/>
            <a:ext cx="3200400" cy="2438640"/>
          </a:xfrm>
          <a:prstGeom prst="wedgeEllipseCallout">
            <a:avLst>
              <a:gd name="adj1" fmla="val -10018"/>
              <a:gd name="adj2" fmla="val 68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point, exactly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362320" y="3733920"/>
            <a:ext cx="38088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685800" y="1828800"/>
            <a:ext cx="1927800" cy="4542120"/>
            <a:chOff x="685800" y="1828800"/>
            <a:chExt cx="1927800" cy="4542120"/>
          </a:xfrm>
        </p:grpSpPr>
        <p:grpSp>
          <p:nvGrpSpPr>
            <p:cNvPr id="1197" name=""/>
            <p:cNvGrpSpPr/>
            <p:nvPr/>
          </p:nvGrpSpPr>
          <p:grpSpPr>
            <a:xfrm>
              <a:off x="789480" y="1828800"/>
              <a:ext cx="1824120" cy="4542120"/>
              <a:chOff x="789480" y="1828800"/>
              <a:chExt cx="1824120" cy="4542120"/>
            </a:xfrm>
          </p:grpSpPr>
          <p:grpSp>
            <p:nvGrpSpPr>
              <p:cNvPr id="1198" name=""/>
              <p:cNvGrpSpPr/>
              <p:nvPr/>
            </p:nvGrpSpPr>
            <p:grpSpPr>
              <a:xfrm>
                <a:off x="789480" y="1828800"/>
                <a:ext cx="1824120" cy="4542120"/>
                <a:chOff x="789480" y="1828800"/>
                <a:chExt cx="1824120" cy="4542120"/>
              </a:xfrm>
            </p:grpSpPr>
            <p:grpSp>
              <p:nvGrpSpPr>
                <p:cNvPr id="1199" name=""/>
                <p:cNvGrpSpPr/>
                <p:nvPr/>
              </p:nvGrpSpPr>
              <p:grpSpPr>
                <a:xfrm>
                  <a:off x="789480" y="1828800"/>
                  <a:ext cx="1824120" cy="3199680"/>
                  <a:chOff x="789480" y="1828800"/>
                  <a:chExt cx="1824120" cy="319968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>
                    <a:off x="914040" y="1828800"/>
                    <a:ext cx="1600200" cy="20570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 rot="19351800">
                    <a:off x="989640" y="2666160"/>
                    <a:ext cx="527040" cy="83772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 rot="1925400">
                    <a:off x="1904400" y="2666520"/>
                    <a:ext cx="527040" cy="83772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1218600" y="4114440"/>
                    <a:ext cx="990720" cy="9140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H="1">
                    <a:off x="1675800" y="3733200"/>
                    <a:ext cx="76320" cy="533160"/>
                  </a:xfrm>
                  <a:prstGeom prst="line">
                    <a:avLst/>
                  </a:prstGeom>
                  <a:ln w="1620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5" name=""/>
                <p:cNvGrpSpPr/>
                <p:nvPr/>
              </p:nvGrpSpPr>
              <p:grpSpPr>
                <a:xfrm>
                  <a:off x="838080" y="4876560"/>
                  <a:ext cx="1752480" cy="1494360"/>
                  <a:chOff x="838080" y="4876560"/>
                  <a:chExt cx="1752480" cy="1494360"/>
                </a:xfrm>
              </p:grpSpPr>
              <p:grpSp>
                <p:nvGrpSpPr>
                  <p:cNvPr id="1206" name=""/>
                  <p:cNvGrpSpPr/>
                  <p:nvPr/>
                </p:nvGrpSpPr>
                <p:grpSpPr>
                  <a:xfrm>
                    <a:off x="838080" y="5562000"/>
                    <a:ext cx="1752480" cy="808920"/>
                    <a:chOff x="838080" y="5562000"/>
                    <a:chExt cx="1752480" cy="808920"/>
                  </a:xfrm>
                </p:grpSpPr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1523880" y="5942520"/>
                      <a:ext cx="380880" cy="3520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>
                      <a:off x="2209680" y="5713920"/>
                      <a:ext cx="380880" cy="3520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1523880" y="5562000"/>
                      <a:ext cx="380880" cy="3520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0" name=""/>
                    <p:cNvSpPr/>
                    <p:nvPr/>
                  </p:nvSpPr>
                  <p:spPr>
                    <a:xfrm>
                      <a:off x="838080" y="5790240"/>
                      <a:ext cx="380880" cy="3520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>
                      <a:off x="1981080" y="6018840"/>
                      <a:ext cx="380880" cy="3520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2" name=""/>
                  <p:cNvGrpSpPr/>
                  <p:nvPr/>
                </p:nvGrpSpPr>
                <p:grpSpPr>
                  <a:xfrm>
                    <a:off x="988920" y="4876560"/>
                    <a:ext cx="1438200" cy="1226160"/>
                    <a:chOff x="988920" y="4876560"/>
                    <a:chExt cx="1438200" cy="1226160"/>
                  </a:xfrm>
                </p:grpSpPr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1977840" y="4898160"/>
                      <a:ext cx="449280" cy="90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3" h="569">
                          <a:moveTo>
                            <a:pt x="0" y="0"/>
                          </a:moveTo>
                          <a:cubicBezTo>
                            <a:pt x="46" y="70"/>
                            <a:pt x="59" y="71"/>
                            <a:pt x="128" y="119"/>
                          </a:cubicBezTo>
                          <a:cubicBezTo>
                            <a:pt x="146" y="132"/>
                            <a:pt x="183" y="155"/>
                            <a:pt x="183" y="155"/>
                          </a:cubicBezTo>
                          <a:cubicBezTo>
                            <a:pt x="233" y="231"/>
                            <a:pt x="209" y="216"/>
                            <a:pt x="237" y="301"/>
                          </a:cubicBezTo>
                          <a:cubicBezTo>
                            <a:pt x="248" y="383"/>
                            <a:pt x="245" y="466"/>
                            <a:pt x="256" y="548"/>
                          </a:cubicBezTo>
                          <a:cubicBezTo>
                            <a:pt x="259" y="569"/>
                            <a:pt x="271" y="567"/>
                            <a:pt x="283" y="567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00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14" name=""/>
                    <p:cNvGrpSpPr/>
                    <p:nvPr/>
                  </p:nvGrpSpPr>
                  <p:grpSpPr>
                    <a:xfrm>
                      <a:off x="988920" y="4876560"/>
                      <a:ext cx="1230120" cy="1226160"/>
                      <a:chOff x="988920" y="4876560"/>
                      <a:chExt cx="1230120" cy="1226160"/>
                    </a:xfrm>
                  </p:grpSpPr>
                  <p:sp>
                    <p:nvSpPr>
                      <p:cNvPr id="1215" name=""/>
                      <p:cNvSpPr/>
                      <p:nvPr/>
                    </p:nvSpPr>
                    <p:spPr>
                      <a:xfrm>
                        <a:off x="988920" y="4955400"/>
                        <a:ext cx="480960" cy="84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3" h="531">
                            <a:moveTo>
                              <a:pt x="303" y="0"/>
                            </a:moveTo>
                            <a:cubicBezTo>
                              <a:pt x="294" y="12"/>
                              <a:pt x="247" y="89"/>
                              <a:pt x="220" y="101"/>
                            </a:cubicBezTo>
                            <a:cubicBezTo>
                              <a:pt x="160" y="127"/>
                              <a:pt x="84" y="133"/>
                              <a:pt x="19" y="147"/>
                            </a:cubicBezTo>
                            <a:cubicBezTo>
                              <a:pt x="0" y="205"/>
                              <a:pt x="13" y="263"/>
                              <a:pt x="47" y="311"/>
                            </a:cubicBezTo>
                            <a:cubicBezTo>
                              <a:pt x="61" y="370"/>
                              <a:pt x="67" y="380"/>
                              <a:pt x="56" y="448"/>
                            </a:cubicBezTo>
                            <a:cubicBezTo>
                              <a:pt x="51" y="481"/>
                              <a:pt x="33" y="500"/>
                              <a:pt x="47" y="531"/>
                            </a:cubicBezTo>
                          </a:path>
                        </a:pathLst>
                      </a:custGeom>
                      <a:noFill/>
                      <a:ln w="76320">
                        <a:solidFill>
                          <a:srgbClr val="00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6" name=""/>
                      <p:cNvSpPr/>
                      <p:nvPr/>
                    </p:nvSpPr>
                    <p:spPr>
                      <a:xfrm>
                        <a:off x="1447560" y="4876560"/>
                        <a:ext cx="631800" cy="114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1" h="384">
                            <a:moveTo>
                              <a:pt x="289" y="384"/>
                            </a:moveTo>
                            <a:cubicBezTo>
                              <a:pt x="333" y="369"/>
                              <a:pt x="426" y="357"/>
                              <a:pt x="426" y="357"/>
                            </a:cubicBezTo>
                            <a:cubicBezTo>
                              <a:pt x="462" y="332"/>
                              <a:pt x="470" y="327"/>
                              <a:pt x="481" y="284"/>
                            </a:cubicBezTo>
                            <a:cubicBezTo>
                              <a:pt x="475" y="258"/>
                              <a:pt x="473" y="187"/>
                              <a:pt x="444" y="174"/>
                            </a:cubicBezTo>
                            <a:cubicBezTo>
                              <a:pt x="402" y="155"/>
                              <a:pt x="353" y="162"/>
                              <a:pt x="307" y="156"/>
                            </a:cubicBezTo>
                            <a:cubicBezTo>
                              <a:pt x="222" y="145"/>
                              <a:pt x="136" y="139"/>
                              <a:pt x="51" y="128"/>
                            </a:cubicBezTo>
                            <a:cubicBezTo>
                              <a:pt x="0" y="94"/>
                              <a:pt x="15" y="67"/>
                              <a:pt x="60" y="37"/>
                            </a:cubicBezTo>
                            <a:cubicBezTo>
                              <a:pt x="124" y="40"/>
                              <a:pt x="188" y="41"/>
                              <a:pt x="252" y="46"/>
                            </a:cubicBezTo>
                            <a:cubicBezTo>
                              <a:pt x="262" y="47"/>
                              <a:pt x="273" y="62"/>
                              <a:pt x="280" y="55"/>
                            </a:cubicBezTo>
                            <a:cubicBezTo>
                              <a:pt x="294" y="41"/>
                              <a:pt x="298" y="0"/>
                              <a:pt x="298" y="0"/>
                            </a:cubicBezTo>
                            <a:cubicBezTo>
                              <a:pt x="304" y="9"/>
                              <a:pt x="316" y="28"/>
                              <a:pt x="316" y="28"/>
                            </a:cubicBezTo>
                          </a:path>
                        </a:pathLst>
                      </a:custGeom>
                      <a:noFill/>
                      <a:ln w="76320">
                        <a:solidFill>
                          <a:srgbClr val="00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7" name=""/>
                      <p:cNvSpPr/>
                      <p:nvPr/>
                    </p:nvSpPr>
                    <p:spPr>
                      <a:xfrm>
                        <a:off x="1526760" y="4912560"/>
                        <a:ext cx="233640" cy="69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7" h="439">
                            <a:moveTo>
                              <a:pt x="147" y="439"/>
                            </a:moveTo>
                            <a:cubicBezTo>
                              <a:pt x="104" y="425"/>
                              <a:pt x="61" y="416"/>
                              <a:pt x="19" y="402"/>
                            </a:cubicBezTo>
                            <a:cubicBezTo>
                              <a:pt x="0" y="350"/>
                              <a:pt x="7" y="327"/>
                              <a:pt x="55" y="311"/>
                            </a:cubicBezTo>
                            <a:cubicBezTo>
                              <a:pt x="72" y="284"/>
                              <a:pt x="92" y="264"/>
                              <a:pt x="110" y="238"/>
                            </a:cubicBezTo>
                            <a:cubicBezTo>
                              <a:pt x="128" y="164"/>
                              <a:pt x="124" y="198"/>
                              <a:pt x="110" y="73"/>
                            </a:cubicBezTo>
                            <a:cubicBezTo>
                              <a:pt x="107" y="48"/>
                              <a:pt x="92" y="25"/>
                              <a:pt x="92" y="0"/>
                            </a:cubicBezTo>
                          </a:path>
                        </a:pathLst>
                      </a:custGeom>
                      <a:noFill/>
                      <a:ln w="76320">
                        <a:solidFill>
                          <a:srgbClr val="00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8" name=""/>
                      <p:cNvSpPr/>
                      <p:nvPr/>
                    </p:nvSpPr>
                    <p:spPr>
                      <a:xfrm>
                        <a:off x="1803240" y="4884120"/>
                        <a:ext cx="415800" cy="121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2" h="768">
                            <a:moveTo>
                              <a:pt x="201" y="768"/>
                            </a:moveTo>
                            <a:cubicBezTo>
                              <a:pt x="208" y="694"/>
                              <a:pt x="214" y="610"/>
                              <a:pt x="238" y="539"/>
                            </a:cubicBezTo>
                            <a:cubicBezTo>
                              <a:pt x="249" y="447"/>
                              <a:pt x="262" y="314"/>
                              <a:pt x="174" y="256"/>
                            </a:cubicBezTo>
                            <a:cubicBezTo>
                              <a:pt x="160" y="213"/>
                              <a:pt x="147" y="226"/>
                              <a:pt x="110" y="201"/>
                            </a:cubicBezTo>
                            <a:cubicBezTo>
                              <a:pt x="93" y="147"/>
                              <a:pt x="93" y="139"/>
                              <a:pt x="37" y="118"/>
                            </a:cubicBezTo>
                            <a:cubicBezTo>
                              <a:pt x="0" y="83"/>
                              <a:pt x="0" y="46"/>
                              <a:pt x="0" y="0"/>
                            </a:cubicBezTo>
                          </a:path>
                        </a:pathLst>
                      </a:custGeom>
                      <a:noFill/>
                      <a:ln w="76320">
                        <a:solidFill>
                          <a:srgbClr val="00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219" name=""/>
              <p:cNvSpPr/>
              <p:nvPr/>
            </p:nvSpPr>
            <p:spPr>
              <a:xfrm rot="16200000">
                <a:off x="1614960" y="3336840"/>
                <a:ext cx="328680" cy="66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5035" y="1520"/>
                      <a:pt x="8470" y="5080"/>
                      <a:pt x="8470" y="10800"/>
                    </a:cubicBezTo>
                    <a:cubicBezTo>
                      <a:pt x="8470" y="16520"/>
                      <a:pt x="15035" y="2008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685800" y="4010040"/>
              <a:ext cx="1846080" cy="838080"/>
              <a:chOff x="685800" y="4010040"/>
              <a:chExt cx="1846080" cy="838080"/>
            </a:xfrm>
          </p:grpSpPr>
          <p:sp>
            <p:nvSpPr>
              <p:cNvPr id="1221" name=""/>
              <p:cNvSpPr/>
              <p:nvPr/>
            </p:nvSpPr>
            <p:spPr>
              <a:xfrm>
                <a:off x="685800" y="4495680"/>
                <a:ext cx="380880" cy="352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8560" y="4010040"/>
                <a:ext cx="463320" cy="463320"/>
              </a:xfrm>
              <a:custGeom>
                <a:avLst/>
                <a:gdLst/>
                <a:ahLst/>
                <a:rect l="l" t="t" r="r" b="b"/>
                <a:pathLst>
                  <a:path w="292" h="292">
                    <a:moveTo>
                      <a:pt x="0" y="283"/>
                    </a:moveTo>
                    <a:cubicBezTo>
                      <a:pt x="62" y="292"/>
                      <a:pt x="87" y="286"/>
                      <a:pt x="146" y="274"/>
                    </a:cubicBezTo>
                    <a:cubicBezTo>
                      <a:pt x="175" y="255"/>
                      <a:pt x="217" y="229"/>
                      <a:pt x="238" y="201"/>
                    </a:cubicBezTo>
                    <a:cubicBezTo>
                      <a:pt x="251" y="183"/>
                      <a:pt x="274" y="146"/>
                      <a:pt x="274" y="146"/>
                    </a:cubicBezTo>
                    <a:cubicBezTo>
                      <a:pt x="292" y="74"/>
                      <a:pt x="283" y="122"/>
                      <a:pt x="283" y="0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92080" y="4300560"/>
                <a:ext cx="493560" cy="288720"/>
              </a:xfrm>
              <a:custGeom>
                <a:avLst/>
                <a:gdLst/>
                <a:ahLst/>
                <a:rect l="l" t="t" r="r" b="b"/>
                <a:pathLst>
                  <a:path w="311" h="182">
                    <a:moveTo>
                      <a:pt x="311" y="27"/>
                    </a:moveTo>
                    <a:cubicBezTo>
                      <a:pt x="261" y="10"/>
                      <a:pt x="208" y="8"/>
                      <a:pt x="156" y="0"/>
                    </a:cubicBezTo>
                    <a:cubicBezTo>
                      <a:pt x="109" y="8"/>
                      <a:pt x="84" y="10"/>
                      <a:pt x="46" y="36"/>
                    </a:cubicBezTo>
                    <a:cubicBezTo>
                      <a:pt x="17" y="81"/>
                      <a:pt x="0" y="129"/>
                      <a:pt x="0" y="182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19112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19112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34340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56272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88620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4100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2670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34340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12408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rot="21314400">
            <a:off x="601956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572000" y="3200400"/>
            <a:ext cx="76212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rot="16200000">
            <a:off x="4750560" y="2640600"/>
            <a:ext cx="404640" cy="1219320"/>
          </a:xfrm>
          <a:custGeom>
            <a:avLst/>
            <a:gdLst>
              <a:gd name="textAreaLeft" fmla="*/ 6480 w 404640"/>
              <a:gd name="textAreaRight" fmla="*/ 309600 w 404640"/>
              <a:gd name="textAreaTop" fmla="*/ 499320 h 1219320"/>
              <a:gd name="textAreaBottom" fmla="*/ 7200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9059" y="2963"/>
                  <a:pt x="16517" y="5080"/>
                  <a:pt x="16517" y="10800"/>
                </a:cubicBezTo>
                <a:cubicBezTo>
                  <a:pt x="16517" y="16520"/>
                  <a:pt x="19059" y="1863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5181480" y="304920"/>
            <a:ext cx="3810240" cy="3962160"/>
          </a:xfrm>
          <a:prstGeom prst="wedgeEllipseCallout">
            <a:avLst>
              <a:gd name="adj1" fmla="val -63625"/>
              <a:gd name="adj2" fmla="val 63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ll, if someone’s following, there must be someone leading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438280" y="2514600"/>
            <a:ext cx="38124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84280" y="152280"/>
            <a:ext cx="4265640" cy="5486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rot="19351800">
            <a:off x="1219320" y="2437920"/>
            <a:ext cx="140472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rot="1925400">
            <a:off x="3223800" y="2387520"/>
            <a:ext cx="140508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397160" y="6248520"/>
            <a:ext cx="2639880" cy="2438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2616120" y="5232240"/>
            <a:ext cx="201600" cy="1422720"/>
          </a:xfrm>
          <a:prstGeom prst="line">
            <a:avLst/>
          </a:prstGeom>
          <a:ln w="16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380880" y="8280360"/>
            <a:ext cx="4670280" cy="3985920"/>
            <a:chOff x="380880" y="8280360"/>
            <a:chExt cx="4670280" cy="3985920"/>
          </a:xfrm>
        </p:grpSpPr>
        <p:grpSp>
          <p:nvGrpSpPr>
            <p:cNvPr id="1251" name=""/>
            <p:cNvGrpSpPr/>
            <p:nvPr/>
          </p:nvGrpSpPr>
          <p:grpSpPr>
            <a:xfrm>
              <a:off x="380880" y="10108800"/>
              <a:ext cx="4670280" cy="2157480"/>
              <a:chOff x="380880" y="10108800"/>
              <a:chExt cx="4670280" cy="2157480"/>
            </a:xfrm>
          </p:grpSpPr>
          <p:sp>
            <p:nvSpPr>
              <p:cNvPr id="1252" name=""/>
              <p:cNvSpPr/>
              <p:nvPr/>
            </p:nvSpPr>
            <p:spPr>
              <a:xfrm>
                <a:off x="2208600" y="111236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036320" y="105145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208600" y="1010880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80880" y="107179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427200" y="113270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782640" y="8280360"/>
              <a:ext cx="3832920" cy="3269160"/>
              <a:chOff x="782640" y="8280360"/>
              <a:chExt cx="3832920" cy="3269160"/>
            </a:xfrm>
          </p:grpSpPr>
          <p:sp>
            <p:nvSpPr>
              <p:cNvPr id="1258" name=""/>
              <p:cNvSpPr/>
              <p:nvPr/>
            </p:nvSpPr>
            <p:spPr>
              <a:xfrm>
                <a:off x="3418200" y="8338680"/>
                <a:ext cx="1197360" cy="2408400"/>
              </a:xfrm>
              <a:custGeom>
                <a:avLst/>
                <a:gdLst/>
                <a:ahLst/>
                <a:rect l="l" t="t" r="r" b="b"/>
                <a:pathLst>
                  <a:path w="283" h="569">
                    <a:moveTo>
                      <a:pt x="0" y="0"/>
                    </a:moveTo>
                    <a:cubicBezTo>
                      <a:pt x="46" y="70"/>
                      <a:pt x="59" y="71"/>
                      <a:pt x="128" y="119"/>
                    </a:cubicBezTo>
                    <a:cubicBezTo>
                      <a:pt x="146" y="132"/>
                      <a:pt x="183" y="155"/>
                      <a:pt x="183" y="155"/>
                    </a:cubicBezTo>
                    <a:cubicBezTo>
                      <a:pt x="233" y="231"/>
                      <a:pt x="209" y="216"/>
                      <a:pt x="237" y="301"/>
                    </a:cubicBezTo>
                    <a:cubicBezTo>
                      <a:pt x="248" y="383"/>
                      <a:pt x="245" y="466"/>
                      <a:pt x="256" y="548"/>
                    </a:cubicBezTo>
                    <a:cubicBezTo>
                      <a:pt x="259" y="569"/>
                      <a:pt x="271" y="567"/>
                      <a:pt x="283" y="567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"/>
              <p:cNvGrpSpPr/>
              <p:nvPr/>
            </p:nvGrpSpPr>
            <p:grpSpPr>
              <a:xfrm>
                <a:off x="782640" y="8280360"/>
                <a:ext cx="3277080" cy="3269160"/>
                <a:chOff x="782640" y="8280360"/>
                <a:chExt cx="3277080" cy="326916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782640" y="8491320"/>
                  <a:ext cx="1281240" cy="2246760"/>
                </a:xfrm>
                <a:custGeom>
                  <a:avLst/>
                  <a:gdLst/>
                  <a:ahLst/>
                  <a:rect l="l" t="t" r="r" b="b"/>
                  <a:pathLst>
                    <a:path w="303" h="531">
                      <a:moveTo>
                        <a:pt x="303" y="0"/>
                      </a:moveTo>
                      <a:cubicBezTo>
                        <a:pt x="294" y="12"/>
                        <a:pt x="247" y="89"/>
                        <a:pt x="220" y="101"/>
                      </a:cubicBezTo>
                      <a:cubicBezTo>
                        <a:pt x="160" y="127"/>
                        <a:pt x="84" y="133"/>
                        <a:pt x="19" y="147"/>
                      </a:cubicBezTo>
                      <a:cubicBezTo>
                        <a:pt x="0" y="205"/>
                        <a:pt x="13" y="263"/>
                        <a:pt x="47" y="311"/>
                      </a:cubicBezTo>
                      <a:cubicBezTo>
                        <a:pt x="61" y="370"/>
                        <a:pt x="67" y="380"/>
                        <a:pt x="56" y="448"/>
                      </a:cubicBezTo>
                      <a:cubicBezTo>
                        <a:pt x="51" y="481"/>
                        <a:pt x="33" y="500"/>
                        <a:pt x="47" y="531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004480" y="8280360"/>
                  <a:ext cx="1683360" cy="3045960"/>
                </a:xfrm>
                <a:custGeom>
                  <a:avLst/>
                  <a:gdLst/>
                  <a:ahLst/>
                  <a:rect l="l" t="t" r="r" b="b"/>
                  <a:pathLst>
                    <a:path w="481" h="384">
                      <a:moveTo>
                        <a:pt x="289" y="384"/>
                      </a:moveTo>
                      <a:cubicBezTo>
                        <a:pt x="333" y="369"/>
                        <a:pt x="426" y="357"/>
                        <a:pt x="426" y="357"/>
                      </a:cubicBezTo>
                      <a:cubicBezTo>
                        <a:pt x="462" y="332"/>
                        <a:pt x="470" y="327"/>
                        <a:pt x="481" y="284"/>
                      </a:cubicBezTo>
                      <a:cubicBezTo>
                        <a:pt x="475" y="258"/>
                        <a:pt x="473" y="187"/>
                        <a:pt x="444" y="174"/>
                      </a:cubicBezTo>
                      <a:cubicBezTo>
                        <a:pt x="402" y="155"/>
                        <a:pt x="353" y="162"/>
                        <a:pt x="307" y="156"/>
                      </a:cubicBezTo>
                      <a:cubicBezTo>
                        <a:pt x="222" y="145"/>
                        <a:pt x="136" y="139"/>
                        <a:pt x="51" y="128"/>
                      </a:cubicBezTo>
                      <a:cubicBezTo>
                        <a:pt x="0" y="94"/>
                        <a:pt x="15" y="67"/>
                        <a:pt x="60" y="37"/>
                      </a:cubicBezTo>
                      <a:cubicBezTo>
                        <a:pt x="124" y="40"/>
                        <a:pt x="188" y="41"/>
                        <a:pt x="252" y="46"/>
                      </a:cubicBezTo>
                      <a:cubicBezTo>
                        <a:pt x="262" y="47"/>
                        <a:pt x="273" y="62"/>
                        <a:pt x="280" y="55"/>
                      </a:cubicBezTo>
                      <a:cubicBezTo>
                        <a:pt x="294" y="41"/>
                        <a:pt x="298" y="0"/>
                        <a:pt x="298" y="0"/>
                      </a:cubicBezTo>
                      <a:cubicBezTo>
                        <a:pt x="304" y="9"/>
                        <a:pt x="316" y="28"/>
                        <a:pt x="316" y="28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215440" y="8377200"/>
                  <a:ext cx="622440" cy="1857240"/>
                </a:xfrm>
                <a:custGeom>
                  <a:avLst/>
                  <a:gdLst/>
                  <a:ahLst/>
                  <a:rect l="l" t="t" r="r" b="b"/>
                  <a:pathLst>
                    <a:path w="147" h="439">
                      <a:moveTo>
                        <a:pt x="147" y="439"/>
                      </a:moveTo>
                      <a:cubicBezTo>
                        <a:pt x="104" y="425"/>
                        <a:pt x="61" y="416"/>
                        <a:pt x="19" y="402"/>
                      </a:cubicBezTo>
                      <a:cubicBezTo>
                        <a:pt x="0" y="350"/>
                        <a:pt x="7" y="327"/>
                        <a:pt x="55" y="311"/>
                      </a:cubicBezTo>
                      <a:cubicBezTo>
                        <a:pt x="72" y="284"/>
                        <a:pt x="92" y="264"/>
                        <a:pt x="110" y="238"/>
                      </a:cubicBezTo>
                      <a:cubicBezTo>
                        <a:pt x="128" y="164"/>
                        <a:pt x="124" y="198"/>
                        <a:pt x="110" y="73"/>
                      </a:cubicBezTo>
                      <a:cubicBezTo>
                        <a:pt x="107" y="48"/>
                        <a:pt x="92" y="25"/>
                        <a:pt x="92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952000" y="8301240"/>
                  <a:ext cx="1107720" cy="3248280"/>
                </a:xfrm>
                <a:custGeom>
                  <a:avLst/>
                  <a:gdLst/>
                  <a:ahLst/>
                  <a:rect l="l" t="t" r="r" b="b"/>
                  <a:pathLst>
                    <a:path w="262" h="768">
                      <a:moveTo>
                        <a:pt x="201" y="768"/>
                      </a:moveTo>
                      <a:cubicBezTo>
                        <a:pt x="208" y="694"/>
                        <a:pt x="214" y="610"/>
                        <a:pt x="238" y="539"/>
                      </a:cubicBezTo>
                      <a:cubicBezTo>
                        <a:pt x="249" y="447"/>
                        <a:pt x="262" y="314"/>
                        <a:pt x="174" y="256"/>
                      </a:cubicBezTo>
                      <a:cubicBezTo>
                        <a:pt x="160" y="213"/>
                        <a:pt x="147" y="226"/>
                        <a:pt x="110" y="201"/>
                      </a:cubicBezTo>
                      <a:cubicBezTo>
                        <a:pt x="93" y="147"/>
                        <a:pt x="93" y="139"/>
                        <a:pt x="37" y="118"/>
                      </a:cubicBezTo>
                      <a:cubicBezTo>
                        <a:pt x="0" y="83"/>
                        <a:pt x="0" y="46"/>
                        <a:pt x="0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64" name=""/>
          <p:cNvSpPr/>
          <p:nvPr/>
        </p:nvSpPr>
        <p:spPr>
          <a:xfrm rot="16200000">
            <a:off x="2698920" y="4464000"/>
            <a:ext cx="622080" cy="144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781680" y="293364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708660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69608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77240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1629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162920" y="4610160"/>
            <a:ext cx="914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rot="9534600">
            <a:off x="6933960" y="262872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rot="11531400">
            <a:off x="7238520" y="262836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rot="13149000">
            <a:off x="73911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rot="14453400">
            <a:off x="76197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162920" y="53722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7724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400800" y="4457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8381880" y="49150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7238880" y="4267080"/>
            <a:ext cx="30492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828800" y="0"/>
            <a:ext cx="3200400" cy="2438280"/>
          </a:xfrm>
          <a:prstGeom prst="wedgeEllipseCallout">
            <a:avLst>
              <a:gd name="adj1" fmla="val -28273"/>
              <a:gd name="adj2" fmla="val 89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, take me to your lead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362320" y="3733920"/>
            <a:ext cx="38088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828800"/>
            <a:ext cx="1927800" cy="4542120"/>
            <a:chOff x="685800" y="1828800"/>
            <a:chExt cx="1927800" cy="4542120"/>
          </a:xfrm>
        </p:grpSpPr>
        <p:grpSp>
          <p:nvGrpSpPr>
            <p:cNvPr id="1288" name=""/>
            <p:cNvGrpSpPr/>
            <p:nvPr/>
          </p:nvGrpSpPr>
          <p:grpSpPr>
            <a:xfrm>
              <a:off x="789480" y="1828800"/>
              <a:ext cx="1824120" cy="4542120"/>
              <a:chOff x="789480" y="1828800"/>
              <a:chExt cx="1824120" cy="4542120"/>
            </a:xfrm>
          </p:grpSpPr>
          <p:grpSp>
            <p:nvGrpSpPr>
              <p:cNvPr id="1289" name=""/>
              <p:cNvGrpSpPr/>
              <p:nvPr/>
            </p:nvGrpSpPr>
            <p:grpSpPr>
              <a:xfrm>
                <a:off x="789480" y="1828800"/>
                <a:ext cx="1824120" cy="4542120"/>
                <a:chOff x="789480" y="1828800"/>
                <a:chExt cx="1824120" cy="4542120"/>
              </a:xfrm>
            </p:grpSpPr>
            <p:grpSp>
              <p:nvGrpSpPr>
                <p:cNvPr id="1290" name=""/>
                <p:cNvGrpSpPr/>
                <p:nvPr/>
              </p:nvGrpSpPr>
              <p:grpSpPr>
                <a:xfrm>
                  <a:off x="789480" y="1828800"/>
                  <a:ext cx="1824120" cy="3199680"/>
                  <a:chOff x="789480" y="1828800"/>
                  <a:chExt cx="1824120" cy="3199680"/>
                </a:xfrm>
              </p:grpSpPr>
              <p:sp>
                <p:nvSpPr>
                  <p:cNvPr id="1291" name=""/>
                  <p:cNvSpPr/>
                  <p:nvPr/>
                </p:nvSpPr>
                <p:spPr>
                  <a:xfrm>
                    <a:off x="914040" y="1828800"/>
                    <a:ext cx="1600200" cy="20570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rot="19351800">
                    <a:off x="989640" y="2666160"/>
                    <a:ext cx="527040" cy="83772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rot="1925400">
                    <a:off x="1904400" y="2666520"/>
                    <a:ext cx="527040" cy="83772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1218600" y="4114440"/>
                    <a:ext cx="990720" cy="9140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 flipH="1">
                    <a:off x="1675800" y="3733200"/>
                    <a:ext cx="76320" cy="533160"/>
                  </a:xfrm>
                  <a:prstGeom prst="line">
                    <a:avLst/>
                  </a:prstGeom>
                  <a:ln w="1620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6" name=""/>
                <p:cNvGrpSpPr/>
                <p:nvPr/>
              </p:nvGrpSpPr>
              <p:grpSpPr>
                <a:xfrm>
                  <a:off x="838080" y="4876560"/>
                  <a:ext cx="1752480" cy="1494360"/>
                  <a:chOff x="838080" y="4876560"/>
                  <a:chExt cx="1752480" cy="1494360"/>
                </a:xfrm>
              </p:grpSpPr>
              <p:grpSp>
                <p:nvGrpSpPr>
                  <p:cNvPr id="1297" name=""/>
                  <p:cNvGrpSpPr/>
                  <p:nvPr/>
                </p:nvGrpSpPr>
                <p:grpSpPr>
                  <a:xfrm>
                    <a:off x="838080" y="5562000"/>
                    <a:ext cx="1752480" cy="808920"/>
                    <a:chOff x="838080" y="5562000"/>
                    <a:chExt cx="1752480" cy="808920"/>
                  </a:xfrm>
                </p:grpSpPr>
                <p:sp>
                  <p:nvSpPr>
                    <p:cNvPr id="1298" name=""/>
                    <p:cNvSpPr/>
                    <p:nvPr/>
                  </p:nvSpPr>
                  <p:spPr>
                    <a:xfrm>
                      <a:off x="1523880" y="5942520"/>
                      <a:ext cx="380880" cy="3520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9" name=""/>
                    <p:cNvSpPr/>
                    <p:nvPr/>
                  </p:nvSpPr>
                  <p:spPr>
                    <a:xfrm>
                      <a:off x="2209680" y="5713920"/>
                      <a:ext cx="380880" cy="3520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0" name=""/>
                    <p:cNvSpPr/>
                    <p:nvPr/>
                  </p:nvSpPr>
                  <p:spPr>
                    <a:xfrm>
                      <a:off x="1523880" y="5562000"/>
                      <a:ext cx="380880" cy="3520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1" name=""/>
                    <p:cNvSpPr/>
                    <p:nvPr/>
                  </p:nvSpPr>
                  <p:spPr>
                    <a:xfrm>
                      <a:off x="838080" y="5790240"/>
                      <a:ext cx="380880" cy="3520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1981080" y="6018840"/>
                      <a:ext cx="380880" cy="3520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3" name=""/>
                  <p:cNvGrpSpPr/>
                  <p:nvPr/>
                </p:nvGrpSpPr>
                <p:grpSpPr>
                  <a:xfrm>
                    <a:off x="988920" y="4876560"/>
                    <a:ext cx="1438200" cy="1226160"/>
                    <a:chOff x="988920" y="4876560"/>
                    <a:chExt cx="1438200" cy="1226160"/>
                  </a:xfrm>
                </p:grpSpPr>
                <p:sp>
                  <p:nvSpPr>
                    <p:cNvPr id="1304" name=""/>
                    <p:cNvSpPr/>
                    <p:nvPr/>
                  </p:nvSpPr>
                  <p:spPr>
                    <a:xfrm>
                      <a:off x="1977840" y="4898160"/>
                      <a:ext cx="449280" cy="90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3" h="569">
                          <a:moveTo>
                            <a:pt x="0" y="0"/>
                          </a:moveTo>
                          <a:cubicBezTo>
                            <a:pt x="46" y="70"/>
                            <a:pt x="59" y="71"/>
                            <a:pt x="128" y="119"/>
                          </a:cubicBezTo>
                          <a:cubicBezTo>
                            <a:pt x="146" y="132"/>
                            <a:pt x="183" y="155"/>
                            <a:pt x="183" y="155"/>
                          </a:cubicBezTo>
                          <a:cubicBezTo>
                            <a:pt x="233" y="231"/>
                            <a:pt x="209" y="216"/>
                            <a:pt x="237" y="301"/>
                          </a:cubicBezTo>
                          <a:cubicBezTo>
                            <a:pt x="248" y="383"/>
                            <a:pt x="245" y="466"/>
                            <a:pt x="256" y="548"/>
                          </a:cubicBezTo>
                          <a:cubicBezTo>
                            <a:pt x="259" y="569"/>
                            <a:pt x="271" y="567"/>
                            <a:pt x="283" y="567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00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5" name=""/>
                    <p:cNvGrpSpPr/>
                    <p:nvPr/>
                  </p:nvGrpSpPr>
                  <p:grpSpPr>
                    <a:xfrm>
                      <a:off x="988920" y="4876560"/>
                      <a:ext cx="1230120" cy="1226160"/>
                      <a:chOff x="988920" y="4876560"/>
                      <a:chExt cx="1230120" cy="1226160"/>
                    </a:xfrm>
                  </p:grpSpPr>
                  <p:sp>
                    <p:nvSpPr>
                      <p:cNvPr id="1306" name=""/>
                      <p:cNvSpPr/>
                      <p:nvPr/>
                    </p:nvSpPr>
                    <p:spPr>
                      <a:xfrm>
                        <a:off x="988920" y="4955400"/>
                        <a:ext cx="480960" cy="84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3" h="531">
                            <a:moveTo>
                              <a:pt x="303" y="0"/>
                            </a:moveTo>
                            <a:cubicBezTo>
                              <a:pt x="294" y="12"/>
                              <a:pt x="247" y="89"/>
                              <a:pt x="220" y="101"/>
                            </a:cubicBezTo>
                            <a:cubicBezTo>
                              <a:pt x="160" y="127"/>
                              <a:pt x="84" y="133"/>
                              <a:pt x="19" y="147"/>
                            </a:cubicBezTo>
                            <a:cubicBezTo>
                              <a:pt x="0" y="205"/>
                              <a:pt x="13" y="263"/>
                              <a:pt x="47" y="311"/>
                            </a:cubicBezTo>
                            <a:cubicBezTo>
                              <a:pt x="61" y="370"/>
                              <a:pt x="67" y="380"/>
                              <a:pt x="56" y="448"/>
                            </a:cubicBezTo>
                            <a:cubicBezTo>
                              <a:pt x="51" y="481"/>
                              <a:pt x="33" y="500"/>
                              <a:pt x="47" y="531"/>
                            </a:cubicBezTo>
                          </a:path>
                        </a:pathLst>
                      </a:custGeom>
                      <a:noFill/>
                      <a:ln w="76320">
                        <a:solidFill>
                          <a:srgbClr val="00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7" name=""/>
                      <p:cNvSpPr/>
                      <p:nvPr/>
                    </p:nvSpPr>
                    <p:spPr>
                      <a:xfrm>
                        <a:off x="1447560" y="4876560"/>
                        <a:ext cx="631800" cy="114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1" h="384">
                            <a:moveTo>
                              <a:pt x="289" y="384"/>
                            </a:moveTo>
                            <a:cubicBezTo>
                              <a:pt x="333" y="369"/>
                              <a:pt x="426" y="357"/>
                              <a:pt x="426" y="357"/>
                            </a:cubicBezTo>
                            <a:cubicBezTo>
                              <a:pt x="462" y="332"/>
                              <a:pt x="470" y="327"/>
                              <a:pt x="481" y="284"/>
                            </a:cubicBezTo>
                            <a:cubicBezTo>
                              <a:pt x="475" y="258"/>
                              <a:pt x="473" y="187"/>
                              <a:pt x="444" y="174"/>
                            </a:cubicBezTo>
                            <a:cubicBezTo>
                              <a:pt x="402" y="155"/>
                              <a:pt x="353" y="162"/>
                              <a:pt x="307" y="156"/>
                            </a:cubicBezTo>
                            <a:cubicBezTo>
                              <a:pt x="222" y="145"/>
                              <a:pt x="136" y="139"/>
                              <a:pt x="51" y="128"/>
                            </a:cubicBezTo>
                            <a:cubicBezTo>
                              <a:pt x="0" y="94"/>
                              <a:pt x="15" y="67"/>
                              <a:pt x="60" y="37"/>
                            </a:cubicBezTo>
                            <a:cubicBezTo>
                              <a:pt x="124" y="40"/>
                              <a:pt x="188" y="41"/>
                              <a:pt x="252" y="46"/>
                            </a:cubicBezTo>
                            <a:cubicBezTo>
                              <a:pt x="262" y="47"/>
                              <a:pt x="273" y="62"/>
                              <a:pt x="280" y="55"/>
                            </a:cubicBezTo>
                            <a:cubicBezTo>
                              <a:pt x="294" y="41"/>
                              <a:pt x="298" y="0"/>
                              <a:pt x="298" y="0"/>
                            </a:cubicBezTo>
                            <a:cubicBezTo>
                              <a:pt x="304" y="9"/>
                              <a:pt x="316" y="28"/>
                              <a:pt x="316" y="28"/>
                            </a:cubicBezTo>
                          </a:path>
                        </a:pathLst>
                      </a:custGeom>
                      <a:noFill/>
                      <a:ln w="76320">
                        <a:solidFill>
                          <a:srgbClr val="00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8" name=""/>
                      <p:cNvSpPr/>
                      <p:nvPr/>
                    </p:nvSpPr>
                    <p:spPr>
                      <a:xfrm>
                        <a:off x="1526760" y="4912560"/>
                        <a:ext cx="233640" cy="69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7" h="439">
                            <a:moveTo>
                              <a:pt x="147" y="439"/>
                            </a:moveTo>
                            <a:cubicBezTo>
                              <a:pt x="104" y="425"/>
                              <a:pt x="61" y="416"/>
                              <a:pt x="19" y="402"/>
                            </a:cubicBezTo>
                            <a:cubicBezTo>
                              <a:pt x="0" y="350"/>
                              <a:pt x="7" y="327"/>
                              <a:pt x="55" y="311"/>
                            </a:cubicBezTo>
                            <a:cubicBezTo>
                              <a:pt x="72" y="284"/>
                              <a:pt x="92" y="264"/>
                              <a:pt x="110" y="238"/>
                            </a:cubicBezTo>
                            <a:cubicBezTo>
                              <a:pt x="128" y="164"/>
                              <a:pt x="124" y="198"/>
                              <a:pt x="110" y="73"/>
                            </a:cubicBezTo>
                            <a:cubicBezTo>
                              <a:pt x="107" y="48"/>
                              <a:pt x="92" y="25"/>
                              <a:pt x="92" y="0"/>
                            </a:cubicBezTo>
                          </a:path>
                        </a:pathLst>
                      </a:custGeom>
                      <a:noFill/>
                      <a:ln w="76320">
                        <a:solidFill>
                          <a:srgbClr val="00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9" name=""/>
                      <p:cNvSpPr/>
                      <p:nvPr/>
                    </p:nvSpPr>
                    <p:spPr>
                      <a:xfrm>
                        <a:off x="1803240" y="4884120"/>
                        <a:ext cx="415800" cy="121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2" h="768">
                            <a:moveTo>
                              <a:pt x="201" y="768"/>
                            </a:moveTo>
                            <a:cubicBezTo>
                              <a:pt x="208" y="694"/>
                              <a:pt x="214" y="610"/>
                              <a:pt x="238" y="539"/>
                            </a:cubicBezTo>
                            <a:cubicBezTo>
                              <a:pt x="249" y="447"/>
                              <a:pt x="262" y="314"/>
                              <a:pt x="174" y="256"/>
                            </a:cubicBezTo>
                            <a:cubicBezTo>
                              <a:pt x="160" y="213"/>
                              <a:pt x="147" y="226"/>
                              <a:pt x="110" y="201"/>
                            </a:cubicBezTo>
                            <a:cubicBezTo>
                              <a:pt x="93" y="147"/>
                              <a:pt x="93" y="139"/>
                              <a:pt x="37" y="118"/>
                            </a:cubicBezTo>
                            <a:cubicBezTo>
                              <a:pt x="0" y="83"/>
                              <a:pt x="0" y="46"/>
                              <a:pt x="0" y="0"/>
                            </a:cubicBezTo>
                          </a:path>
                        </a:pathLst>
                      </a:custGeom>
                      <a:noFill/>
                      <a:ln w="76320">
                        <a:solidFill>
                          <a:srgbClr val="00f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310" name=""/>
              <p:cNvSpPr/>
              <p:nvPr/>
            </p:nvSpPr>
            <p:spPr>
              <a:xfrm rot="16200000">
                <a:off x="1614960" y="3336840"/>
                <a:ext cx="328680" cy="66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5035" y="1520"/>
                      <a:pt x="8470" y="5080"/>
                      <a:pt x="8470" y="10800"/>
                    </a:cubicBezTo>
                    <a:cubicBezTo>
                      <a:pt x="8470" y="16520"/>
                      <a:pt x="15035" y="2008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685800" y="4010040"/>
              <a:ext cx="1846080" cy="838080"/>
              <a:chOff x="685800" y="4010040"/>
              <a:chExt cx="1846080" cy="838080"/>
            </a:xfrm>
          </p:grpSpPr>
          <p:sp>
            <p:nvSpPr>
              <p:cNvPr id="1312" name=""/>
              <p:cNvSpPr/>
              <p:nvPr/>
            </p:nvSpPr>
            <p:spPr>
              <a:xfrm>
                <a:off x="685800" y="4495680"/>
                <a:ext cx="380880" cy="352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068560" y="4010040"/>
                <a:ext cx="463320" cy="463320"/>
              </a:xfrm>
              <a:custGeom>
                <a:avLst/>
                <a:gdLst/>
                <a:ahLst/>
                <a:rect l="l" t="t" r="r" b="b"/>
                <a:pathLst>
                  <a:path w="292" h="292">
                    <a:moveTo>
                      <a:pt x="0" y="283"/>
                    </a:moveTo>
                    <a:cubicBezTo>
                      <a:pt x="62" y="292"/>
                      <a:pt x="87" y="286"/>
                      <a:pt x="146" y="274"/>
                    </a:cubicBezTo>
                    <a:cubicBezTo>
                      <a:pt x="175" y="255"/>
                      <a:pt x="217" y="229"/>
                      <a:pt x="238" y="201"/>
                    </a:cubicBezTo>
                    <a:cubicBezTo>
                      <a:pt x="251" y="183"/>
                      <a:pt x="274" y="146"/>
                      <a:pt x="274" y="146"/>
                    </a:cubicBezTo>
                    <a:cubicBezTo>
                      <a:pt x="292" y="74"/>
                      <a:pt x="283" y="122"/>
                      <a:pt x="283" y="0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92080" y="4300560"/>
                <a:ext cx="493560" cy="288720"/>
              </a:xfrm>
              <a:custGeom>
                <a:avLst/>
                <a:gdLst/>
                <a:ahLst/>
                <a:rect l="l" t="t" r="r" b="b"/>
                <a:pathLst>
                  <a:path w="311" h="182">
                    <a:moveTo>
                      <a:pt x="311" y="27"/>
                    </a:moveTo>
                    <a:cubicBezTo>
                      <a:pt x="261" y="10"/>
                      <a:pt x="208" y="8"/>
                      <a:pt x="156" y="0"/>
                    </a:cubicBezTo>
                    <a:cubicBezTo>
                      <a:pt x="109" y="8"/>
                      <a:pt x="84" y="10"/>
                      <a:pt x="46" y="36"/>
                    </a:cubicBezTo>
                    <a:cubicBezTo>
                      <a:pt x="17" y="81"/>
                      <a:pt x="0" y="129"/>
                      <a:pt x="0" y="182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5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19112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19112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34340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56272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88620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54100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42670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34340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rot="21314400">
            <a:off x="601956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572000" y="3200400"/>
            <a:ext cx="76212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952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477120" y="3352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rot="16200000">
            <a:off x="6514920" y="42285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066680" y="1600200"/>
            <a:ext cx="3733920" cy="2590920"/>
          </a:xfrm>
          <a:prstGeom prst="wedgeEllipseCallout">
            <a:avLst>
              <a:gd name="adj1" fmla="val 56462"/>
              <a:gd name="adj2" fmla="val 42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we’re just a couple of kid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1814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4952880" y="304920"/>
            <a:ext cx="4038840" cy="6324480"/>
          </a:xfrm>
          <a:prstGeom prst="wedgeEllipseCallout">
            <a:avLst>
              <a:gd name="adj1" fmla="val -57194"/>
              <a:gd name="adj2" fmla="val 21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!  I’ve already imprinted that observation.  So… You don’t have a supreme ruler in your universe?!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438280" y="2514600"/>
            <a:ext cx="38124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84280" y="152280"/>
            <a:ext cx="4265640" cy="5486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rot="19351800">
            <a:off x="1219320" y="2437920"/>
            <a:ext cx="140472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rot="1925400">
            <a:off x="3223800" y="2387520"/>
            <a:ext cx="140508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397160" y="6248520"/>
            <a:ext cx="2639880" cy="2438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2616120" y="5232240"/>
            <a:ext cx="201600" cy="1422720"/>
          </a:xfrm>
          <a:prstGeom prst="line">
            <a:avLst/>
          </a:prstGeom>
          <a:ln w="16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380880" y="8280360"/>
            <a:ext cx="4670280" cy="3985920"/>
            <a:chOff x="380880" y="8280360"/>
            <a:chExt cx="4670280" cy="3985920"/>
          </a:xfrm>
        </p:grpSpPr>
        <p:grpSp>
          <p:nvGrpSpPr>
            <p:cNvPr id="1354" name=""/>
            <p:cNvGrpSpPr/>
            <p:nvPr/>
          </p:nvGrpSpPr>
          <p:grpSpPr>
            <a:xfrm>
              <a:off x="380880" y="10108800"/>
              <a:ext cx="4670280" cy="2157480"/>
              <a:chOff x="380880" y="10108800"/>
              <a:chExt cx="4670280" cy="2157480"/>
            </a:xfrm>
          </p:grpSpPr>
          <p:sp>
            <p:nvSpPr>
              <p:cNvPr id="1355" name=""/>
              <p:cNvSpPr/>
              <p:nvPr/>
            </p:nvSpPr>
            <p:spPr>
              <a:xfrm>
                <a:off x="2208600" y="111236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036320" y="105145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208600" y="1010880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80880" y="107179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427200" y="113270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782640" y="8280360"/>
              <a:ext cx="3832920" cy="3269160"/>
              <a:chOff x="782640" y="8280360"/>
              <a:chExt cx="3832920" cy="3269160"/>
            </a:xfrm>
          </p:grpSpPr>
          <p:sp>
            <p:nvSpPr>
              <p:cNvPr id="1361" name=""/>
              <p:cNvSpPr/>
              <p:nvPr/>
            </p:nvSpPr>
            <p:spPr>
              <a:xfrm>
                <a:off x="3418200" y="8338680"/>
                <a:ext cx="1197360" cy="2408400"/>
              </a:xfrm>
              <a:custGeom>
                <a:avLst/>
                <a:gdLst/>
                <a:ahLst/>
                <a:rect l="l" t="t" r="r" b="b"/>
                <a:pathLst>
                  <a:path w="283" h="569">
                    <a:moveTo>
                      <a:pt x="0" y="0"/>
                    </a:moveTo>
                    <a:cubicBezTo>
                      <a:pt x="46" y="70"/>
                      <a:pt x="59" y="71"/>
                      <a:pt x="128" y="119"/>
                    </a:cubicBezTo>
                    <a:cubicBezTo>
                      <a:pt x="146" y="132"/>
                      <a:pt x="183" y="155"/>
                      <a:pt x="183" y="155"/>
                    </a:cubicBezTo>
                    <a:cubicBezTo>
                      <a:pt x="233" y="231"/>
                      <a:pt x="209" y="216"/>
                      <a:pt x="237" y="301"/>
                    </a:cubicBezTo>
                    <a:cubicBezTo>
                      <a:pt x="248" y="383"/>
                      <a:pt x="245" y="466"/>
                      <a:pt x="256" y="548"/>
                    </a:cubicBezTo>
                    <a:cubicBezTo>
                      <a:pt x="259" y="569"/>
                      <a:pt x="271" y="567"/>
                      <a:pt x="283" y="567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2" name=""/>
              <p:cNvGrpSpPr/>
              <p:nvPr/>
            </p:nvGrpSpPr>
            <p:grpSpPr>
              <a:xfrm>
                <a:off x="782640" y="8280360"/>
                <a:ext cx="3277080" cy="3269160"/>
                <a:chOff x="782640" y="8280360"/>
                <a:chExt cx="3277080" cy="326916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782640" y="8491320"/>
                  <a:ext cx="1281240" cy="2246760"/>
                </a:xfrm>
                <a:custGeom>
                  <a:avLst/>
                  <a:gdLst/>
                  <a:ahLst/>
                  <a:rect l="l" t="t" r="r" b="b"/>
                  <a:pathLst>
                    <a:path w="303" h="531">
                      <a:moveTo>
                        <a:pt x="303" y="0"/>
                      </a:moveTo>
                      <a:cubicBezTo>
                        <a:pt x="294" y="12"/>
                        <a:pt x="247" y="89"/>
                        <a:pt x="220" y="101"/>
                      </a:cubicBezTo>
                      <a:cubicBezTo>
                        <a:pt x="160" y="127"/>
                        <a:pt x="84" y="133"/>
                        <a:pt x="19" y="147"/>
                      </a:cubicBezTo>
                      <a:cubicBezTo>
                        <a:pt x="0" y="205"/>
                        <a:pt x="13" y="263"/>
                        <a:pt x="47" y="311"/>
                      </a:cubicBezTo>
                      <a:cubicBezTo>
                        <a:pt x="61" y="370"/>
                        <a:pt x="67" y="380"/>
                        <a:pt x="56" y="448"/>
                      </a:cubicBezTo>
                      <a:cubicBezTo>
                        <a:pt x="51" y="481"/>
                        <a:pt x="33" y="500"/>
                        <a:pt x="47" y="531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004480" y="8280360"/>
                  <a:ext cx="1683360" cy="3045960"/>
                </a:xfrm>
                <a:custGeom>
                  <a:avLst/>
                  <a:gdLst/>
                  <a:ahLst/>
                  <a:rect l="l" t="t" r="r" b="b"/>
                  <a:pathLst>
                    <a:path w="481" h="384">
                      <a:moveTo>
                        <a:pt x="289" y="384"/>
                      </a:moveTo>
                      <a:cubicBezTo>
                        <a:pt x="333" y="369"/>
                        <a:pt x="426" y="357"/>
                        <a:pt x="426" y="357"/>
                      </a:cubicBezTo>
                      <a:cubicBezTo>
                        <a:pt x="462" y="332"/>
                        <a:pt x="470" y="327"/>
                        <a:pt x="481" y="284"/>
                      </a:cubicBezTo>
                      <a:cubicBezTo>
                        <a:pt x="475" y="258"/>
                        <a:pt x="473" y="187"/>
                        <a:pt x="444" y="174"/>
                      </a:cubicBezTo>
                      <a:cubicBezTo>
                        <a:pt x="402" y="155"/>
                        <a:pt x="353" y="162"/>
                        <a:pt x="307" y="156"/>
                      </a:cubicBezTo>
                      <a:cubicBezTo>
                        <a:pt x="222" y="145"/>
                        <a:pt x="136" y="139"/>
                        <a:pt x="51" y="128"/>
                      </a:cubicBezTo>
                      <a:cubicBezTo>
                        <a:pt x="0" y="94"/>
                        <a:pt x="15" y="67"/>
                        <a:pt x="60" y="37"/>
                      </a:cubicBezTo>
                      <a:cubicBezTo>
                        <a:pt x="124" y="40"/>
                        <a:pt x="188" y="41"/>
                        <a:pt x="252" y="46"/>
                      </a:cubicBezTo>
                      <a:cubicBezTo>
                        <a:pt x="262" y="47"/>
                        <a:pt x="273" y="62"/>
                        <a:pt x="280" y="55"/>
                      </a:cubicBezTo>
                      <a:cubicBezTo>
                        <a:pt x="294" y="41"/>
                        <a:pt x="298" y="0"/>
                        <a:pt x="298" y="0"/>
                      </a:cubicBezTo>
                      <a:cubicBezTo>
                        <a:pt x="304" y="9"/>
                        <a:pt x="316" y="28"/>
                        <a:pt x="316" y="28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2215440" y="8377200"/>
                  <a:ext cx="622440" cy="1857240"/>
                </a:xfrm>
                <a:custGeom>
                  <a:avLst/>
                  <a:gdLst/>
                  <a:ahLst/>
                  <a:rect l="l" t="t" r="r" b="b"/>
                  <a:pathLst>
                    <a:path w="147" h="439">
                      <a:moveTo>
                        <a:pt x="147" y="439"/>
                      </a:moveTo>
                      <a:cubicBezTo>
                        <a:pt x="104" y="425"/>
                        <a:pt x="61" y="416"/>
                        <a:pt x="19" y="402"/>
                      </a:cubicBezTo>
                      <a:cubicBezTo>
                        <a:pt x="0" y="350"/>
                        <a:pt x="7" y="327"/>
                        <a:pt x="55" y="311"/>
                      </a:cubicBezTo>
                      <a:cubicBezTo>
                        <a:pt x="72" y="284"/>
                        <a:pt x="92" y="264"/>
                        <a:pt x="110" y="238"/>
                      </a:cubicBezTo>
                      <a:cubicBezTo>
                        <a:pt x="128" y="164"/>
                        <a:pt x="124" y="198"/>
                        <a:pt x="110" y="73"/>
                      </a:cubicBezTo>
                      <a:cubicBezTo>
                        <a:pt x="107" y="48"/>
                        <a:pt x="92" y="25"/>
                        <a:pt x="92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2952000" y="8301240"/>
                  <a:ext cx="1107720" cy="3248280"/>
                </a:xfrm>
                <a:custGeom>
                  <a:avLst/>
                  <a:gdLst/>
                  <a:ahLst/>
                  <a:rect l="l" t="t" r="r" b="b"/>
                  <a:pathLst>
                    <a:path w="262" h="768">
                      <a:moveTo>
                        <a:pt x="201" y="768"/>
                      </a:moveTo>
                      <a:cubicBezTo>
                        <a:pt x="208" y="694"/>
                        <a:pt x="214" y="610"/>
                        <a:pt x="238" y="539"/>
                      </a:cubicBezTo>
                      <a:cubicBezTo>
                        <a:pt x="249" y="447"/>
                        <a:pt x="262" y="314"/>
                        <a:pt x="174" y="256"/>
                      </a:cubicBezTo>
                      <a:cubicBezTo>
                        <a:pt x="160" y="213"/>
                        <a:pt x="147" y="226"/>
                        <a:pt x="110" y="201"/>
                      </a:cubicBezTo>
                      <a:cubicBezTo>
                        <a:pt x="93" y="147"/>
                        <a:pt x="93" y="139"/>
                        <a:pt x="37" y="118"/>
                      </a:cubicBezTo>
                      <a:cubicBezTo>
                        <a:pt x="0" y="83"/>
                        <a:pt x="0" y="46"/>
                        <a:pt x="0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67" name=""/>
          <p:cNvSpPr/>
          <p:nvPr/>
        </p:nvSpPr>
        <p:spPr>
          <a:xfrm rot="16200000">
            <a:off x="2698920" y="4464000"/>
            <a:ext cx="622080" cy="144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781680" y="293364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708660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769608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777240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71629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7162920" y="4610160"/>
            <a:ext cx="914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rot="9534600">
            <a:off x="6933960" y="262872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rot="11531400">
            <a:off x="7238520" y="262836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rot="13149000">
            <a:off x="73911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rot="14453400">
            <a:off x="76197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162920" y="53722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77724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400800" y="4457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8381880" y="49150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4267080"/>
            <a:ext cx="30492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2320" y="3733920"/>
            <a:ext cx="38088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789480" y="1828800"/>
            <a:ext cx="1824120" cy="4543560"/>
            <a:chOff x="789480" y="1828800"/>
            <a:chExt cx="1824120" cy="4543560"/>
          </a:xfrm>
        </p:grpSpPr>
        <p:grpSp>
          <p:nvGrpSpPr>
            <p:cNvPr id="1390" name=""/>
            <p:cNvGrpSpPr/>
            <p:nvPr/>
          </p:nvGrpSpPr>
          <p:grpSpPr>
            <a:xfrm>
              <a:off x="789480" y="1828800"/>
              <a:ext cx="1824120" cy="3200400"/>
              <a:chOff x="789480" y="1828800"/>
              <a:chExt cx="1824120" cy="3200400"/>
            </a:xfrm>
          </p:grpSpPr>
          <p:sp>
            <p:nvSpPr>
              <p:cNvPr id="1391" name=""/>
              <p:cNvSpPr/>
              <p:nvPr/>
            </p:nvSpPr>
            <p:spPr>
              <a:xfrm>
                <a:off x="914040" y="1828800"/>
                <a:ext cx="1600200" cy="2057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19351800">
                <a:off x="99000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1925400">
                <a:off x="190404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1218600" y="4114800"/>
                <a:ext cx="990720" cy="914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>
                <a:off x="1675800" y="3733560"/>
                <a:ext cx="76320" cy="533520"/>
              </a:xfrm>
              <a:prstGeom prst="line">
                <a:avLst/>
              </a:prstGeom>
              <a:ln w="1620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838080" y="4876920"/>
              <a:ext cx="1752480" cy="1495440"/>
              <a:chOff x="838080" y="4876920"/>
              <a:chExt cx="1752480" cy="1495440"/>
            </a:xfrm>
          </p:grpSpPr>
          <p:grpSp>
            <p:nvGrpSpPr>
              <p:cNvPr id="1397" name=""/>
              <p:cNvGrpSpPr/>
              <p:nvPr/>
            </p:nvGrpSpPr>
            <p:grpSpPr>
              <a:xfrm>
                <a:off x="838080" y="5562720"/>
                <a:ext cx="1752480" cy="809640"/>
                <a:chOff x="838080" y="5562720"/>
                <a:chExt cx="1752480" cy="809640"/>
              </a:xfrm>
            </p:grpSpPr>
            <p:sp>
              <p:nvSpPr>
                <p:cNvPr id="1398" name=""/>
                <p:cNvSpPr/>
                <p:nvPr/>
              </p:nvSpPr>
              <p:spPr>
                <a:xfrm>
                  <a:off x="1523880" y="59436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2209680" y="57150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1523880" y="55627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838080" y="57913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1981080" y="60199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988920" y="4876920"/>
                <a:ext cx="1438200" cy="1226880"/>
                <a:chOff x="988920" y="4876920"/>
                <a:chExt cx="1438200" cy="122688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977840" y="4898880"/>
                  <a:ext cx="449280" cy="903600"/>
                </a:xfrm>
                <a:custGeom>
                  <a:avLst/>
                  <a:gdLst/>
                  <a:ahLst/>
                  <a:rect l="l" t="t" r="r" b="b"/>
                  <a:pathLst>
                    <a:path w="283" h="569">
                      <a:moveTo>
                        <a:pt x="0" y="0"/>
                      </a:moveTo>
                      <a:cubicBezTo>
                        <a:pt x="46" y="70"/>
                        <a:pt x="59" y="71"/>
                        <a:pt x="128" y="119"/>
                      </a:cubicBezTo>
                      <a:cubicBezTo>
                        <a:pt x="146" y="132"/>
                        <a:pt x="183" y="155"/>
                        <a:pt x="183" y="155"/>
                      </a:cubicBezTo>
                      <a:cubicBezTo>
                        <a:pt x="233" y="231"/>
                        <a:pt x="209" y="216"/>
                        <a:pt x="237" y="301"/>
                      </a:cubicBezTo>
                      <a:cubicBezTo>
                        <a:pt x="248" y="383"/>
                        <a:pt x="245" y="466"/>
                        <a:pt x="256" y="548"/>
                      </a:cubicBezTo>
                      <a:cubicBezTo>
                        <a:pt x="259" y="569"/>
                        <a:pt x="271" y="567"/>
                        <a:pt x="283" y="567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5" name=""/>
                <p:cNvGrpSpPr/>
                <p:nvPr/>
              </p:nvGrpSpPr>
              <p:grpSpPr>
                <a:xfrm>
                  <a:off x="988920" y="4876920"/>
                  <a:ext cx="1230120" cy="1226880"/>
                  <a:chOff x="988920" y="4876920"/>
                  <a:chExt cx="1230120" cy="1226880"/>
                </a:xfrm>
              </p:grpSpPr>
              <p:sp>
                <p:nvSpPr>
                  <p:cNvPr id="1406" name=""/>
                  <p:cNvSpPr/>
                  <p:nvPr/>
                </p:nvSpPr>
                <p:spPr>
                  <a:xfrm>
                    <a:off x="988920" y="4956120"/>
                    <a:ext cx="480960" cy="84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531">
                        <a:moveTo>
                          <a:pt x="303" y="0"/>
                        </a:moveTo>
                        <a:cubicBezTo>
                          <a:pt x="294" y="12"/>
                          <a:pt x="247" y="89"/>
                          <a:pt x="220" y="101"/>
                        </a:cubicBezTo>
                        <a:cubicBezTo>
                          <a:pt x="160" y="127"/>
                          <a:pt x="84" y="133"/>
                          <a:pt x="19" y="147"/>
                        </a:cubicBezTo>
                        <a:cubicBezTo>
                          <a:pt x="0" y="205"/>
                          <a:pt x="13" y="263"/>
                          <a:pt x="47" y="311"/>
                        </a:cubicBezTo>
                        <a:cubicBezTo>
                          <a:pt x="61" y="370"/>
                          <a:pt x="67" y="380"/>
                          <a:pt x="56" y="448"/>
                        </a:cubicBezTo>
                        <a:cubicBezTo>
                          <a:pt x="51" y="481"/>
                          <a:pt x="33" y="500"/>
                          <a:pt x="47" y="531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1447560" y="4876920"/>
                    <a:ext cx="631800" cy="11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384">
                        <a:moveTo>
                          <a:pt x="289" y="384"/>
                        </a:moveTo>
                        <a:cubicBezTo>
                          <a:pt x="333" y="369"/>
                          <a:pt x="426" y="357"/>
                          <a:pt x="426" y="357"/>
                        </a:cubicBezTo>
                        <a:cubicBezTo>
                          <a:pt x="462" y="332"/>
                          <a:pt x="470" y="327"/>
                          <a:pt x="481" y="284"/>
                        </a:cubicBezTo>
                        <a:cubicBezTo>
                          <a:pt x="475" y="258"/>
                          <a:pt x="473" y="187"/>
                          <a:pt x="444" y="174"/>
                        </a:cubicBezTo>
                        <a:cubicBezTo>
                          <a:pt x="402" y="155"/>
                          <a:pt x="353" y="162"/>
                          <a:pt x="307" y="156"/>
                        </a:cubicBezTo>
                        <a:cubicBezTo>
                          <a:pt x="222" y="145"/>
                          <a:pt x="136" y="139"/>
                          <a:pt x="51" y="128"/>
                        </a:cubicBezTo>
                        <a:cubicBezTo>
                          <a:pt x="0" y="94"/>
                          <a:pt x="15" y="67"/>
                          <a:pt x="60" y="37"/>
                        </a:cubicBezTo>
                        <a:cubicBezTo>
                          <a:pt x="124" y="40"/>
                          <a:pt x="188" y="41"/>
                          <a:pt x="252" y="46"/>
                        </a:cubicBezTo>
                        <a:cubicBezTo>
                          <a:pt x="262" y="47"/>
                          <a:pt x="273" y="62"/>
                          <a:pt x="280" y="55"/>
                        </a:cubicBezTo>
                        <a:cubicBezTo>
                          <a:pt x="294" y="41"/>
                          <a:pt x="298" y="0"/>
                          <a:pt x="298" y="0"/>
                        </a:cubicBezTo>
                        <a:cubicBezTo>
                          <a:pt x="304" y="9"/>
                          <a:pt x="316" y="28"/>
                          <a:pt x="316" y="2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1526760" y="4913280"/>
                    <a:ext cx="233640" cy="69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439">
                        <a:moveTo>
                          <a:pt x="147" y="439"/>
                        </a:moveTo>
                        <a:cubicBezTo>
                          <a:pt x="104" y="425"/>
                          <a:pt x="61" y="416"/>
                          <a:pt x="19" y="402"/>
                        </a:cubicBezTo>
                        <a:cubicBezTo>
                          <a:pt x="0" y="350"/>
                          <a:pt x="7" y="327"/>
                          <a:pt x="55" y="311"/>
                        </a:cubicBezTo>
                        <a:cubicBezTo>
                          <a:pt x="72" y="284"/>
                          <a:pt x="92" y="264"/>
                          <a:pt x="110" y="238"/>
                        </a:cubicBezTo>
                        <a:cubicBezTo>
                          <a:pt x="128" y="164"/>
                          <a:pt x="124" y="198"/>
                          <a:pt x="110" y="73"/>
                        </a:cubicBezTo>
                        <a:cubicBezTo>
                          <a:pt x="107" y="48"/>
                          <a:pt x="92" y="25"/>
                          <a:pt x="92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1803240" y="4884840"/>
                    <a:ext cx="415800" cy="12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768">
                        <a:moveTo>
                          <a:pt x="201" y="768"/>
                        </a:moveTo>
                        <a:cubicBezTo>
                          <a:pt x="208" y="694"/>
                          <a:pt x="214" y="610"/>
                          <a:pt x="238" y="539"/>
                        </a:cubicBezTo>
                        <a:cubicBezTo>
                          <a:pt x="249" y="447"/>
                          <a:pt x="262" y="314"/>
                          <a:pt x="174" y="256"/>
                        </a:cubicBezTo>
                        <a:cubicBezTo>
                          <a:pt x="160" y="213"/>
                          <a:pt x="147" y="226"/>
                          <a:pt x="110" y="201"/>
                        </a:cubicBezTo>
                        <a:cubicBezTo>
                          <a:pt x="93" y="147"/>
                          <a:pt x="93" y="139"/>
                          <a:pt x="37" y="118"/>
                        </a:cubicBezTo>
                        <a:cubicBezTo>
                          <a:pt x="0" y="83"/>
                          <a:pt x="0" y="46"/>
                          <a:pt x="0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10" name=""/>
          <p:cNvSpPr/>
          <p:nvPr/>
        </p:nvSpPr>
        <p:spPr>
          <a:xfrm rot="16200000">
            <a:off x="1615320" y="3337560"/>
            <a:ext cx="32832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685800" y="4010040"/>
            <a:ext cx="1846080" cy="838080"/>
            <a:chOff x="685800" y="4010040"/>
            <a:chExt cx="1846080" cy="838080"/>
          </a:xfrm>
        </p:grpSpPr>
        <p:sp>
          <p:nvSpPr>
            <p:cNvPr id="1412" name=""/>
            <p:cNvSpPr/>
            <p:nvPr/>
          </p:nvSpPr>
          <p:spPr>
            <a:xfrm>
              <a:off x="685800" y="4495680"/>
              <a:ext cx="380880" cy="3524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068560" y="4010040"/>
              <a:ext cx="46332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0" y="283"/>
                  </a:moveTo>
                  <a:cubicBezTo>
                    <a:pt x="62" y="292"/>
                    <a:pt x="87" y="286"/>
                    <a:pt x="146" y="274"/>
                  </a:cubicBezTo>
                  <a:cubicBezTo>
                    <a:pt x="175" y="255"/>
                    <a:pt x="217" y="229"/>
                    <a:pt x="238" y="201"/>
                  </a:cubicBezTo>
                  <a:cubicBezTo>
                    <a:pt x="251" y="183"/>
                    <a:pt x="274" y="146"/>
                    <a:pt x="274" y="146"/>
                  </a:cubicBezTo>
                  <a:cubicBezTo>
                    <a:pt x="292" y="74"/>
                    <a:pt x="283" y="122"/>
                    <a:pt x="283" y="0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892080" y="4300560"/>
              <a:ext cx="493560" cy="288720"/>
            </a:xfrm>
            <a:custGeom>
              <a:avLst/>
              <a:gdLst/>
              <a:ahLst/>
              <a:rect l="l" t="t" r="r" b="b"/>
              <a:pathLst>
                <a:path w="311" h="182">
                  <a:moveTo>
                    <a:pt x="311" y="27"/>
                  </a:moveTo>
                  <a:cubicBezTo>
                    <a:pt x="261" y="10"/>
                    <a:pt x="208" y="8"/>
                    <a:pt x="156" y="0"/>
                  </a:cubicBezTo>
                  <a:cubicBezTo>
                    <a:pt x="109" y="8"/>
                    <a:pt x="84" y="10"/>
                    <a:pt x="46" y="36"/>
                  </a:cubicBezTo>
                  <a:cubicBezTo>
                    <a:pt x="17" y="81"/>
                    <a:pt x="0" y="129"/>
                    <a:pt x="0" y="182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5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19112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19112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34340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56272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88620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4100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2670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34340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312408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rot="21314400">
            <a:off x="601956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572000" y="3200400"/>
            <a:ext cx="76212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952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676520" y="152280"/>
            <a:ext cx="6095880" cy="2438640"/>
          </a:xfrm>
          <a:prstGeom prst="wedgeEllipseCallout">
            <a:avLst>
              <a:gd name="adj1" fmla="val 35990"/>
              <a:gd name="adj2" fmla="val 969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a wanna bet?! We’ve got more than one! We got three of th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rot="16200000">
            <a:off x="7391160" y="3809880"/>
            <a:ext cx="457200" cy="1066680"/>
          </a:xfrm>
          <a:custGeom>
            <a:avLst/>
            <a:gdLst>
              <a:gd name="textAreaLeft" fmla="*/ 186120 w 457200"/>
              <a:gd name="textAreaRight" fmla="*/ 306360 w 457200"/>
              <a:gd name="textAreaTop" fmla="*/ 103680 h 1066680"/>
              <a:gd name="textAreaBottom" fmla="*/ 9630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038" y="2597"/>
                  <a:pt x="14475" y="5080"/>
                  <a:pt x="14475" y="10800"/>
                </a:cubicBezTo>
                <a:cubicBezTo>
                  <a:pt x="14475" y="16520"/>
                  <a:pt x="18038" y="190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477120" y="3352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rot="16200000">
            <a:off x="6514920" y="42285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1814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80880" y="304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2057400" y="1676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533520" y="1676520"/>
            <a:ext cx="121896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609480" y="2133720"/>
            <a:ext cx="1828800" cy="304560"/>
            <a:chOff x="609480" y="2133720"/>
            <a:chExt cx="1828800" cy="304560"/>
          </a:xfrm>
        </p:grpSpPr>
        <p:sp>
          <p:nvSpPr>
            <p:cNvPr id="1450" name=""/>
            <p:cNvSpPr/>
            <p:nvPr/>
          </p:nvSpPr>
          <p:spPr>
            <a:xfrm>
              <a:off x="2133720" y="2133720"/>
              <a:ext cx="304560" cy="30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09480" y="2133720"/>
              <a:ext cx="304920" cy="30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685800" y="4038480"/>
            <a:ext cx="3048120" cy="2819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2286000" y="456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2362320" y="76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666880" y="4495680"/>
            <a:ext cx="2210040" cy="1371600"/>
          </a:xfrm>
          <a:prstGeom prst="wedgeEllipseCallout">
            <a:avLst>
              <a:gd name="adj1" fmla="val -39078"/>
              <a:gd name="adj2" fmla="val -936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2133720" y="3352680"/>
            <a:ext cx="914400" cy="30492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09166 0.03334 E">
                                      <p:cBhvr>
                                        <p:cTn id="582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243828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27432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27432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2339280" y="2613960"/>
            <a:ext cx="404640" cy="1272960"/>
          </a:xfrm>
          <a:custGeom>
            <a:avLst/>
            <a:gdLst>
              <a:gd name="textAreaLeft" fmla="*/ 149400 w 404640"/>
              <a:gd name="textAreaRight" fmla="*/ 273600 w 404640"/>
              <a:gd name="textAreaTop" fmla="*/ 142560 h 1272960"/>
              <a:gd name="textAreaBottom" fmla="*/ 1130400 h 127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03" y="2620"/>
                  <a:pt x="14606" y="5080"/>
                  <a:pt x="14606" y="10800"/>
                </a:cubicBezTo>
                <a:cubicBezTo>
                  <a:pt x="14606" y="16520"/>
                  <a:pt x="18103" y="189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133360" y="1600200"/>
            <a:ext cx="5331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28600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297180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3657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365760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6187320" y="4099320"/>
            <a:ext cx="32868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648320"/>
            <a:ext cx="9144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9534600">
            <a:off x="5638320" y="266688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1531400">
            <a:off x="5943240" y="266652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3149000">
            <a:off x="6095520" y="259020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4453400">
            <a:off x="6324480" y="259020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54100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838080"/>
            <a:ext cx="2971800" cy="1524240"/>
          </a:xfrm>
          <a:prstGeom prst="wedgeEllipseCallout">
            <a:avLst>
              <a:gd name="adj1" fmla="val 20833"/>
              <a:gd name="adj2" fmla="val 72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y,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low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90512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274320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274320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411480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 0.13334 E">
                                      <p:cBhvr>
                                        <p:cTn id="74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3.33333E-006 0.26667 E">
                                      <p:cBhvr>
                                        <p:cTn id="76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33333E-006 L 5.55112E-017 0.2 E">
                                      <p:cBhvr>
                                        <p:cTn id="79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477120" y="3352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rot="16200000">
            <a:off x="6514920" y="42285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1814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80880" y="304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2057400" y="1676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28954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33520" y="1676520"/>
            <a:ext cx="121896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137160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85800" y="4038480"/>
            <a:ext cx="3048120" cy="2819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2286000" y="456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2362320" y="76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133720" y="3352680"/>
            <a:ext cx="914400" cy="30492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09480" y="609480"/>
            <a:ext cx="3886200" cy="4267440"/>
          </a:xfrm>
          <a:prstGeom prst="wedgeEllipseCallout">
            <a:avLst>
              <a:gd name="adj1" fmla="val 83662"/>
              <a:gd name="adj2" fmla="val 4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ah, we do. We’ve got the Almighty God and then we’ve got the Son and th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477120" y="3352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6514920" y="42285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1814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0880" y="304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057400" y="1676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954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533520" y="1676520"/>
            <a:ext cx="121896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37160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85800" y="4038480"/>
            <a:ext cx="3048120" cy="2819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2286000" y="456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2362320" y="76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133720" y="3352680"/>
            <a:ext cx="914400" cy="30492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533520"/>
            <a:ext cx="3886200" cy="5486400"/>
          </a:xfrm>
          <a:prstGeom prst="wedgeEllipseCallout">
            <a:avLst>
              <a:gd name="adj1" fmla="val -85296"/>
              <a:gd name="adj2" fmla="val 4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it a minute! All three of them are supposed to be one God throughout all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781680" y="293364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08660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69608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777240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71629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162920" y="4610160"/>
            <a:ext cx="914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rot="9534600">
            <a:off x="6933960" y="262872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rot="11531400">
            <a:off x="7238520" y="262836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rot="13149000">
            <a:off x="73911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rot="14453400">
            <a:off x="76197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162920" y="53722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8580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7724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400800" y="4457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8381880" y="49150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238880" y="4267080"/>
            <a:ext cx="30492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362320" y="3733920"/>
            <a:ext cx="38088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789480" y="1828800"/>
            <a:ext cx="1824120" cy="4543560"/>
            <a:chOff x="789480" y="1828800"/>
            <a:chExt cx="1824120" cy="4543560"/>
          </a:xfrm>
        </p:grpSpPr>
        <p:grpSp>
          <p:nvGrpSpPr>
            <p:cNvPr id="1523" name=""/>
            <p:cNvGrpSpPr/>
            <p:nvPr/>
          </p:nvGrpSpPr>
          <p:grpSpPr>
            <a:xfrm>
              <a:off x="789480" y="1828800"/>
              <a:ext cx="1824120" cy="3200400"/>
              <a:chOff x="789480" y="1828800"/>
              <a:chExt cx="1824120" cy="3200400"/>
            </a:xfrm>
          </p:grpSpPr>
          <p:sp>
            <p:nvSpPr>
              <p:cNvPr id="1524" name=""/>
              <p:cNvSpPr/>
              <p:nvPr/>
            </p:nvSpPr>
            <p:spPr>
              <a:xfrm>
                <a:off x="914040" y="1828800"/>
                <a:ext cx="1600200" cy="2057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19351800">
                <a:off x="99000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rot="1925400">
                <a:off x="190404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218600" y="4114800"/>
                <a:ext cx="990720" cy="914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H="1">
                <a:off x="1675800" y="3733560"/>
                <a:ext cx="76320" cy="533520"/>
              </a:xfrm>
              <a:prstGeom prst="line">
                <a:avLst/>
              </a:prstGeom>
              <a:ln w="1620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838080" y="4876920"/>
              <a:ext cx="1752480" cy="1495440"/>
              <a:chOff x="838080" y="4876920"/>
              <a:chExt cx="1752480" cy="1495440"/>
            </a:xfrm>
          </p:grpSpPr>
          <p:grpSp>
            <p:nvGrpSpPr>
              <p:cNvPr id="1530" name=""/>
              <p:cNvGrpSpPr/>
              <p:nvPr/>
            </p:nvGrpSpPr>
            <p:grpSpPr>
              <a:xfrm>
                <a:off x="838080" y="5562720"/>
                <a:ext cx="1752480" cy="809640"/>
                <a:chOff x="838080" y="5562720"/>
                <a:chExt cx="1752480" cy="80964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1523880" y="59436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2209680" y="57150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1523880" y="55627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38080" y="57913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1981080" y="60199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6" name=""/>
              <p:cNvGrpSpPr/>
              <p:nvPr/>
            </p:nvGrpSpPr>
            <p:grpSpPr>
              <a:xfrm>
                <a:off x="988920" y="4876920"/>
                <a:ext cx="1438200" cy="1226880"/>
                <a:chOff x="988920" y="4876920"/>
                <a:chExt cx="1438200" cy="1226880"/>
              </a:xfrm>
            </p:grpSpPr>
            <p:sp>
              <p:nvSpPr>
                <p:cNvPr id="1537" name=""/>
                <p:cNvSpPr/>
                <p:nvPr/>
              </p:nvSpPr>
              <p:spPr>
                <a:xfrm>
                  <a:off x="1977840" y="4898880"/>
                  <a:ext cx="449280" cy="903600"/>
                </a:xfrm>
                <a:custGeom>
                  <a:avLst/>
                  <a:gdLst/>
                  <a:ahLst/>
                  <a:rect l="l" t="t" r="r" b="b"/>
                  <a:pathLst>
                    <a:path w="283" h="569">
                      <a:moveTo>
                        <a:pt x="0" y="0"/>
                      </a:moveTo>
                      <a:cubicBezTo>
                        <a:pt x="46" y="70"/>
                        <a:pt x="59" y="71"/>
                        <a:pt x="128" y="119"/>
                      </a:cubicBezTo>
                      <a:cubicBezTo>
                        <a:pt x="146" y="132"/>
                        <a:pt x="183" y="155"/>
                        <a:pt x="183" y="155"/>
                      </a:cubicBezTo>
                      <a:cubicBezTo>
                        <a:pt x="233" y="231"/>
                        <a:pt x="209" y="216"/>
                        <a:pt x="237" y="301"/>
                      </a:cubicBezTo>
                      <a:cubicBezTo>
                        <a:pt x="248" y="383"/>
                        <a:pt x="245" y="466"/>
                        <a:pt x="256" y="548"/>
                      </a:cubicBezTo>
                      <a:cubicBezTo>
                        <a:pt x="259" y="569"/>
                        <a:pt x="271" y="567"/>
                        <a:pt x="283" y="567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8" name=""/>
                <p:cNvGrpSpPr/>
                <p:nvPr/>
              </p:nvGrpSpPr>
              <p:grpSpPr>
                <a:xfrm>
                  <a:off x="988920" y="4876920"/>
                  <a:ext cx="1230120" cy="1226880"/>
                  <a:chOff x="988920" y="4876920"/>
                  <a:chExt cx="1230120" cy="1226880"/>
                </a:xfrm>
              </p:grpSpPr>
              <p:sp>
                <p:nvSpPr>
                  <p:cNvPr id="1539" name=""/>
                  <p:cNvSpPr/>
                  <p:nvPr/>
                </p:nvSpPr>
                <p:spPr>
                  <a:xfrm>
                    <a:off x="988920" y="4956120"/>
                    <a:ext cx="480960" cy="84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531">
                        <a:moveTo>
                          <a:pt x="303" y="0"/>
                        </a:moveTo>
                        <a:cubicBezTo>
                          <a:pt x="294" y="12"/>
                          <a:pt x="247" y="89"/>
                          <a:pt x="220" y="101"/>
                        </a:cubicBezTo>
                        <a:cubicBezTo>
                          <a:pt x="160" y="127"/>
                          <a:pt x="84" y="133"/>
                          <a:pt x="19" y="147"/>
                        </a:cubicBezTo>
                        <a:cubicBezTo>
                          <a:pt x="0" y="205"/>
                          <a:pt x="13" y="263"/>
                          <a:pt x="47" y="311"/>
                        </a:cubicBezTo>
                        <a:cubicBezTo>
                          <a:pt x="61" y="370"/>
                          <a:pt x="67" y="380"/>
                          <a:pt x="56" y="448"/>
                        </a:cubicBezTo>
                        <a:cubicBezTo>
                          <a:pt x="51" y="481"/>
                          <a:pt x="33" y="500"/>
                          <a:pt x="47" y="531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1447560" y="4876920"/>
                    <a:ext cx="631800" cy="11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384">
                        <a:moveTo>
                          <a:pt x="289" y="384"/>
                        </a:moveTo>
                        <a:cubicBezTo>
                          <a:pt x="333" y="369"/>
                          <a:pt x="426" y="357"/>
                          <a:pt x="426" y="357"/>
                        </a:cubicBezTo>
                        <a:cubicBezTo>
                          <a:pt x="462" y="332"/>
                          <a:pt x="470" y="327"/>
                          <a:pt x="481" y="284"/>
                        </a:cubicBezTo>
                        <a:cubicBezTo>
                          <a:pt x="475" y="258"/>
                          <a:pt x="473" y="187"/>
                          <a:pt x="444" y="174"/>
                        </a:cubicBezTo>
                        <a:cubicBezTo>
                          <a:pt x="402" y="155"/>
                          <a:pt x="353" y="162"/>
                          <a:pt x="307" y="156"/>
                        </a:cubicBezTo>
                        <a:cubicBezTo>
                          <a:pt x="222" y="145"/>
                          <a:pt x="136" y="139"/>
                          <a:pt x="51" y="128"/>
                        </a:cubicBezTo>
                        <a:cubicBezTo>
                          <a:pt x="0" y="94"/>
                          <a:pt x="15" y="67"/>
                          <a:pt x="60" y="37"/>
                        </a:cubicBezTo>
                        <a:cubicBezTo>
                          <a:pt x="124" y="40"/>
                          <a:pt x="188" y="41"/>
                          <a:pt x="252" y="46"/>
                        </a:cubicBezTo>
                        <a:cubicBezTo>
                          <a:pt x="262" y="47"/>
                          <a:pt x="273" y="62"/>
                          <a:pt x="280" y="55"/>
                        </a:cubicBezTo>
                        <a:cubicBezTo>
                          <a:pt x="294" y="41"/>
                          <a:pt x="298" y="0"/>
                          <a:pt x="298" y="0"/>
                        </a:cubicBezTo>
                        <a:cubicBezTo>
                          <a:pt x="304" y="9"/>
                          <a:pt x="316" y="28"/>
                          <a:pt x="316" y="2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1526760" y="4913280"/>
                    <a:ext cx="233640" cy="69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439">
                        <a:moveTo>
                          <a:pt x="147" y="439"/>
                        </a:moveTo>
                        <a:cubicBezTo>
                          <a:pt x="104" y="425"/>
                          <a:pt x="61" y="416"/>
                          <a:pt x="19" y="402"/>
                        </a:cubicBezTo>
                        <a:cubicBezTo>
                          <a:pt x="0" y="350"/>
                          <a:pt x="7" y="327"/>
                          <a:pt x="55" y="311"/>
                        </a:cubicBezTo>
                        <a:cubicBezTo>
                          <a:pt x="72" y="284"/>
                          <a:pt x="92" y="264"/>
                          <a:pt x="110" y="238"/>
                        </a:cubicBezTo>
                        <a:cubicBezTo>
                          <a:pt x="128" y="164"/>
                          <a:pt x="124" y="198"/>
                          <a:pt x="110" y="73"/>
                        </a:cubicBezTo>
                        <a:cubicBezTo>
                          <a:pt x="107" y="48"/>
                          <a:pt x="92" y="25"/>
                          <a:pt x="92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1803240" y="4884840"/>
                    <a:ext cx="415800" cy="12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768">
                        <a:moveTo>
                          <a:pt x="201" y="768"/>
                        </a:moveTo>
                        <a:cubicBezTo>
                          <a:pt x="208" y="694"/>
                          <a:pt x="214" y="610"/>
                          <a:pt x="238" y="539"/>
                        </a:cubicBezTo>
                        <a:cubicBezTo>
                          <a:pt x="249" y="447"/>
                          <a:pt x="262" y="314"/>
                          <a:pt x="174" y="256"/>
                        </a:cubicBezTo>
                        <a:cubicBezTo>
                          <a:pt x="160" y="213"/>
                          <a:pt x="147" y="226"/>
                          <a:pt x="110" y="201"/>
                        </a:cubicBezTo>
                        <a:cubicBezTo>
                          <a:pt x="93" y="147"/>
                          <a:pt x="93" y="139"/>
                          <a:pt x="37" y="118"/>
                        </a:cubicBezTo>
                        <a:cubicBezTo>
                          <a:pt x="0" y="83"/>
                          <a:pt x="0" y="46"/>
                          <a:pt x="0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43" name=""/>
          <p:cNvSpPr/>
          <p:nvPr/>
        </p:nvSpPr>
        <p:spPr>
          <a:xfrm rot="16200000">
            <a:off x="1615320" y="3337560"/>
            <a:ext cx="32832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685800" y="4010040"/>
            <a:ext cx="1846080" cy="838080"/>
            <a:chOff x="685800" y="4010040"/>
            <a:chExt cx="1846080" cy="838080"/>
          </a:xfrm>
        </p:grpSpPr>
        <p:sp>
          <p:nvSpPr>
            <p:cNvPr id="1545" name=""/>
            <p:cNvSpPr/>
            <p:nvPr/>
          </p:nvSpPr>
          <p:spPr>
            <a:xfrm>
              <a:off x="685800" y="4495680"/>
              <a:ext cx="380880" cy="3524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068560" y="4010040"/>
              <a:ext cx="46332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0" y="283"/>
                  </a:moveTo>
                  <a:cubicBezTo>
                    <a:pt x="62" y="292"/>
                    <a:pt x="87" y="286"/>
                    <a:pt x="146" y="274"/>
                  </a:cubicBezTo>
                  <a:cubicBezTo>
                    <a:pt x="175" y="255"/>
                    <a:pt x="217" y="229"/>
                    <a:pt x="238" y="201"/>
                  </a:cubicBezTo>
                  <a:cubicBezTo>
                    <a:pt x="251" y="183"/>
                    <a:pt x="274" y="146"/>
                    <a:pt x="274" y="146"/>
                  </a:cubicBezTo>
                  <a:cubicBezTo>
                    <a:pt x="292" y="74"/>
                    <a:pt x="283" y="122"/>
                    <a:pt x="283" y="0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92080" y="4300560"/>
              <a:ext cx="493560" cy="288720"/>
            </a:xfrm>
            <a:custGeom>
              <a:avLst/>
              <a:gdLst/>
              <a:ahLst/>
              <a:rect l="l" t="t" r="r" b="b"/>
              <a:pathLst>
                <a:path w="311" h="182">
                  <a:moveTo>
                    <a:pt x="311" y="27"/>
                  </a:moveTo>
                  <a:cubicBezTo>
                    <a:pt x="261" y="10"/>
                    <a:pt x="208" y="8"/>
                    <a:pt x="156" y="0"/>
                  </a:cubicBezTo>
                  <a:cubicBezTo>
                    <a:pt x="109" y="8"/>
                    <a:pt x="84" y="10"/>
                    <a:pt x="46" y="36"/>
                  </a:cubicBezTo>
                  <a:cubicBezTo>
                    <a:pt x="17" y="81"/>
                    <a:pt x="0" y="129"/>
                    <a:pt x="0" y="182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8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419112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19112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4340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556272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388620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4100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2670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57200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12408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 rot="21314400">
            <a:off x="601956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724280" y="3200400"/>
            <a:ext cx="76212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952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25780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4038480" y="152280"/>
            <a:ext cx="3733920" cy="2438640"/>
          </a:xfrm>
          <a:prstGeom prst="wedgeEllipseCallout">
            <a:avLst>
              <a:gd name="adj1" fmla="val 27125"/>
              <a:gd name="adj2" fmla="val 969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, yeah! They’re called the Tri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rot="16200000">
            <a:off x="7391160" y="3809880"/>
            <a:ext cx="457200" cy="1066680"/>
          </a:xfrm>
          <a:custGeom>
            <a:avLst/>
            <a:gdLst>
              <a:gd name="textAreaLeft" fmla="*/ 186120 w 457200"/>
              <a:gd name="textAreaRight" fmla="*/ 306360 w 457200"/>
              <a:gd name="textAreaTop" fmla="*/ 103680 h 1066680"/>
              <a:gd name="textAreaBottom" fmla="*/ 9630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038" y="2597"/>
                  <a:pt x="14475" y="5080"/>
                  <a:pt x="14475" y="10800"/>
                </a:cubicBezTo>
                <a:cubicBezTo>
                  <a:pt x="14475" y="16520"/>
                  <a:pt x="18038" y="190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4952880" y="304920"/>
            <a:ext cx="4038840" cy="3733560"/>
          </a:xfrm>
          <a:prstGeom prst="wedgeEllipseCallout">
            <a:avLst>
              <a:gd name="adj1" fmla="val -71657"/>
              <a:gd name="adj2" fmla="val 79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’s the one I’m lookin’ for! Can you take me to ‘em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438280" y="2514600"/>
            <a:ext cx="38124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584280" y="152280"/>
            <a:ext cx="4265640" cy="5486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 rot="19351800">
            <a:off x="1219320" y="2437920"/>
            <a:ext cx="140472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rot="1925400">
            <a:off x="3223800" y="2387520"/>
            <a:ext cx="140508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397160" y="6248520"/>
            <a:ext cx="2639880" cy="2438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616120" y="5232240"/>
            <a:ext cx="201600" cy="1422720"/>
          </a:xfrm>
          <a:prstGeom prst="line">
            <a:avLst/>
          </a:prstGeom>
          <a:ln w="16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380880" y="8280360"/>
            <a:ext cx="4670280" cy="3985920"/>
            <a:chOff x="380880" y="8280360"/>
            <a:chExt cx="4670280" cy="3985920"/>
          </a:xfrm>
        </p:grpSpPr>
        <p:grpSp>
          <p:nvGrpSpPr>
            <p:cNvPr id="1576" name=""/>
            <p:cNvGrpSpPr/>
            <p:nvPr/>
          </p:nvGrpSpPr>
          <p:grpSpPr>
            <a:xfrm>
              <a:off x="380880" y="10108800"/>
              <a:ext cx="4670280" cy="2157480"/>
              <a:chOff x="380880" y="10108800"/>
              <a:chExt cx="4670280" cy="2157480"/>
            </a:xfrm>
          </p:grpSpPr>
          <p:sp>
            <p:nvSpPr>
              <p:cNvPr id="1577" name=""/>
              <p:cNvSpPr/>
              <p:nvPr/>
            </p:nvSpPr>
            <p:spPr>
              <a:xfrm>
                <a:off x="2208600" y="111236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036320" y="105145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08600" y="1010880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80880" y="107179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427200" y="113270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782640" y="8280360"/>
              <a:ext cx="3832920" cy="3269160"/>
              <a:chOff x="782640" y="8280360"/>
              <a:chExt cx="3832920" cy="3269160"/>
            </a:xfrm>
          </p:grpSpPr>
          <p:sp>
            <p:nvSpPr>
              <p:cNvPr id="1583" name=""/>
              <p:cNvSpPr/>
              <p:nvPr/>
            </p:nvSpPr>
            <p:spPr>
              <a:xfrm>
                <a:off x="3418200" y="8338680"/>
                <a:ext cx="1197360" cy="2408400"/>
              </a:xfrm>
              <a:custGeom>
                <a:avLst/>
                <a:gdLst/>
                <a:ahLst/>
                <a:rect l="l" t="t" r="r" b="b"/>
                <a:pathLst>
                  <a:path w="283" h="569">
                    <a:moveTo>
                      <a:pt x="0" y="0"/>
                    </a:moveTo>
                    <a:cubicBezTo>
                      <a:pt x="46" y="70"/>
                      <a:pt x="59" y="71"/>
                      <a:pt x="128" y="119"/>
                    </a:cubicBezTo>
                    <a:cubicBezTo>
                      <a:pt x="146" y="132"/>
                      <a:pt x="183" y="155"/>
                      <a:pt x="183" y="155"/>
                    </a:cubicBezTo>
                    <a:cubicBezTo>
                      <a:pt x="233" y="231"/>
                      <a:pt x="209" y="216"/>
                      <a:pt x="237" y="301"/>
                    </a:cubicBezTo>
                    <a:cubicBezTo>
                      <a:pt x="248" y="383"/>
                      <a:pt x="245" y="466"/>
                      <a:pt x="256" y="548"/>
                    </a:cubicBezTo>
                    <a:cubicBezTo>
                      <a:pt x="259" y="569"/>
                      <a:pt x="271" y="567"/>
                      <a:pt x="283" y="567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4" name=""/>
              <p:cNvGrpSpPr/>
              <p:nvPr/>
            </p:nvGrpSpPr>
            <p:grpSpPr>
              <a:xfrm>
                <a:off x="782640" y="8280360"/>
                <a:ext cx="3277080" cy="3269160"/>
                <a:chOff x="782640" y="8280360"/>
                <a:chExt cx="3277080" cy="326916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782640" y="8491320"/>
                  <a:ext cx="1281240" cy="2246760"/>
                </a:xfrm>
                <a:custGeom>
                  <a:avLst/>
                  <a:gdLst/>
                  <a:ahLst/>
                  <a:rect l="l" t="t" r="r" b="b"/>
                  <a:pathLst>
                    <a:path w="303" h="531">
                      <a:moveTo>
                        <a:pt x="303" y="0"/>
                      </a:moveTo>
                      <a:cubicBezTo>
                        <a:pt x="294" y="12"/>
                        <a:pt x="247" y="89"/>
                        <a:pt x="220" y="101"/>
                      </a:cubicBezTo>
                      <a:cubicBezTo>
                        <a:pt x="160" y="127"/>
                        <a:pt x="84" y="133"/>
                        <a:pt x="19" y="147"/>
                      </a:cubicBezTo>
                      <a:cubicBezTo>
                        <a:pt x="0" y="205"/>
                        <a:pt x="13" y="263"/>
                        <a:pt x="47" y="311"/>
                      </a:cubicBezTo>
                      <a:cubicBezTo>
                        <a:pt x="61" y="370"/>
                        <a:pt x="67" y="380"/>
                        <a:pt x="56" y="448"/>
                      </a:cubicBezTo>
                      <a:cubicBezTo>
                        <a:pt x="51" y="481"/>
                        <a:pt x="33" y="500"/>
                        <a:pt x="47" y="531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2004480" y="8280360"/>
                  <a:ext cx="1683360" cy="3045960"/>
                </a:xfrm>
                <a:custGeom>
                  <a:avLst/>
                  <a:gdLst/>
                  <a:ahLst/>
                  <a:rect l="l" t="t" r="r" b="b"/>
                  <a:pathLst>
                    <a:path w="481" h="384">
                      <a:moveTo>
                        <a:pt x="289" y="384"/>
                      </a:moveTo>
                      <a:cubicBezTo>
                        <a:pt x="333" y="369"/>
                        <a:pt x="426" y="357"/>
                        <a:pt x="426" y="357"/>
                      </a:cubicBezTo>
                      <a:cubicBezTo>
                        <a:pt x="462" y="332"/>
                        <a:pt x="470" y="327"/>
                        <a:pt x="481" y="284"/>
                      </a:cubicBezTo>
                      <a:cubicBezTo>
                        <a:pt x="475" y="258"/>
                        <a:pt x="473" y="187"/>
                        <a:pt x="444" y="174"/>
                      </a:cubicBezTo>
                      <a:cubicBezTo>
                        <a:pt x="402" y="155"/>
                        <a:pt x="353" y="162"/>
                        <a:pt x="307" y="156"/>
                      </a:cubicBezTo>
                      <a:cubicBezTo>
                        <a:pt x="222" y="145"/>
                        <a:pt x="136" y="139"/>
                        <a:pt x="51" y="128"/>
                      </a:cubicBezTo>
                      <a:cubicBezTo>
                        <a:pt x="0" y="94"/>
                        <a:pt x="15" y="67"/>
                        <a:pt x="60" y="37"/>
                      </a:cubicBezTo>
                      <a:cubicBezTo>
                        <a:pt x="124" y="40"/>
                        <a:pt x="188" y="41"/>
                        <a:pt x="252" y="46"/>
                      </a:cubicBezTo>
                      <a:cubicBezTo>
                        <a:pt x="262" y="47"/>
                        <a:pt x="273" y="62"/>
                        <a:pt x="280" y="55"/>
                      </a:cubicBezTo>
                      <a:cubicBezTo>
                        <a:pt x="294" y="41"/>
                        <a:pt x="298" y="0"/>
                        <a:pt x="298" y="0"/>
                      </a:cubicBezTo>
                      <a:cubicBezTo>
                        <a:pt x="304" y="9"/>
                        <a:pt x="316" y="28"/>
                        <a:pt x="316" y="28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2215440" y="8377200"/>
                  <a:ext cx="622440" cy="1857240"/>
                </a:xfrm>
                <a:custGeom>
                  <a:avLst/>
                  <a:gdLst/>
                  <a:ahLst/>
                  <a:rect l="l" t="t" r="r" b="b"/>
                  <a:pathLst>
                    <a:path w="147" h="439">
                      <a:moveTo>
                        <a:pt x="147" y="439"/>
                      </a:moveTo>
                      <a:cubicBezTo>
                        <a:pt x="104" y="425"/>
                        <a:pt x="61" y="416"/>
                        <a:pt x="19" y="402"/>
                      </a:cubicBezTo>
                      <a:cubicBezTo>
                        <a:pt x="0" y="350"/>
                        <a:pt x="7" y="327"/>
                        <a:pt x="55" y="311"/>
                      </a:cubicBezTo>
                      <a:cubicBezTo>
                        <a:pt x="72" y="284"/>
                        <a:pt x="92" y="264"/>
                        <a:pt x="110" y="238"/>
                      </a:cubicBezTo>
                      <a:cubicBezTo>
                        <a:pt x="128" y="164"/>
                        <a:pt x="124" y="198"/>
                        <a:pt x="110" y="73"/>
                      </a:cubicBezTo>
                      <a:cubicBezTo>
                        <a:pt x="107" y="48"/>
                        <a:pt x="92" y="25"/>
                        <a:pt x="92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2952000" y="8301240"/>
                  <a:ext cx="1107720" cy="3248280"/>
                </a:xfrm>
                <a:custGeom>
                  <a:avLst/>
                  <a:gdLst/>
                  <a:ahLst/>
                  <a:rect l="l" t="t" r="r" b="b"/>
                  <a:pathLst>
                    <a:path w="262" h="768">
                      <a:moveTo>
                        <a:pt x="201" y="768"/>
                      </a:moveTo>
                      <a:cubicBezTo>
                        <a:pt x="208" y="694"/>
                        <a:pt x="214" y="610"/>
                        <a:pt x="238" y="539"/>
                      </a:cubicBezTo>
                      <a:cubicBezTo>
                        <a:pt x="249" y="447"/>
                        <a:pt x="262" y="314"/>
                        <a:pt x="174" y="256"/>
                      </a:cubicBezTo>
                      <a:cubicBezTo>
                        <a:pt x="160" y="213"/>
                        <a:pt x="147" y="226"/>
                        <a:pt x="110" y="201"/>
                      </a:cubicBezTo>
                      <a:cubicBezTo>
                        <a:pt x="93" y="147"/>
                        <a:pt x="93" y="139"/>
                        <a:pt x="37" y="118"/>
                      </a:cubicBezTo>
                      <a:cubicBezTo>
                        <a:pt x="0" y="83"/>
                        <a:pt x="0" y="46"/>
                        <a:pt x="0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89" name=""/>
          <p:cNvSpPr/>
          <p:nvPr/>
        </p:nvSpPr>
        <p:spPr>
          <a:xfrm rot="16200000">
            <a:off x="2698920" y="4464000"/>
            <a:ext cx="622080" cy="144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6477120" y="3352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rot="16200000">
            <a:off x="6514920" y="42285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1814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380880" y="304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2057400" y="1676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22096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533520" y="1676520"/>
            <a:ext cx="121896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038480"/>
            <a:ext cx="3048120" cy="2819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2286000" y="456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2362320" y="76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2133720" y="3352680"/>
            <a:ext cx="914400" cy="30492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4114800" y="2590920"/>
            <a:ext cx="3886200" cy="3962160"/>
          </a:xfrm>
          <a:prstGeom prst="wedgeEllipseCallout">
            <a:avLst>
              <a:gd name="adj1" fmla="val -69606"/>
              <a:gd name="adj2" fmla="val -183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ll, we can tell you all about ‘em and what they’ve done for u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77120" y="3352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rot="16200000">
            <a:off x="6514920" y="42285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1814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380880" y="304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2057400" y="1676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22096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33520" y="1676520"/>
            <a:ext cx="121896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68580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" y="4038480"/>
            <a:ext cx="3048120" cy="2819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2286000" y="456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2362320" y="76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133720" y="3352680"/>
            <a:ext cx="914400" cy="30492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533520" y="457200"/>
            <a:ext cx="4114800" cy="6019920"/>
          </a:xfrm>
          <a:prstGeom prst="wedgeEllipseCallout">
            <a:avLst>
              <a:gd name="adj1" fmla="val 81944"/>
              <a:gd name="adj2" fmla="val 21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then you’ve got to open that satellite dish of yours and encounter God’s love for the sake of your own univer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4952880" y="304920"/>
            <a:ext cx="4038840" cy="5105160"/>
          </a:xfrm>
          <a:prstGeom prst="wedgeEllipseCallout">
            <a:avLst>
              <a:gd name="adj1" fmla="val -71657"/>
              <a:gd name="adj2" fmla="val 44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does not readily compute!  Could you please re-enter it into my system, pleas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438280" y="2514600"/>
            <a:ext cx="38124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584280" y="152280"/>
            <a:ext cx="4265640" cy="5486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rot="19351800">
            <a:off x="1219320" y="2437920"/>
            <a:ext cx="140472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rot="1925400">
            <a:off x="3223800" y="2387520"/>
            <a:ext cx="140508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1397160" y="6248520"/>
            <a:ext cx="2639880" cy="2438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2616120" y="5232240"/>
            <a:ext cx="201600" cy="1422720"/>
          </a:xfrm>
          <a:prstGeom prst="line">
            <a:avLst/>
          </a:prstGeom>
          <a:ln w="16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2" name=""/>
          <p:cNvGrpSpPr/>
          <p:nvPr/>
        </p:nvGrpSpPr>
        <p:grpSpPr>
          <a:xfrm>
            <a:off x="380880" y="8280360"/>
            <a:ext cx="4670280" cy="3985920"/>
            <a:chOff x="380880" y="8280360"/>
            <a:chExt cx="4670280" cy="3985920"/>
          </a:xfrm>
        </p:grpSpPr>
        <p:grpSp>
          <p:nvGrpSpPr>
            <p:cNvPr id="1643" name=""/>
            <p:cNvGrpSpPr/>
            <p:nvPr/>
          </p:nvGrpSpPr>
          <p:grpSpPr>
            <a:xfrm>
              <a:off x="380880" y="10108800"/>
              <a:ext cx="4670280" cy="2157480"/>
              <a:chOff x="380880" y="10108800"/>
              <a:chExt cx="4670280" cy="2157480"/>
            </a:xfrm>
          </p:grpSpPr>
          <p:sp>
            <p:nvSpPr>
              <p:cNvPr id="1644" name=""/>
              <p:cNvSpPr/>
              <p:nvPr/>
            </p:nvSpPr>
            <p:spPr>
              <a:xfrm>
                <a:off x="2208600" y="111236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036320" y="105145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208600" y="1010880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80880" y="107179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427200" y="113270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782640" y="8280360"/>
              <a:ext cx="3832920" cy="3269160"/>
              <a:chOff x="782640" y="8280360"/>
              <a:chExt cx="3832920" cy="3269160"/>
            </a:xfrm>
          </p:grpSpPr>
          <p:sp>
            <p:nvSpPr>
              <p:cNvPr id="1650" name=""/>
              <p:cNvSpPr/>
              <p:nvPr/>
            </p:nvSpPr>
            <p:spPr>
              <a:xfrm>
                <a:off x="3418200" y="8338680"/>
                <a:ext cx="1197360" cy="2408400"/>
              </a:xfrm>
              <a:custGeom>
                <a:avLst/>
                <a:gdLst/>
                <a:ahLst/>
                <a:rect l="l" t="t" r="r" b="b"/>
                <a:pathLst>
                  <a:path w="283" h="569">
                    <a:moveTo>
                      <a:pt x="0" y="0"/>
                    </a:moveTo>
                    <a:cubicBezTo>
                      <a:pt x="46" y="70"/>
                      <a:pt x="59" y="71"/>
                      <a:pt x="128" y="119"/>
                    </a:cubicBezTo>
                    <a:cubicBezTo>
                      <a:pt x="146" y="132"/>
                      <a:pt x="183" y="155"/>
                      <a:pt x="183" y="155"/>
                    </a:cubicBezTo>
                    <a:cubicBezTo>
                      <a:pt x="233" y="231"/>
                      <a:pt x="209" y="216"/>
                      <a:pt x="237" y="301"/>
                    </a:cubicBezTo>
                    <a:cubicBezTo>
                      <a:pt x="248" y="383"/>
                      <a:pt x="245" y="466"/>
                      <a:pt x="256" y="548"/>
                    </a:cubicBezTo>
                    <a:cubicBezTo>
                      <a:pt x="259" y="569"/>
                      <a:pt x="271" y="567"/>
                      <a:pt x="283" y="567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1" name=""/>
              <p:cNvGrpSpPr/>
              <p:nvPr/>
            </p:nvGrpSpPr>
            <p:grpSpPr>
              <a:xfrm>
                <a:off x="782640" y="8280360"/>
                <a:ext cx="3277080" cy="3269160"/>
                <a:chOff x="782640" y="8280360"/>
                <a:chExt cx="3277080" cy="3269160"/>
              </a:xfrm>
            </p:grpSpPr>
            <p:sp>
              <p:nvSpPr>
                <p:cNvPr id="1652" name=""/>
                <p:cNvSpPr/>
                <p:nvPr/>
              </p:nvSpPr>
              <p:spPr>
                <a:xfrm>
                  <a:off x="782640" y="8491320"/>
                  <a:ext cx="1281240" cy="2246760"/>
                </a:xfrm>
                <a:custGeom>
                  <a:avLst/>
                  <a:gdLst/>
                  <a:ahLst/>
                  <a:rect l="l" t="t" r="r" b="b"/>
                  <a:pathLst>
                    <a:path w="303" h="531">
                      <a:moveTo>
                        <a:pt x="303" y="0"/>
                      </a:moveTo>
                      <a:cubicBezTo>
                        <a:pt x="294" y="12"/>
                        <a:pt x="247" y="89"/>
                        <a:pt x="220" y="101"/>
                      </a:cubicBezTo>
                      <a:cubicBezTo>
                        <a:pt x="160" y="127"/>
                        <a:pt x="84" y="133"/>
                        <a:pt x="19" y="147"/>
                      </a:cubicBezTo>
                      <a:cubicBezTo>
                        <a:pt x="0" y="205"/>
                        <a:pt x="13" y="263"/>
                        <a:pt x="47" y="311"/>
                      </a:cubicBezTo>
                      <a:cubicBezTo>
                        <a:pt x="61" y="370"/>
                        <a:pt x="67" y="380"/>
                        <a:pt x="56" y="448"/>
                      </a:cubicBezTo>
                      <a:cubicBezTo>
                        <a:pt x="51" y="481"/>
                        <a:pt x="33" y="500"/>
                        <a:pt x="47" y="531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2004480" y="8280360"/>
                  <a:ext cx="1683360" cy="3045960"/>
                </a:xfrm>
                <a:custGeom>
                  <a:avLst/>
                  <a:gdLst/>
                  <a:ahLst/>
                  <a:rect l="l" t="t" r="r" b="b"/>
                  <a:pathLst>
                    <a:path w="481" h="384">
                      <a:moveTo>
                        <a:pt x="289" y="384"/>
                      </a:moveTo>
                      <a:cubicBezTo>
                        <a:pt x="333" y="369"/>
                        <a:pt x="426" y="357"/>
                        <a:pt x="426" y="357"/>
                      </a:cubicBezTo>
                      <a:cubicBezTo>
                        <a:pt x="462" y="332"/>
                        <a:pt x="470" y="327"/>
                        <a:pt x="481" y="284"/>
                      </a:cubicBezTo>
                      <a:cubicBezTo>
                        <a:pt x="475" y="258"/>
                        <a:pt x="473" y="187"/>
                        <a:pt x="444" y="174"/>
                      </a:cubicBezTo>
                      <a:cubicBezTo>
                        <a:pt x="402" y="155"/>
                        <a:pt x="353" y="162"/>
                        <a:pt x="307" y="156"/>
                      </a:cubicBezTo>
                      <a:cubicBezTo>
                        <a:pt x="222" y="145"/>
                        <a:pt x="136" y="139"/>
                        <a:pt x="51" y="128"/>
                      </a:cubicBezTo>
                      <a:cubicBezTo>
                        <a:pt x="0" y="94"/>
                        <a:pt x="15" y="67"/>
                        <a:pt x="60" y="37"/>
                      </a:cubicBezTo>
                      <a:cubicBezTo>
                        <a:pt x="124" y="40"/>
                        <a:pt x="188" y="41"/>
                        <a:pt x="252" y="46"/>
                      </a:cubicBezTo>
                      <a:cubicBezTo>
                        <a:pt x="262" y="47"/>
                        <a:pt x="273" y="62"/>
                        <a:pt x="280" y="55"/>
                      </a:cubicBezTo>
                      <a:cubicBezTo>
                        <a:pt x="294" y="41"/>
                        <a:pt x="298" y="0"/>
                        <a:pt x="298" y="0"/>
                      </a:cubicBezTo>
                      <a:cubicBezTo>
                        <a:pt x="304" y="9"/>
                        <a:pt x="316" y="28"/>
                        <a:pt x="316" y="28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2215440" y="8377200"/>
                  <a:ext cx="622440" cy="1857240"/>
                </a:xfrm>
                <a:custGeom>
                  <a:avLst/>
                  <a:gdLst/>
                  <a:ahLst/>
                  <a:rect l="l" t="t" r="r" b="b"/>
                  <a:pathLst>
                    <a:path w="147" h="439">
                      <a:moveTo>
                        <a:pt x="147" y="439"/>
                      </a:moveTo>
                      <a:cubicBezTo>
                        <a:pt x="104" y="425"/>
                        <a:pt x="61" y="416"/>
                        <a:pt x="19" y="402"/>
                      </a:cubicBezTo>
                      <a:cubicBezTo>
                        <a:pt x="0" y="350"/>
                        <a:pt x="7" y="327"/>
                        <a:pt x="55" y="311"/>
                      </a:cubicBezTo>
                      <a:cubicBezTo>
                        <a:pt x="72" y="284"/>
                        <a:pt x="92" y="264"/>
                        <a:pt x="110" y="238"/>
                      </a:cubicBezTo>
                      <a:cubicBezTo>
                        <a:pt x="128" y="164"/>
                        <a:pt x="124" y="198"/>
                        <a:pt x="110" y="73"/>
                      </a:cubicBezTo>
                      <a:cubicBezTo>
                        <a:pt x="107" y="48"/>
                        <a:pt x="92" y="25"/>
                        <a:pt x="92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2952000" y="8301240"/>
                  <a:ext cx="1107720" cy="3248280"/>
                </a:xfrm>
                <a:custGeom>
                  <a:avLst/>
                  <a:gdLst/>
                  <a:ahLst/>
                  <a:rect l="l" t="t" r="r" b="b"/>
                  <a:pathLst>
                    <a:path w="262" h="768">
                      <a:moveTo>
                        <a:pt x="201" y="768"/>
                      </a:moveTo>
                      <a:cubicBezTo>
                        <a:pt x="208" y="694"/>
                        <a:pt x="214" y="610"/>
                        <a:pt x="238" y="539"/>
                      </a:cubicBezTo>
                      <a:cubicBezTo>
                        <a:pt x="249" y="447"/>
                        <a:pt x="262" y="314"/>
                        <a:pt x="174" y="256"/>
                      </a:cubicBezTo>
                      <a:cubicBezTo>
                        <a:pt x="160" y="213"/>
                        <a:pt x="147" y="226"/>
                        <a:pt x="110" y="201"/>
                      </a:cubicBezTo>
                      <a:cubicBezTo>
                        <a:pt x="93" y="147"/>
                        <a:pt x="93" y="139"/>
                        <a:pt x="37" y="118"/>
                      </a:cubicBezTo>
                      <a:cubicBezTo>
                        <a:pt x="0" y="83"/>
                        <a:pt x="0" y="46"/>
                        <a:pt x="0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56" name=""/>
          <p:cNvSpPr/>
          <p:nvPr/>
        </p:nvSpPr>
        <p:spPr>
          <a:xfrm rot="5634000">
            <a:off x="2546640" y="4068000"/>
            <a:ext cx="326880" cy="189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380880" y="1752480"/>
            <a:ext cx="685800" cy="6098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8153280" y="5335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914400" y="484344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990720" y="-1699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6781680" y="3124080"/>
            <a:ext cx="38124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8572680" y="2666880"/>
            <a:ext cx="1143000" cy="1014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-343080" y="3733920"/>
            <a:ext cx="68616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7848720" y="416556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1828800" y="19051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2209680" y="1295280"/>
            <a:ext cx="38124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5105520" y="91440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4800600" y="2057400"/>
            <a:ext cx="1143000" cy="1014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3809880" y="358128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191120" y="54100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057400" y="28195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581280" y="16765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3581280" y="22860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38088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7010280" y="205740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5105520" y="388620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924680" y="5638680"/>
            <a:ext cx="38124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0" y="31240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380880" y="617220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1240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057400" y="6094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39152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3124080" y="5257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010280" y="-152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5486400" y="4419720"/>
            <a:ext cx="1143000" cy="1143000"/>
          </a:xfrm>
          <a:custGeom>
            <a:avLst/>
            <a:gdLst>
              <a:gd name="textAreaLeft" fmla="*/ 397440 w 1143000"/>
              <a:gd name="textAreaRight" fmla="*/ 745560 w 1143000"/>
              <a:gd name="textAreaTop" fmla="*/ 397440 h 1143000"/>
              <a:gd name="textAreaBottom" fmla="*/ 7455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9" y="12542"/>
                </a:lnTo>
                <a:lnTo>
                  <a:pt x="3163" y="18437"/>
                </a:lnTo>
                <a:lnTo>
                  <a:pt x="8983" y="15080"/>
                </a:lnTo>
                <a:lnTo>
                  <a:pt x="10800" y="21600"/>
                </a:lnTo>
                <a:lnTo>
                  <a:pt x="12542" y="15111"/>
                </a:lnTo>
                <a:lnTo>
                  <a:pt x="18437" y="18437"/>
                </a:lnTo>
                <a:lnTo>
                  <a:pt x="15080" y="12617"/>
                </a:lnTo>
                <a:lnTo>
                  <a:pt x="21600" y="10800"/>
                </a:lnTo>
                <a:lnTo>
                  <a:pt x="15111" y="9058"/>
                </a:lnTo>
                <a:lnTo>
                  <a:pt x="18437" y="3163"/>
                </a:lnTo>
                <a:lnTo>
                  <a:pt x="12617" y="6520"/>
                </a:lnTo>
                <a:lnTo>
                  <a:pt x="10800" y="0"/>
                </a:lnTo>
                <a:lnTo>
                  <a:pt x="9058" y="6489"/>
                </a:lnTo>
                <a:lnTo>
                  <a:pt x="3163" y="3163"/>
                </a:lnTo>
                <a:lnTo>
                  <a:pt x="6520" y="898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2286000" y="3505320"/>
            <a:ext cx="609480" cy="609480"/>
          </a:xfrm>
          <a:custGeom>
            <a:avLst/>
            <a:gdLst>
              <a:gd name="textAreaLeft" fmla="*/ 212040 w 609480"/>
              <a:gd name="textAreaRight" fmla="*/ 397440 w 609480"/>
              <a:gd name="textAreaTop" fmla="*/ 212040 h 609480"/>
              <a:gd name="textAreaBottom" fmla="*/ 3974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9" y="12542"/>
                </a:lnTo>
                <a:lnTo>
                  <a:pt x="3163" y="18437"/>
                </a:lnTo>
                <a:lnTo>
                  <a:pt x="8983" y="15080"/>
                </a:lnTo>
                <a:lnTo>
                  <a:pt x="10800" y="21600"/>
                </a:lnTo>
                <a:lnTo>
                  <a:pt x="12542" y="15111"/>
                </a:lnTo>
                <a:lnTo>
                  <a:pt x="18437" y="18437"/>
                </a:lnTo>
                <a:lnTo>
                  <a:pt x="15080" y="12617"/>
                </a:lnTo>
                <a:lnTo>
                  <a:pt x="21600" y="10800"/>
                </a:lnTo>
                <a:lnTo>
                  <a:pt x="15111" y="9058"/>
                </a:lnTo>
                <a:lnTo>
                  <a:pt x="18437" y="3163"/>
                </a:lnTo>
                <a:lnTo>
                  <a:pt x="12617" y="6520"/>
                </a:lnTo>
                <a:lnTo>
                  <a:pt x="10800" y="0"/>
                </a:lnTo>
                <a:lnTo>
                  <a:pt x="9058" y="6489"/>
                </a:lnTo>
                <a:lnTo>
                  <a:pt x="3163" y="3163"/>
                </a:lnTo>
                <a:lnTo>
                  <a:pt x="6520" y="898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609480" y="685800"/>
            <a:ext cx="609840" cy="609480"/>
          </a:xfrm>
          <a:custGeom>
            <a:avLst/>
            <a:gdLst>
              <a:gd name="textAreaLeft" fmla="*/ 212040 w 609840"/>
              <a:gd name="textAreaRight" fmla="*/ 397800 w 609840"/>
              <a:gd name="textAreaTop" fmla="*/ 212040 h 609480"/>
              <a:gd name="textAreaBottom" fmla="*/ 3974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9" y="12542"/>
                </a:lnTo>
                <a:lnTo>
                  <a:pt x="3163" y="18437"/>
                </a:lnTo>
                <a:lnTo>
                  <a:pt x="8983" y="15080"/>
                </a:lnTo>
                <a:lnTo>
                  <a:pt x="10800" y="21600"/>
                </a:lnTo>
                <a:lnTo>
                  <a:pt x="12542" y="15111"/>
                </a:lnTo>
                <a:lnTo>
                  <a:pt x="18437" y="18437"/>
                </a:lnTo>
                <a:lnTo>
                  <a:pt x="15080" y="12617"/>
                </a:lnTo>
                <a:lnTo>
                  <a:pt x="21600" y="10800"/>
                </a:lnTo>
                <a:lnTo>
                  <a:pt x="15111" y="9058"/>
                </a:lnTo>
                <a:lnTo>
                  <a:pt x="18437" y="3163"/>
                </a:lnTo>
                <a:lnTo>
                  <a:pt x="12617" y="6520"/>
                </a:lnTo>
                <a:lnTo>
                  <a:pt x="10800" y="0"/>
                </a:lnTo>
                <a:lnTo>
                  <a:pt x="9058" y="6489"/>
                </a:lnTo>
                <a:lnTo>
                  <a:pt x="3163" y="3163"/>
                </a:lnTo>
                <a:lnTo>
                  <a:pt x="6520" y="898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696080" y="1447920"/>
            <a:ext cx="457200" cy="457200"/>
          </a:xfrm>
          <a:custGeom>
            <a:avLst/>
            <a:gdLst>
              <a:gd name="textAreaLeft" fmla="*/ 159120 w 457200"/>
              <a:gd name="textAreaRight" fmla="*/ 298080 w 457200"/>
              <a:gd name="textAreaTop" fmla="*/ 159120 h 457200"/>
              <a:gd name="textAreaBottom" fmla="*/ 298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9" y="12542"/>
                </a:lnTo>
                <a:lnTo>
                  <a:pt x="3163" y="18437"/>
                </a:lnTo>
                <a:lnTo>
                  <a:pt x="8983" y="15080"/>
                </a:lnTo>
                <a:lnTo>
                  <a:pt x="10800" y="21600"/>
                </a:lnTo>
                <a:lnTo>
                  <a:pt x="12542" y="15111"/>
                </a:lnTo>
                <a:lnTo>
                  <a:pt x="18437" y="18437"/>
                </a:lnTo>
                <a:lnTo>
                  <a:pt x="15080" y="12617"/>
                </a:lnTo>
                <a:lnTo>
                  <a:pt x="21600" y="10800"/>
                </a:lnTo>
                <a:lnTo>
                  <a:pt x="15111" y="9058"/>
                </a:lnTo>
                <a:lnTo>
                  <a:pt x="18437" y="3163"/>
                </a:lnTo>
                <a:lnTo>
                  <a:pt x="12617" y="6520"/>
                </a:lnTo>
                <a:lnTo>
                  <a:pt x="10800" y="0"/>
                </a:lnTo>
                <a:lnTo>
                  <a:pt x="9058" y="6489"/>
                </a:lnTo>
                <a:lnTo>
                  <a:pt x="3163" y="3163"/>
                </a:lnTo>
                <a:lnTo>
                  <a:pt x="6520" y="898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1295280" y="3962520"/>
            <a:ext cx="6858000" cy="2514600"/>
          </a:xfrm>
          <a:prstGeom prst="wedgeEllipseCallout">
            <a:avLst>
              <a:gd name="adj1" fmla="val -62754"/>
              <a:gd name="adj2" fmla="val 93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, here’s the de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d created the universe, and it was an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maz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lace to b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3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3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3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3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3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3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5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>
            <a:hlinkClick r:id="" action="ppaction://hlinkshowjump?jump=nextslide"/>
          </p:cNvPr>
          <p:cNvSpPr/>
          <p:nvPr/>
        </p:nvSpPr>
        <p:spPr>
          <a:xfrm>
            <a:off x="911052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52924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690084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6977160" y="3352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rot="9597000">
            <a:off x="5562000" y="76212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519960" y="4343400"/>
            <a:ext cx="1218960" cy="457200"/>
          </a:xfrm>
          <a:custGeom>
            <a:avLst/>
            <a:gdLst>
              <a:gd name="textAreaLeft" fmla="*/ 286560 w 1218960"/>
              <a:gd name="textAreaRight" fmla="*/ 931680 w 121896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80880" y="304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2057400" y="1676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28954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33520" y="1676520"/>
            <a:ext cx="121896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137160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4038480"/>
            <a:ext cx="3048120" cy="2819520"/>
          </a:xfrm>
          <a:prstGeom prst="rect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 flipV="1">
            <a:off x="2286000" y="456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 flipV="1">
            <a:off x="2362320" y="76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2133720" y="3352680"/>
            <a:ext cx="914400" cy="30492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 rot="8641200">
            <a:off x="5223960" y="1065960"/>
            <a:ext cx="1447920" cy="128772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 rot="7508400">
            <a:off x="4956840" y="137556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6095880" y="5181480"/>
            <a:ext cx="3048120" cy="2819520"/>
          </a:xfrm>
          <a:prstGeom prst="rect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800100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8077320" y="31240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815328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rot="21334200">
            <a:off x="5028840" y="1981080"/>
            <a:ext cx="1905120" cy="419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rot="5400000">
            <a:off x="6667560" y="342720"/>
            <a:ext cx="1371600" cy="3581280"/>
          </a:xfrm>
          <a:custGeom>
            <a:avLst/>
            <a:gdLst>
              <a:gd name="textAreaLeft" fmla="*/ 24120 w 1371600"/>
              <a:gd name="textAreaRight" fmla="*/ 1047960 w 1371600"/>
              <a:gd name="textAreaTop" fmla="*/ 1455120 h 3581280"/>
              <a:gd name="textAreaBottom" fmla="*/ 212616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9050" y="2960"/>
                  <a:pt x="16500" y="5080"/>
                  <a:pt x="16500" y="10800"/>
                </a:cubicBezTo>
                <a:cubicBezTo>
                  <a:pt x="16500" y="16520"/>
                  <a:pt x="19050" y="1864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rot="10800000">
            <a:off x="8000640" y="1752120"/>
            <a:ext cx="1523880" cy="449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H="1" flipV="1">
            <a:off x="5409720" y="29714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H="1" flipV="1">
            <a:off x="5334120" y="32004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52578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5180400" y="4854960"/>
            <a:ext cx="1449000" cy="1698120"/>
            <a:chOff x="5180400" y="4854960"/>
            <a:chExt cx="1449000" cy="1698120"/>
          </a:xfrm>
        </p:grpSpPr>
        <p:sp>
          <p:nvSpPr>
            <p:cNvPr id="1719" name=""/>
            <p:cNvSpPr/>
            <p:nvPr/>
          </p:nvSpPr>
          <p:spPr>
            <a:xfrm>
              <a:off x="5334120" y="5257800"/>
              <a:ext cx="1295280" cy="1295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804800">
              <a:off x="5257440" y="5028840"/>
              <a:ext cx="838080" cy="533520"/>
            </a:xfrm>
            <a:prstGeom prst="flowChartDecision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6019920" y="4952880"/>
              <a:ext cx="15228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2" name=""/>
          <p:cNvSpPr/>
          <p:nvPr/>
        </p:nvSpPr>
        <p:spPr>
          <a:xfrm>
            <a:off x="563868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68152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4952880" y="304920"/>
            <a:ext cx="38862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 people messed it up by trying to do their own 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-457200" y="4724280"/>
            <a:ext cx="3352680" cy="1828800"/>
          </a:xfrm>
          <a:prstGeom prst="wedgeEllipseCallout">
            <a:avLst>
              <a:gd name="adj1" fmla="val 33050"/>
              <a:gd name="adj2" fmla="val -853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’s what we call s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-1953000" y="-1219320"/>
            <a:ext cx="1824120" cy="6337440"/>
            <a:chOff x="-1953000" y="-1219320"/>
            <a:chExt cx="1824120" cy="6337440"/>
          </a:xfrm>
        </p:grpSpPr>
        <p:sp>
          <p:nvSpPr>
            <p:cNvPr id="1727" name=""/>
            <p:cNvSpPr/>
            <p:nvPr/>
          </p:nvSpPr>
          <p:spPr>
            <a:xfrm>
              <a:off x="-1828800" y="2438280"/>
              <a:ext cx="1600200" cy="2057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8" name=""/>
            <p:cNvGrpSpPr/>
            <p:nvPr/>
          </p:nvGrpSpPr>
          <p:grpSpPr>
            <a:xfrm>
              <a:off x="-1953000" y="-1219320"/>
              <a:ext cx="1824120" cy="6337440"/>
              <a:chOff x="-1953000" y="-1219320"/>
              <a:chExt cx="1824120" cy="6337440"/>
            </a:xfrm>
          </p:grpSpPr>
          <p:grpSp>
            <p:nvGrpSpPr>
              <p:cNvPr id="1729" name=""/>
              <p:cNvGrpSpPr/>
              <p:nvPr/>
            </p:nvGrpSpPr>
            <p:grpSpPr>
              <a:xfrm>
                <a:off x="-1953000" y="3200400"/>
                <a:ext cx="1824120" cy="1917720"/>
                <a:chOff x="-1953000" y="3200400"/>
                <a:chExt cx="1824120" cy="1917720"/>
              </a:xfrm>
            </p:grpSpPr>
            <p:sp>
              <p:nvSpPr>
                <p:cNvPr id="1730" name=""/>
                <p:cNvSpPr/>
                <p:nvPr/>
              </p:nvSpPr>
              <p:spPr>
                <a:xfrm rot="19351800">
                  <a:off x="-1752120" y="3276360"/>
                  <a:ext cx="527040" cy="838440"/>
                </a:xfrm>
                <a:prstGeom prst="ellips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 rot="1925400">
                  <a:off x="-838080" y="3276000"/>
                  <a:ext cx="527040" cy="838440"/>
                </a:xfrm>
                <a:prstGeom prst="ellips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-1219320" y="4343400"/>
                  <a:ext cx="381240" cy="77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5035" y="1520"/>
                        <a:pt x="8470" y="5080"/>
                        <a:pt x="8470" y="10800"/>
                      </a:cubicBezTo>
                      <a:cubicBezTo>
                        <a:pt x="8470" y="16520"/>
                        <a:pt x="15035" y="2008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5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3" name=""/>
              <p:cNvSpPr/>
              <p:nvPr/>
            </p:nvSpPr>
            <p:spPr>
              <a:xfrm>
                <a:off x="-1523880" y="-1219320"/>
                <a:ext cx="758880" cy="4210200"/>
              </a:xfrm>
              <a:custGeom>
                <a:avLst/>
                <a:gdLst/>
                <a:ahLst/>
                <a:rect l="l" t="t" r="r" b="b"/>
                <a:pathLst>
                  <a:path w="1270" h="2235">
                    <a:moveTo>
                      <a:pt x="322" y="2235"/>
                    </a:moveTo>
                    <a:cubicBezTo>
                      <a:pt x="422" y="2168"/>
                      <a:pt x="620" y="2163"/>
                      <a:pt x="742" y="2139"/>
                    </a:cubicBezTo>
                    <a:cubicBezTo>
                      <a:pt x="832" y="2049"/>
                      <a:pt x="908" y="1988"/>
                      <a:pt x="1030" y="1947"/>
                    </a:cubicBezTo>
                    <a:cubicBezTo>
                      <a:pt x="1084" y="1786"/>
                      <a:pt x="1079" y="1712"/>
                      <a:pt x="934" y="1599"/>
                    </a:cubicBezTo>
                    <a:cubicBezTo>
                      <a:pt x="897" y="1570"/>
                      <a:pt x="854" y="1551"/>
                      <a:pt x="814" y="1527"/>
                    </a:cubicBezTo>
                    <a:cubicBezTo>
                      <a:pt x="602" y="1245"/>
                      <a:pt x="253" y="1178"/>
                      <a:pt x="46" y="903"/>
                    </a:cubicBezTo>
                    <a:cubicBezTo>
                      <a:pt x="7" y="745"/>
                      <a:pt x="0" y="748"/>
                      <a:pt x="10" y="519"/>
                    </a:cubicBezTo>
                    <a:cubicBezTo>
                      <a:pt x="20" y="290"/>
                      <a:pt x="9" y="189"/>
                      <a:pt x="214" y="87"/>
                    </a:cubicBezTo>
                    <a:cubicBezTo>
                      <a:pt x="388" y="0"/>
                      <a:pt x="782" y="31"/>
                      <a:pt x="910" y="27"/>
                    </a:cubicBezTo>
                    <a:cubicBezTo>
                      <a:pt x="1030" y="23"/>
                      <a:pt x="1270" y="15"/>
                      <a:pt x="1270" y="15"/>
                    </a:cubicBezTo>
                  </a:path>
                </a:pathLst>
              </a:custGeom>
              <a:noFill/>
              <a:ln w="254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67" dur="2000" fill="hold"/>
                                        <p:tgtEl>
                                          <p:spTgt spid="1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"/>
          <p:cNvSpPr/>
          <p:nvPr/>
        </p:nvSpPr>
        <p:spPr>
          <a:xfrm>
            <a:off x="990720" y="2819520"/>
            <a:ext cx="7086600" cy="1828800"/>
          </a:xfrm>
          <a:prstGeom prst="triangle">
            <a:avLst>
              <a:gd name="adj" fmla="val 50000"/>
            </a:avLst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380880" y="2090880"/>
            <a:ext cx="304920" cy="271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153280" y="5335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752480" y="3049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990720" y="-1699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6477120" y="137160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8572680" y="2106720"/>
            <a:ext cx="571320" cy="50796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-343080" y="3733920"/>
            <a:ext cx="68616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8381880" y="289548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28800" y="19051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209680" y="1295280"/>
            <a:ext cx="38124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7162920" y="25909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8763120" y="22860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609480" y="304812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4724280" y="5335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2057400" y="28195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2895480" y="2192400"/>
            <a:ext cx="533520" cy="474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581280" y="22860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324480" y="38088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7010280" y="205740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8458200" y="38098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7696080" y="22860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0" y="31240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-190440" y="12952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2057400" y="6094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7696080" y="2438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80880" y="3049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7010280" y="-152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5562720" y="685800"/>
            <a:ext cx="609480" cy="609480"/>
          </a:xfrm>
          <a:custGeom>
            <a:avLst/>
            <a:gdLst>
              <a:gd name="textAreaLeft" fmla="*/ 183240 w 609480"/>
              <a:gd name="textAreaRight" fmla="*/ 426240 w 609480"/>
              <a:gd name="textAreaTop" fmla="*/ 183240 h 609480"/>
              <a:gd name="textAreaBottom" fmla="*/ 426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153" y="13081"/>
                </a:lnTo>
                <a:lnTo>
                  <a:pt x="3163" y="18437"/>
                </a:lnTo>
                <a:lnTo>
                  <a:pt x="8420" y="16406"/>
                </a:lnTo>
                <a:lnTo>
                  <a:pt x="10800" y="21600"/>
                </a:lnTo>
                <a:lnTo>
                  <a:pt x="13081" y="16447"/>
                </a:lnTo>
                <a:lnTo>
                  <a:pt x="18437" y="18437"/>
                </a:lnTo>
                <a:lnTo>
                  <a:pt x="16406" y="13180"/>
                </a:lnTo>
                <a:lnTo>
                  <a:pt x="21600" y="10800"/>
                </a:lnTo>
                <a:lnTo>
                  <a:pt x="16447" y="8519"/>
                </a:lnTo>
                <a:lnTo>
                  <a:pt x="18437" y="3163"/>
                </a:lnTo>
                <a:lnTo>
                  <a:pt x="13180" y="5194"/>
                </a:lnTo>
                <a:lnTo>
                  <a:pt x="10800" y="0"/>
                </a:lnTo>
                <a:lnTo>
                  <a:pt x="8519" y="5153"/>
                </a:lnTo>
                <a:lnTo>
                  <a:pt x="3163" y="3163"/>
                </a:lnTo>
                <a:lnTo>
                  <a:pt x="5194" y="842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1219320" y="1981080"/>
            <a:ext cx="609480" cy="609840"/>
          </a:xfrm>
          <a:custGeom>
            <a:avLst/>
            <a:gdLst>
              <a:gd name="textAreaLeft" fmla="*/ 212040 w 609480"/>
              <a:gd name="textAreaRight" fmla="*/ 397440 w 609480"/>
              <a:gd name="textAreaTop" fmla="*/ 212040 h 609840"/>
              <a:gd name="textAreaBottom" fmla="*/ 3978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9" y="12542"/>
                </a:lnTo>
                <a:lnTo>
                  <a:pt x="3163" y="18437"/>
                </a:lnTo>
                <a:lnTo>
                  <a:pt x="8983" y="15080"/>
                </a:lnTo>
                <a:lnTo>
                  <a:pt x="10800" y="21600"/>
                </a:lnTo>
                <a:lnTo>
                  <a:pt x="12542" y="15111"/>
                </a:lnTo>
                <a:lnTo>
                  <a:pt x="18437" y="18437"/>
                </a:lnTo>
                <a:lnTo>
                  <a:pt x="15080" y="12617"/>
                </a:lnTo>
                <a:lnTo>
                  <a:pt x="21600" y="10800"/>
                </a:lnTo>
                <a:lnTo>
                  <a:pt x="15111" y="9058"/>
                </a:lnTo>
                <a:lnTo>
                  <a:pt x="18437" y="3163"/>
                </a:lnTo>
                <a:lnTo>
                  <a:pt x="12617" y="6520"/>
                </a:lnTo>
                <a:lnTo>
                  <a:pt x="10800" y="0"/>
                </a:lnTo>
                <a:lnTo>
                  <a:pt x="9058" y="6489"/>
                </a:lnTo>
                <a:lnTo>
                  <a:pt x="3163" y="3163"/>
                </a:lnTo>
                <a:lnTo>
                  <a:pt x="6520" y="898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609480" y="685800"/>
            <a:ext cx="609840" cy="609480"/>
          </a:xfrm>
          <a:custGeom>
            <a:avLst/>
            <a:gdLst>
              <a:gd name="textAreaLeft" fmla="*/ 212040 w 609840"/>
              <a:gd name="textAreaRight" fmla="*/ 397800 w 609840"/>
              <a:gd name="textAreaTop" fmla="*/ 212040 h 609480"/>
              <a:gd name="textAreaBottom" fmla="*/ 3974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9" y="12542"/>
                </a:lnTo>
                <a:lnTo>
                  <a:pt x="3163" y="18437"/>
                </a:lnTo>
                <a:lnTo>
                  <a:pt x="8983" y="15080"/>
                </a:lnTo>
                <a:lnTo>
                  <a:pt x="10800" y="21600"/>
                </a:lnTo>
                <a:lnTo>
                  <a:pt x="12542" y="15111"/>
                </a:lnTo>
                <a:lnTo>
                  <a:pt x="18437" y="18437"/>
                </a:lnTo>
                <a:lnTo>
                  <a:pt x="15080" y="12617"/>
                </a:lnTo>
                <a:lnTo>
                  <a:pt x="21600" y="10800"/>
                </a:lnTo>
                <a:lnTo>
                  <a:pt x="15111" y="9058"/>
                </a:lnTo>
                <a:lnTo>
                  <a:pt x="18437" y="3163"/>
                </a:lnTo>
                <a:lnTo>
                  <a:pt x="12617" y="6520"/>
                </a:lnTo>
                <a:lnTo>
                  <a:pt x="10800" y="0"/>
                </a:lnTo>
                <a:lnTo>
                  <a:pt x="9058" y="6489"/>
                </a:lnTo>
                <a:lnTo>
                  <a:pt x="3163" y="3163"/>
                </a:lnTo>
                <a:lnTo>
                  <a:pt x="6520" y="898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7696080" y="1447920"/>
            <a:ext cx="457200" cy="457200"/>
          </a:xfrm>
          <a:custGeom>
            <a:avLst/>
            <a:gdLst>
              <a:gd name="textAreaLeft" fmla="*/ 159120 w 457200"/>
              <a:gd name="textAreaRight" fmla="*/ 298080 w 457200"/>
              <a:gd name="textAreaTop" fmla="*/ 159120 h 457200"/>
              <a:gd name="textAreaBottom" fmla="*/ 298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9" y="12542"/>
                </a:lnTo>
                <a:lnTo>
                  <a:pt x="3163" y="18437"/>
                </a:lnTo>
                <a:lnTo>
                  <a:pt x="8983" y="15080"/>
                </a:lnTo>
                <a:lnTo>
                  <a:pt x="10800" y="21600"/>
                </a:lnTo>
                <a:lnTo>
                  <a:pt x="12542" y="15111"/>
                </a:lnTo>
                <a:lnTo>
                  <a:pt x="18437" y="18437"/>
                </a:lnTo>
                <a:lnTo>
                  <a:pt x="15080" y="12617"/>
                </a:lnTo>
                <a:lnTo>
                  <a:pt x="21600" y="10800"/>
                </a:lnTo>
                <a:lnTo>
                  <a:pt x="15111" y="9058"/>
                </a:lnTo>
                <a:lnTo>
                  <a:pt x="18437" y="3163"/>
                </a:lnTo>
                <a:lnTo>
                  <a:pt x="12617" y="6520"/>
                </a:lnTo>
                <a:lnTo>
                  <a:pt x="10800" y="0"/>
                </a:lnTo>
                <a:lnTo>
                  <a:pt x="9058" y="6489"/>
                </a:lnTo>
                <a:lnTo>
                  <a:pt x="3163" y="3163"/>
                </a:lnTo>
                <a:lnTo>
                  <a:pt x="6520" y="898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038480" y="990720"/>
            <a:ext cx="1067040" cy="922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rot="10800000">
            <a:off x="4038480" y="1287360"/>
            <a:ext cx="1067040" cy="922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914400" y="2819160"/>
            <a:ext cx="3657600" cy="1904760"/>
          </a:xfrm>
          <a:prstGeom prst="line">
            <a:avLst/>
          </a:prstGeom>
          <a:ln w="1522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H="1" flipV="1">
            <a:off x="4572000" y="2819520"/>
            <a:ext cx="3581280" cy="1828800"/>
          </a:xfrm>
          <a:prstGeom prst="line">
            <a:avLst/>
          </a:prstGeom>
          <a:ln w="1522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219320" y="4648320"/>
            <a:ext cx="609480" cy="22096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391520" y="4648320"/>
            <a:ext cx="609480" cy="22096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1828800" y="4648320"/>
            <a:ext cx="5562720" cy="22096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80880" y="5181480"/>
            <a:ext cx="27432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God, the Creator, sent his Son Jesu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038480" y="5867280"/>
            <a:ext cx="838440" cy="99072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H="1">
            <a:off x="4266720" y="5867280"/>
            <a:ext cx="762120" cy="99072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343400" y="5715000"/>
            <a:ext cx="38088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rot="10800000">
            <a:off x="3962520" y="5866920"/>
            <a:ext cx="1218960" cy="685800"/>
          </a:xfrm>
          <a:prstGeom prst="triangle">
            <a:avLst>
              <a:gd name="adj" fmla="val 50000"/>
            </a:avLst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867280" y="6019920"/>
            <a:ext cx="1143000" cy="609480"/>
          </a:xfrm>
          <a:prstGeom prst="cloudCallout">
            <a:avLst>
              <a:gd name="adj1" fmla="val 66250"/>
              <a:gd name="adj2" fmla="val -6119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 flipV="1">
            <a:off x="3962160" y="5638680"/>
            <a:ext cx="152280" cy="152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 flipH="1" flipV="1">
            <a:off x="3885840" y="5714640"/>
            <a:ext cx="228600" cy="152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5029200" y="5714640"/>
            <a:ext cx="152280" cy="152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 flipV="1">
            <a:off x="4952880" y="5638320"/>
            <a:ext cx="152640" cy="228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 flipH="1" flipV="1">
            <a:off x="4114800" y="5638320"/>
            <a:ext cx="76320" cy="228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638680" y="5943600"/>
            <a:ext cx="5335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2319000">
            <a:off x="6019560" y="569124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172200" y="6553080"/>
            <a:ext cx="7632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5943600" y="6553080"/>
            <a:ext cx="7632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6858000" y="6477120"/>
            <a:ext cx="15228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6629400" y="65530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3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30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30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30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30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3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500"/>
                            </p:stCondLst>
                            <p:childTnLst>
                              <p:par>
                                <p:cTn id="8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4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243828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27432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27432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2339280" y="2613960"/>
            <a:ext cx="404640" cy="1272960"/>
          </a:xfrm>
          <a:custGeom>
            <a:avLst/>
            <a:gdLst>
              <a:gd name="textAreaLeft" fmla="*/ 149400 w 404640"/>
              <a:gd name="textAreaRight" fmla="*/ 273600 w 404640"/>
              <a:gd name="textAreaTop" fmla="*/ 142560 h 1272960"/>
              <a:gd name="textAreaBottom" fmla="*/ 1130400 h 127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03" y="2620"/>
                  <a:pt x="14606" y="5080"/>
                  <a:pt x="14606" y="10800"/>
                </a:cubicBezTo>
                <a:cubicBezTo>
                  <a:pt x="14606" y="16520"/>
                  <a:pt x="18103" y="189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133360" y="1600200"/>
            <a:ext cx="5331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28600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297180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3657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00800" y="365760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6187320" y="4099320"/>
            <a:ext cx="32868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4648320"/>
            <a:ext cx="9144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9534600">
            <a:off x="5638320" y="266688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1531400">
            <a:off x="5943240" y="266652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3149000">
            <a:off x="6095520" y="259020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4453400">
            <a:off x="6324480" y="259020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54100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838080"/>
            <a:ext cx="2971800" cy="1524240"/>
          </a:xfrm>
          <a:prstGeom prst="wedgeEllipseCallout">
            <a:avLst>
              <a:gd name="adj1" fmla="val -43111"/>
              <a:gd name="adj2" fmla="val 84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y,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low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1314400">
            <a:off x="365724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44956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86600" y="4952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838080"/>
            <a:ext cx="2971800" cy="1524240"/>
          </a:xfrm>
          <a:prstGeom prst="wedgeEllipseCallout">
            <a:avLst>
              <a:gd name="adj1" fmla="val 24518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www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e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93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C 5.55112E-017 0.04398 -0.0191 0.08009 -0.04219 0.08009 C -0.06927 0.08009 -0.07917 0.04005 -0.08333 0.01597 L -0.0875 -0.01597 C -0.09184 -0.04004 -0.10226 -0.08009 -0.13299 -0.08009 C -0.15278 -0.08009 -0.175 -0.04398 -0.175 -2.22222E-006 C -0.175 0.04398 -0.15278 0.08009 -0.13299 0.08009 C -0.10226 0.08009 -0.09184 0.04005 -0.0875 0.01597 L -0.08333 -0.01597 C -0.07917 -0.04004 -0.06927 -0.08009 -0.04219 -0.08009 C -0.0191 -0.08009 5.55112E-017 -0.04398 5.55112E-017 -2.22222E-006 Z">
                                      <p:cBhvr>
                                        <p:cTn id="9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 L -0.1 0.05556 L 0 0.05556 L 0 0 Z">
                                      <p:cBhvr>
                                        <p:cTn id="10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0.09166 0 L 0.09166 0.05556 L 3.33333E-006 0.05556 L 3.33333E-006 0 Z">
                                      <p:cBhvr>
                                        <p:cTn id="105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108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5185E-006 C 0 0.04398 -0.01806 0.08009 -0.0401 0.08009 C -0.06597 0.08009 -0.07535 0.04004 -0.07934 0.01597 L -0.08333 -0.01597 C -0.0875 -0.04005 -0.0974 -0.08009 -0.12674 -0.08009 C -0.14549 -0.08009 -0.16667 -0.04398 -0.16667 1.85185E-006 C -0.16667 0.04398 -0.14549 0.08009 -0.12674 0.08009 C -0.0974 0.08009 -0.0875 0.04004 -0.08333 0.01597 L -0.07934 -0.01597 C -0.07535 -0.04005 -0.06597 -0.08009 -0.0401 -0.08009 C -0.01806 -0.08009 0 -0.04398 0 1.85185E-006 Z">
                                      <p:cBhvr>
                                        <p:cTn id="11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4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1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/>
          <p:nvPr/>
        </p:nvSpPr>
        <p:spPr>
          <a:xfrm>
            <a:off x="518148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858000" y="2819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276720"/>
            <a:ext cx="30456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6515280" y="4076640"/>
            <a:ext cx="38088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72" y="3076"/>
                  <a:pt x="17144" y="5080"/>
                  <a:pt x="17144" y="10800"/>
                </a:cubicBezTo>
                <a:cubicBezTo>
                  <a:pt x="17144" y="16520"/>
                  <a:pt x="19372" y="185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5334120" y="2819520"/>
            <a:ext cx="121896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5486400" y="3276720"/>
            <a:ext cx="30492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5486400" y="5181480"/>
            <a:ext cx="3048120" cy="167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7086600" y="1599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flipV="1">
            <a:off x="7162920" y="1219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990720" y="1905120"/>
            <a:ext cx="3504960" cy="4114800"/>
          </a:xfrm>
          <a:prstGeom prst="wedgeEllipseCallout">
            <a:avLst>
              <a:gd name="adj1" fmla="val 86458"/>
              <a:gd name="adj2" fmla="val 18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sus died for our sins so we could be free to begin all over again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80880" y="2090880"/>
            <a:ext cx="304920" cy="271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8153280" y="5335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1752480" y="3049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90720" y="-1699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181480" y="-1699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8858160" y="1905120"/>
            <a:ext cx="571680" cy="50796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-343080" y="3733920"/>
            <a:ext cx="68616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8915400" y="297180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2209680" y="1295280"/>
            <a:ext cx="38124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048120" y="91440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763120" y="22860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609480" y="304812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724280" y="5335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3581280" y="22860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6324480" y="38088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572000" y="17524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8763120" y="39625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7696080" y="22860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-190440" y="12952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2057400" y="6094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380880" y="3049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7010280" y="-152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5562720" y="685800"/>
            <a:ext cx="609480" cy="609480"/>
          </a:xfrm>
          <a:custGeom>
            <a:avLst/>
            <a:gdLst>
              <a:gd name="textAreaLeft" fmla="*/ 183240 w 609480"/>
              <a:gd name="textAreaRight" fmla="*/ 426240 w 609480"/>
              <a:gd name="textAreaTop" fmla="*/ 183240 h 609480"/>
              <a:gd name="textAreaBottom" fmla="*/ 426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153" y="13081"/>
                </a:lnTo>
                <a:lnTo>
                  <a:pt x="3163" y="18437"/>
                </a:lnTo>
                <a:lnTo>
                  <a:pt x="8420" y="16406"/>
                </a:lnTo>
                <a:lnTo>
                  <a:pt x="10800" y="21600"/>
                </a:lnTo>
                <a:lnTo>
                  <a:pt x="13081" y="16447"/>
                </a:lnTo>
                <a:lnTo>
                  <a:pt x="18437" y="18437"/>
                </a:lnTo>
                <a:lnTo>
                  <a:pt x="16406" y="13180"/>
                </a:lnTo>
                <a:lnTo>
                  <a:pt x="21600" y="10800"/>
                </a:lnTo>
                <a:lnTo>
                  <a:pt x="16447" y="8519"/>
                </a:lnTo>
                <a:lnTo>
                  <a:pt x="18437" y="3163"/>
                </a:lnTo>
                <a:lnTo>
                  <a:pt x="13180" y="5194"/>
                </a:lnTo>
                <a:lnTo>
                  <a:pt x="10800" y="0"/>
                </a:lnTo>
                <a:lnTo>
                  <a:pt x="8519" y="5153"/>
                </a:lnTo>
                <a:lnTo>
                  <a:pt x="3163" y="3163"/>
                </a:lnTo>
                <a:lnTo>
                  <a:pt x="5194" y="842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609480" y="685800"/>
            <a:ext cx="609840" cy="609480"/>
          </a:xfrm>
          <a:custGeom>
            <a:avLst/>
            <a:gdLst>
              <a:gd name="textAreaLeft" fmla="*/ 212040 w 609840"/>
              <a:gd name="textAreaRight" fmla="*/ 397800 w 609840"/>
              <a:gd name="textAreaTop" fmla="*/ 212040 h 609480"/>
              <a:gd name="textAreaBottom" fmla="*/ 3974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9" y="12542"/>
                </a:lnTo>
                <a:lnTo>
                  <a:pt x="3163" y="18437"/>
                </a:lnTo>
                <a:lnTo>
                  <a:pt x="8983" y="15080"/>
                </a:lnTo>
                <a:lnTo>
                  <a:pt x="10800" y="21600"/>
                </a:lnTo>
                <a:lnTo>
                  <a:pt x="12542" y="15111"/>
                </a:lnTo>
                <a:lnTo>
                  <a:pt x="18437" y="18437"/>
                </a:lnTo>
                <a:lnTo>
                  <a:pt x="15080" y="12617"/>
                </a:lnTo>
                <a:lnTo>
                  <a:pt x="21600" y="10800"/>
                </a:lnTo>
                <a:lnTo>
                  <a:pt x="15111" y="9058"/>
                </a:lnTo>
                <a:lnTo>
                  <a:pt x="18437" y="3163"/>
                </a:lnTo>
                <a:lnTo>
                  <a:pt x="12617" y="6520"/>
                </a:lnTo>
                <a:lnTo>
                  <a:pt x="10800" y="0"/>
                </a:lnTo>
                <a:lnTo>
                  <a:pt x="9058" y="6489"/>
                </a:lnTo>
                <a:lnTo>
                  <a:pt x="3163" y="3163"/>
                </a:lnTo>
                <a:lnTo>
                  <a:pt x="6520" y="898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18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4" dur="250" autoRev="1" fill="hold"/>
                                        <p:tgtEl>
                                          <p:spTgt spid="18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6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7" dur="250" autoRev="1" fill="hold"/>
                                        <p:tgtEl>
                                          <p:spTgt spid="18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0" dur="250" autoRev="1" fill="hold"/>
                                        <p:tgtEl>
                                          <p:spTgt spid="18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3" dur="250" autoRev="1" fill="hold"/>
                                        <p:tgtEl>
                                          <p:spTgt spid="18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4" nodeType="withEffect" fill="hold" presetClass="emph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5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6" dur="250" autoRev="1" fill="hold"/>
                                        <p:tgtEl>
                                          <p:spTgt spid="18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9" dur="250" autoRev="1" fill="hold"/>
                                        <p:tgtEl>
                                          <p:spTgt spid="18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2" dur="250" autoRev="1" fill="hold"/>
                                        <p:tgtEl>
                                          <p:spTgt spid="18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23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5" dur="250" autoRev="1" fill="hold"/>
                                        <p:tgtEl>
                                          <p:spTgt spid="18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26" nodeType="withEffect" fill="hold" presetClass="emph" presetID="26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8" dur="250" autoRev="1" fill="hold"/>
                                        <p:tgtEl>
                                          <p:spTgt spid="18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26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1" dur="250" autoRev="1" fill="hold"/>
                                        <p:tgtEl>
                                          <p:spTgt spid="18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4" dur="250" autoRev="1" fill="hold"/>
                                        <p:tgtEl>
                                          <p:spTgt spid="18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7" dur="250" autoRev="1" fill="hold"/>
                                        <p:tgtEl>
                                          <p:spTgt spid="18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38" nodeType="withEffect" fill="hold" presetClass="emph" presetID="26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0" dur="250" autoRev="1" fill="hold"/>
                                        <p:tgtEl>
                                          <p:spTgt spid="18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1" nodeType="withEffect" fill="hold" presetClass="emph" presetID="26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2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250" autoRev="1" fill="hold"/>
                                        <p:tgtEl>
                                          <p:spTgt spid="18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4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6" dur="250" autoRev="1" fill="hold"/>
                                        <p:tgtEl>
                                          <p:spTgt spid="18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7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9" dur="250" autoRev="1" fill="hold"/>
                                        <p:tgtEl>
                                          <p:spTgt spid="18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50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250" autoRev="1" fill="hold"/>
                                        <p:tgtEl>
                                          <p:spTgt spid="18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4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5" dur="250" autoRev="1" fill="hold"/>
                                        <p:tgtEl>
                                          <p:spTgt spid="18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7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8" dur="250" autoRev="1" fill="hold"/>
                                        <p:tgtEl>
                                          <p:spTgt spid="18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0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1" dur="250" autoRev="1" fill="hold"/>
                                        <p:tgtEl>
                                          <p:spTgt spid="18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3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4" dur="250" autoRev="1" fill="hold"/>
                                        <p:tgtEl>
                                          <p:spTgt spid="18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6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6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7" dur="250" autoRev="1" fill="hold"/>
                                        <p:tgtEl>
                                          <p:spTgt spid="18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68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0" dur="250" autoRev="1" fill="hold"/>
                                        <p:tgtEl>
                                          <p:spTgt spid="1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990720" y="1905120"/>
            <a:ext cx="3504960" cy="4114800"/>
          </a:xfrm>
          <a:prstGeom prst="wedgeEllipseCallout">
            <a:avLst>
              <a:gd name="adj1" fmla="val 76134"/>
              <a:gd name="adj2" fmla="val 16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we could be God’s hands and feet and voice to spea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380880" y="2090880"/>
            <a:ext cx="304920" cy="271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8153280" y="5335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752480" y="3049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990720" y="-1699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181480" y="-1699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8858160" y="1905120"/>
            <a:ext cx="571680" cy="50796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-343080" y="3733920"/>
            <a:ext cx="68616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8915400" y="297180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2209680" y="1295280"/>
            <a:ext cx="38124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3048120" y="91440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8763120" y="22860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609480" y="304812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4724280" y="5335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3581280" y="22860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6324480" y="38088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4572000" y="17524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8763120" y="39625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7696080" y="22860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-190440" y="12952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2057400" y="6094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80880" y="3049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7010280" y="-152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562720" y="685800"/>
            <a:ext cx="609480" cy="609480"/>
          </a:xfrm>
          <a:custGeom>
            <a:avLst/>
            <a:gdLst>
              <a:gd name="textAreaLeft" fmla="*/ 183240 w 609480"/>
              <a:gd name="textAreaRight" fmla="*/ 426240 w 609480"/>
              <a:gd name="textAreaTop" fmla="*/ 183240 h 609480"/>
              <a:gd name="textAreaBottom" fmla="*/ 426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153" y="13081"/>
                </a:lnTo>
                <a:lnTo>
                  <a:pt x="3163" y="18437"/>
                </a:lnTo>
                <a:lnTo>
                  <a:pt x="8420" y="16406"/>
                </a:lnTo>
                <a:lnTo>
                  <a:pt x="10800" y="21600"/>
                </a:lnTo>
                <a:lnTo>
                  <a:pt x="13081" y="16447"/>
                </a:lnTo>
                <a:lnTo>
                  <a:pt x="18437" y="18437"/>
                </a:lnTo>
                <a:lnTo>
                  <a:pt x="16406" y="13180"/>
                </a:lnTo>
                <a:lnTo>
                  <a:pt x="21600" y="10800"/>
                </a:lnTo>
                <a:lnTo>
                  <a:pt x="16447" y="8519"/>
                </a:lnTo>
                <a:lnTo>
                  <a:pt x="18437" y="3163"/>
                </a:lnTo>
                <a:lnTo>
                  <a:pt x="13180" y="5194"/>
                </a:lnTo>
                <a:lnTo>
                  <a:pt x="10800" y="0"/>
                </a:lnTo>
                <a:lnTo>
                  <a:pt x="8519" y="5153"/>
                </a:lnTo>
                <a:lnTo>
                  <a:pt x="3163" y="3163"/>
                </a:lnTo>
                <a:lnTo>
                  <a:pt x="5194" y="842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609480" y="685800"/>
            <a:ext cx="609840" cy="609480"/>
          </a:xfrm>
          <a:custGeom>
            <a:avLst/>
            <a:gdLst>
              <a:gd name="textAreaLeft" fmla="*/ 212040 w 609840"/>
              <a:gd name="textAreaRight" fmla="*/ 397800 w 609840"/>
              <a:gd name="textAreaTop" fmla="*/ 212040 h 609480"/>
              <a:gd name="textAreaBottom" fmla="*/ 3974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9" y="12542"/>
                </a:lnTo>
                <a:lnTo>
                  <a:pt x="3163" y="18437"/>
                </a:lnTo>
                <a:lnTo>
                  <a:pt x="8983" y="15080"/>
                </a:lnTo>
                <a:lnTo>
                  <a:pt x="10800" y="21600"/>
                </a:lnTo>
                <a:lnTo>
                  <a:pt x="12542" y="15111"/>
                </a:lnTo>
                <a:lnTo>
                  <a:pt x="18437" y="18437"/>
                </a:lnTo>
                <a:lnTo>
                  <a:pt x="15080" y="12617"/>
                </a:lnTo>
                <a:lnTo>
                  <a:pt x="21600" y="10800"/>
                </a:lnTo>
                <a:lnTo>
                  <a:pt x="15111" y="9058"/>
                </a:lnTo>
                <a:lnTo>
                  <a:pt x="18437" y="3163"/>
                </a:lnTo>
                <a:lnTo>
                  <a:pt x="12617" y="6520"/>
                </a:lnTo>
                <a:lnTo>
                  <a:pt x="10800" y="0"/>
                </a:lnTo>
                <a:lnTo>
                  <a:pt x="9058" y="6489"/>
                </a:lnTo>
                <a:lnTo>
                  <a:pt x="3163" y="3163"/>
                </a:lnTo>
                <a:lnTo>
                  <a:pt x="6520" y="898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6477120" y="3352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 rot="16200000">
            <a:off x="6514920" y="42285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51814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1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2" dur="250" autoRev="1" fill="hold"/>
                                        <p:tgtEl>
                                          <p:spTgt spid="18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3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4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5" dur="250" autoRev="1" fill="hold"/>
                                        <p:tgtEl>
                                          <p:spTgt spid="18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7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8" dur="250" autoRev="1" fill="hold"/>
                                        <p:tgtEl>
                                          <p:spTgt spid="18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9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1" dur="250" autoRev="1" fill="hold"/>
                                        <p:tgtEl>
                                          <p:spTgt spid="18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2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4" dur="250" autoRev="1" fill="hold"/>
                                        <p:tgtEl>
                                          <p:spTgt spid="18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5" nodeType="withEffect" fill="hold" presetClass="emph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7" dur="250" autoRev="1" fill="hold"/>
                                        <p:tgtEl>
                                          <p:spTgt spid="18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8" nodeType="with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0" dur="250" autoRev="1" fill="hold"/>
                                        <p:tgtEl>
                                          <p:spTgt spid="18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1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3" dur="250" autoRev="1" fill="hold"/>
                                        <p:tgtEl>
                                          <p:spTgt spid="18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4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6" dur="250" autoRev="1" fill="hold"/>
                                        <p:tgtEl>
                                          <p:spTgt spid="18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7" nodeType="withEffect" fill="hold" presetClass="emph" presetID="26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8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9" dur="250" autoRev="1" fill="hold"/>
                                        <p:tgtEl>
                                          <p:spTgt spid="18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0" nodeType="withEffect" fill="hold" presetClass="emph" presetID="26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2" dur="250" autoRev="1" fill="hold"/>
                                        <p:tgtEl>
                                          <p:spTgt spid="18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5" dur="250" autoRev="1" fill="hold"/>
                                        <p:tgtEl>
                                          <p:spTgt spid="18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7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8" dur="250" autoRev="1" fill="hold"/>
                                        <p:tgtEl>
                                          <p:spTgt spid="18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9" nodeType="withEffect" fill="hold" presetClass="emph" presetID="26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0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1" dur="250" autoRev="1" fill="hold"/>
                                        <p:tgtEl>
                                          <p:spTgt spid="18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2" nodeType="withEffect" fill="hold" presetClass="emph" presetID="26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3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4" dur="250" autoRev="1" fill="hold"/>
                                        <p:tgtEl>
                                          <p:spTgt spid="18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6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7" dur="250" autoRev="1" fill="hold"/>
                                        <p:tgtEl>
                                          <p:spTgt spid="18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8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9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0" dur="250" autoRev="1" fill="hold"/>
                                        <p:tgtEl>
                                          <p:spTgt spid="18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3" dur="250" autoRev="1" fill="hold"/>
                                        <p:tgtEl>
                                          <p:spTgt spid="18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250" autoRev="1" fill="hold"/>
                                        <p:tgtEl>
                                          <p:spTgt spid="18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7" nodeType="withEffect" fill="hold" presetClass="emph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8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9" dur="250" autoRev="1" fill="hold"/>
                                        <p:tgtEl>
                                          <p:spTgt spid="18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0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1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2" dur="250" autoRev="1" fill="hold"/>
                                        <p:tgtEl>
                                          <p:spTgt spid="18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3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4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5" dur="250" autoRev="1" fill="hold"/>
                                        <p:tgtEl>
                                          <p:spTgt spid="18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250" autoRev="1" fill="hold"/>
                                        <p:tgtEl>
                                          <p:spTgt spid="18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9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1" dur="250" autoRev="1" fill="hold"/>
                                        <p:tgtEl>
                                          <p:spTgt spid="18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6781680" y="293364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708660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769608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777240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71629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7162920" y="4610160"/>
            <a:ext cx="914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rot="9534600">
            <a:off x="6933960" y="262872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rot="11531400">
            <a:off x="7238520" y="262836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rot="13149000">
            <a:off x="73911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rot="14453400">
            <a:off x="76197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162920" y="53722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77724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400800" y="4457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8381880" y="49150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2362320" y="3733920"/>
            <a:ext cx="38088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4" name=""/>
          <p:cNvGrpSpPr/>
          <p:nvPr/>
        </p:nvGrpSpPr>
        <p:grpSpPr>
          <a:xfrm>
            <a:off x="789480" y="1828800"/>
            <a:ext cx="1824120" cy="4543560"/>
            <a:chOff x="789480" y="1828800"/>
            <a:chExt cx="1824120" cy="4543560"/>
          </a:xfrm>
        </p:grpSpPr>
        <p:grpSp>
          <p:nvGrpSpPr>
            <p:cNvPr id="1885" name=""/>
            <p:cNvGrpSpPr/>
            <p:nvPr/>
          </p:nvGrpSpPr>
          <p:grpSpPr>
            <a:xfrm>
              <a:off x="789480" y="1828800"/>
              <a:ext cx="1824120" cy="3200400"/>
              <a:chOff x="789480" y="1828800"/>
              <a:chExt cx="1824120" cy="3200400"/>
            </a:xfrm>
          </p:grpSpPr>
          <p:sp>
            <p:nvSpPr>
              <p:cNvPr id="1886" name=""/>
              <p:cNvSpPr/>
              <p:nvPr/>
            </p:nvSpPr>
            <p:spPr>
              <a:xfrm>
                <a:off x="914040" y="1828800"/>
                <a:ext cx="1600200" cy="2057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rot="19351800">
                <a:off x="99000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1925400">
                <a:off x="190404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218600" y="4114800"/>
                <a:ext cx="990720" cy="914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H="1">
                <a:off x="1675800" y="3733560"/>
                <a:ext cx="76320" cy="533520"/>
              </a:xfrm>
              <a:prstGeom prst="line">
                <a:avLst/>
              </a:prstGeom>
              <a:ln w="1620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1" name=""/>
            <p:cNvGrpSpPr/>
            <p:nvPr/>
          </p:nvGrpSpPr>
          <p:grpSpPr>
            <a:xfrm>
              <a:off x="838080" y="4876920"/>
              <a:ext cx="1752480" cy="1495440"/>
              <a:chOff x="838080" y="4876920"/>
              <a:chExt cx="1752480" cy="1495440"/>
            </a:xfrm>
          </p:grpSpPr>
          <p:grpSp>
            <p:nvGrpSpPr>
              <p:cNvPr id="1892" name=""/>
              <p:cNvGrpSpPr/>
              <p:nvPr/>
            </p:nvGrpSpPr>
            <p:grpSpPr>
              <a:xfrm>
                <a:off x="838080" y="5562720"/>
                <a:ext cx="1752480" cy="809640"/>
                <a:chOff x="838080" y="5562720"/>
                <a:chExt cx="1752480" cy="80964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1523880" y="59436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2209680" y="57150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1523880" y="55627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838080" y="57913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981080" y="60199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8" name=""/>
              <p:cNvGrpSpPr/>
              <p:nvPr/>
            </p:nvGrpSpPr>
            <p:grpSpPr>
              <a:xfrm>
                <a:off x="988920" y="4876920"/>
                <a:ext cx="1438200" cy="1226880"/>
                <a:chOff x="988920" y="4876920"/>
                <a:chExt cx="1438200" cy="1226880"/>
              </a:xfrm>
            </p:grpSpPr>
            <p:sp>
              <p:nvSpPr>
                <p:cNvPr id="1899" name=""/>
                <p:cNvSpPr/>
                <p:nvPr/>
              </p:nvSpPr>
              <p:spPr>
                <a:xfrm>
                  <a:off x="1977840" y="4898880"/>
                  <a:ext cx="449280" cy="903600"/>
                </a:xfrm>
                <a:custGeom>
                  <a:avLst/>
                  <a:gdLst/>
                  <a:ahLst/>
                  <a:rect l="l" t="t" r="r" b="b"/>
                  <a:pathLst>
                    <a:path w="283" h="569">
                      <a:moveTo>
                        <a:pt x="0" y="0"/>
                      </a:moveTo>
                      <a:cubicBezTo>
                        <a:pt x="46" y="70"/>
                        <a:pt x="59" y="71"/>
                        <a:pt x="128" y="119"/>
                      </a:cubicBezTo>
                      <a:cubicBezTo>
                        <a:pt x="146" y="132"/>
                        <a:pt x="183" y="155"/>
                        <a:pt x="183" y="155"/>
                      </a:cubicBezTo>
                      <a:cubicBezTo>
                        <a:pt x="233" y="231"/>
                        <a:pt x="209" y="216"/>
                        <a:pt x="237" y="301"/>
                      </a:cubicBezTo>
                      <a:cubicBezTo>
                        <a:pt x="248" y="383"/>
                        <a:pt x="245" y="466"/>
                        <a:pt x="256" y="548"/>
                      </a:cubicBezTo>
                      <a:cubicBezTo>
                        <a:pt x="259" y="569"/>
                        <a:pt x="271" y="567"/>
                        <a:pt x="283" y="567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0" name=""/>
                <p:cNvGrpSpPr/>
                <p:nvPr/>
              </p:nvGrpSpPr>
              <p:grpSpPr>
                <a:xfrm>
                  <a:off x="988920" y="4876920"/>
                  <a:ext cx="1230120" cy="1226880"/>
                  <a:chOff x="988920" y="4876920"/>
                  <a:chExt cx="1230120" cy="1226880"/>
                </a:xfrm>
              </p:grpSpPr>
              <p:sp>
                <p:nvSpPr>
                  <p:cNvPr id="1901" name=""/>
                  <p:cNvSpPr/>
                  <p:nvPr/>
                </p:nvSpPr>
                <p:spPr>
                  <a:xfrm>
                    <a:off x="988920" y="4956120"/>
                    <a:ext cx="480960" cy="84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531">
                        <a:moveTo>
                          <a:pt x="303" y="0"/>
                        </a:moveTo>
                        <a:cubicBezTo>
                          <a:pt x="294" y="12"/>
                          <a:pt x="247" y="89"/>
                          <a:pt x="220" y="101"/>
                        </a:cubicBezTo>
                        <a:cubicBezTo>
                          <a:pt x="160" y="127"/>
                          <a:pt x="84" y="133"/>
                          <a:pt x="19" y="147"/>
                        </a:cubicBezTo>
                        <a:cubicBezTo>
                          <a:pt x="0" y="205"/>
                          <a:pt x="13" y="263"/>
                          <a:pt x="47" y="311"/>
                        </a:cubicBezTo>
                        <a:cubicBezTo>
                          <a:pt x="61" y="370"/>
                          <a:pt x="67" y="380"/>
                          <a:pt x="56" y="448"/>
                        </a:cubicBezTo>
                        <a:cubicBezTo>
                          <a:pt x="51" y="481"/>
                          <a:pt x="33" y="500"/>
                          <a:pt x="47" y="531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>
                    <a:off x="1447560" y="4876920"/>
                    <a:ext cx="631800" cy="11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384">
                        <a:moveTo>
                          <a:pt x="289" y="384"/>
                        </a:moveTo>
                        <a:cubicBezTo>
                          <a:pt x="333" y="369"/>
                          <a:pt x="426" y="357"/>
                          <a:pt x="426" y="357"/>
                        </a:cubicBezTo>
                        <a:cubicBezTo>
                          <a:pt x="462" y="332"/>
                          <a:pt x="470" y="327"/>
                          <a:pt x="481" y="284"/>
                        </a:cubicBezTo>
                        <a:cubicBezTo>
                          <a:pt x="475" y="258"/>
                          <a:pt x="473" y="187"/>
                          <a:pt x="444" y="174"/>
                        </a:cubicBezTo>
                        <a:cubicBezTo>
                          <a:pt x="402" y="155"/>
                          <a:pt x="353" y="162"/>
                          <a:pt x="307" y="156"/>
                        </a:cubicBezTo>
                        <a:cubicBezTo>
                          <a:pt x="222" y="145"/>
                          <a:pt x="136" y="139"/>
                          <a:pt x="51" y="128"/>
                        </a:cubicBezTo>
                        <a:cubicBezTo>
                          <a:pt x="0" y="94"/>
                          <a:pt x="15" y="67"/>
                          <a:pt x="60" y="37"/>
                        </a:cubicBezTo>
                        <a:cubicBezTo>
                          <a:pt x="124" y="40"/>
                          <a:pt x="188" y="41"/>
                          <a:pt x="252" y="46"/>
                        </a:cubicBezTo>
                        <a:cubicBezTo>
                          <a:pt x="262" y="47"/>
                          <a:pt x="273" y="62"/>
                          <a:pt x="280" y="55"/>
                        </a:cubicBezTo>
                        <a:cubicBezTo>
                          <a:pt x="294" y="41"/>
                          <a:pt x="298" y="0"/>
                          <a:pt x="298" y="0"/>
                        </a:cubicBezTo>
                        <a:cubicBezTo>
                          <a:pt x="304" y="9"/>
                          <a:pt x="316" y="28"/>
                          <a:pt x="316" y="2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>
                    <a:off x="1526760" y="4913280"/>
                    <a:ext cx="233640" cy="69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439">
                        <a:moveTo>
                          <a:pt x="147" y="439"/>
                        </a:moveTo>
                        <a:cubicBezTo>
                          <a:pt x="104" y="425"/>
                          <a:pt x="61" y="416"/>
                          <a:pt x="19" y="402"/>
                        </a:cubicBezTo>
                        <a:cubicBezTo>
                          <a:pt x="0" y="350"/>
                          <a:pt x="7" y="327"/>
                          <a:pt x="55" y="311"/>
                        </a:cubicBezTo>
                        <a:cubicBezTo>
                          <a:pt x="72" y="284"/>
                          <a:pt x="92" y="264"/>
                          <a:pt x="110" y="238"/>
                        </a:cubicBezTo>
                        <a:cubicBezTo>
                          <a:pt x="128" y="164"/>
                          <a:pt x="124" y="198"/>
                          <a:pt x="110" y="73"/>
                        </a:cubicBezTo>
                        <a:cubicBezTo>
                          <a:pt x="107" y="48"/>
                          <a:pt x="92" y="25"/>
                          <a:pt x="92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1803240" y="4884840"/>
                    <a:ext cx="415800" cy="12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768">
                        <a:moveTo>
                          <a:pt x="201" y="768"/>
                        </a:moveTo>
                        <a:cubicBezTo>
                          <a:pt x="208" y="694"/>
                          <a:pt x="214" y="610"/>
                          <a:pt x="238" y="539"/>
                        </a:cubicBezTo>
                        <a:cubicBezTo>
                          <a:pt x="249" y="447"/>
                          <a:pt x="262" y="314"/>
                          <a:pt x="174" y="256"/>
                        </a:cubicBezTo>
                        <a:cubicBezTo>
                          <a:pt x="160" y="213"/>
                          <a:pt x="147" y="226"/>
                          <a:pt x="110" y="201"/>
                        </a:cubicBezTo>
                        <a:cubicBezTo>
                          <a:pt x="93" y="147"/>
                          <a:pt x="93" y="139"/>
                          <a:pt x="37" y="118"/>
                        </a:cubicBezTo>
                        <a:cubicBezTo>
                          <a:pt x="0" y="83"/>
                          <a:pt x="0" y="46"/>
                          <a:pt x="0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905" name=""/>
          <p:cNvSpPr/>
          <p:nvPr/>
        </p:nvSpPr>
        <p:spPr>
          <a:xfrm rot="16200000">
            <a:off x="1615320" y="3337560"/>
            <a:ext cx="32832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6" name=""/>
          <p:cNvGrpSpPr/>
          <p:nvPr/>
        </p:nvGrpSpPr>
        <p:grpSpPr>
          <a:xfrm>
            <a:off x="685800" y="4010040"/>
            <a:ext cx="1846080" cy="838080"/>
            <a:chOff x="685800" y="4010040"/>
            <a:chExt cx="1846080" cy="838080"/>
          </a:xfrm>
        </p:grpSpPr>
        <p:sp>
          <p:nvSpPr>
            <p:cNvPr id="1907" name=""/>
            <p:cNvSpPr/>
            <p:nvPr/>
          </p:nvSpPr>
          <p:spPr>
            <a:xfrm>
              <a:off x="685800" y="4495680"/>
              <a:ext cx="380880" cy="3524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068560" y="4010040"/>
              <a:ext cx="46332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0" y="283"/>
                  </a:moveTo>
                  <a:cubicBezTo>
                    <a:pt x="62" y="292"/>
                    <a:pt x="87" y="286"/>
                    <a:pt x="146" y="274"/>
                  </a:cubicBezTo>
                  <a:cubicBezTo>
                    <a:pt x="175" y="255"/>
                    <a:pt x="217" y="229"/>
                    <a:pt x="238" y="201"/>
                  </a:cubicBezTo>
                  <a:cubicBezTo>
                    <a:pt x="251" y="183"/>
                    <a:pt x="274" y="146"/>
                    <a:pt x="274" y="146"/>
                  </a:cubicBezTo>
                  <a:cubicBezTo>
                    <a:pt x="292" y="74"/>
                    <a:pt x="283" y="122"/>
                    <a:pt x="283" y="0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92080" y="4300560"/>
              <a:ext cx="493560" cy="288720"/>
            </a:xfrm>
            <a:custGeom>
              <a:avLst/>
              <a:gdLst/>
              <a:ahLst/>
              <a:rect l="l" t="t" r="r" b="b"/>
              <a:pathLst>
                <a:path w="311" h="182">
                  <a:moveTo>
                    <a:pt x="311" y="27"/>
                  </a:moveTo>
                  <a:cubicBezTo>
                    <a:pt x="261" y="10"/>
                    <a:pt x="208" y="8"/>
                    <a:pt x="156" y="0"/>
                  </a:cubicBezTo>
                  <a:cubicBezTo>
                    <a:pt x="109" y="8"/>
                    <a:pt x="84" y="10"/>
                    <a:pt x="46" y="36"/>
                  </a:cubicBezTo>
                  <a:cubicBezTo>
                    <a:pt x="17" y="81"/>
                    <a:pt x="0" y="129"/>
                    <a:pt x="0" y="182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0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419112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419112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434340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556272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388620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4100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2670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457200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312408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 rot="21314400">
            <a:off x="601956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952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25780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838080" y="304920"/>
            <a:ext cx="3733920" cy="1752480"/>
          </a:xfrm>
          <a:prstGeom prst="wedgeEllipseCallout">
            <a:avLst>
              <a:gd name="adj1" fmla="val 32226"/>
              <a:gd name="adj2" fmla="val 107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’re g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 rot="16200000">
            <a:off x="7391160" y="3809880"/>
            <a:ext cx="45720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438" y="1305"/>
                  <a:pt x="7275" y="5080"/>
                  <a:pt x="7275" y="10800"/>
                </a:cubicBezTo>
                <a:cubicBezTo>
                  <a:pt x="7275" y="16520"/>
                  <a:pt x="14438" y="2029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 rot="16200000">
            <a:off x="4647960" y="2666880"/>
            <a:ext cx="45720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338" y="1628"/>
                  <a:pt x="9075" y="5080"/>
                  <a:pt x="9075" y="10800"/>
                </a:cubicBezTo>
                <a:cubicBezTo>
                  <a:pt x="9075" y="16520"/>
                  <a:pt x="15338" y="1997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5105520" y="228600"/>
            <a:ext cx="3733560" cy="1752480"/>
          </a:xfrm>
          <a:prstGeom prst="wedgeEllipseCallout">
            <a:avLst>
              <a:gd name="adj1" fmla="val -2976"/>
              <a:gd name="adj2" fmla="val 142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because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0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0" y="0"/>
            <a:ext cx="9144000" cy="4343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-457200" y="-76320"/>
            <a:ext cx="10363320" cy="2210040"/>
          </a:xfrm>
          <a:custGeom>
            <a:avLst/>
            <a:gdLst>
              <a:gd name="textAreaLeft" fmla="*/ 2590920 w 10363320"/>
              <a:gd name="textAreaRight" fmla="*/ 7772760 w 10363320"/>
              <a:gd name="textAreaTop" fmla="*/ 65160 h 2210040"/>
              <a:gd name="textAreaBottom" fmla="*/ 16578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NFIRM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ASS 2005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1371600" y="2286000"/>
            <a:ext cx="6400800" cy="289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6781680" y="293364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701028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69608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78487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7162920" y="4610160"/>
            <a:ext cx="914400" cy="16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rot="9534600">
            <a:off x="6933960" y="262872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rot="11531400">
            <a:off x="7238520" y="262836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rot="13149000">
            <a:off x="73911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 rot="14453400">
            <a:off x="76197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6629400" y="502920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8153280" y="502920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4191120" y="3581280"/>
            <a:ext cx="15238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42670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4495680" y="2666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581280" y="44956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 rot="21314400">
            <a:off x="5790960" y="44953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4952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5181480" y="2666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rot="16200000">
            <a:off x="7467480" y="3885840"/>
            <a:ext cx="22860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887" y="1466"/>
                  <a:pt x="8174" y="5080"/>
                  <a:pt x="8174" y="10800"/>
                </a:cubicBezTo>
                <a:cubicBezTo>
                  <a:pt x="8174" y="16520"/>
                  <a:pt x="14887" y="2013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rot="16200000">
            <a:off x="4800600" y="2818800"/>
            <a:ext cx="228600" cy="83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887" y="1466"/>
                  <a:pt x="8174" y="5080"/>
                  <a:pt x="8174" y="10800"/>
                </a:cubicBezTo>
                <a:cubicBezTo>
                  <a:pt x="8174" y="16520"/>
                  <a:pt x="14887" y="2013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1158840" y="1676520"/>
            <a:ext cx="2117880" cy="2117520"/>
          </a:xfrm>
          <a:prstGeom prst="ellips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2212920" y="2514600"/>
            <a:ext cx="706320" cy="70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81120" y="2779560"/>
            <a:ext cx="176400" cy="176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1843200" y="3352680"/>
            <a:ext cx="706320" cy="265320"/>
          </a:xfrm>
          <a:custGeom>
            <a:avLst/>
            <a:gdLst>
              <a:gd name="textAreaLeft" fmla="*/ 165960 w 706320"/>
              <a:gd name="textAreaRight" fmla="*/ 540000 w 706320"/>
              <a:gd name="textAreaTop" fmla="*/ 30960 h 265320"/>
              <a:gd name="textAreaBottom" fmla="*/ 166320 h 265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1330200" y="3838680"/>
            <a:ext cx="1764000" cy="23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2849400" y="2514240"/>
            <a:ext cx="26532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V="1">
            <a:off x="2894040" y="2646000"/>
            <a:ext cx="264960" cy="4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2938320" y="2779560"/>
            <a:ext cx="1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 rot="21334200">
            <a:off x="228600" y="2516040"/>
            <a:ext cx="1066680" cy="152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 rot="5400000">
            <a:off x="1817280" y="1036440"/>
            <a:ext cx="793800" cy="2073240"/>
          </a:xfrm>
          <a:custGeom>
            <a:avLst/>
            <a:gdLst>
              <a:gd name="textAreaLeft" fmla="*/ 14040 w 793800"/>
              <a:gd name="textAreaRight" fmla="*/ 606600 w 793800"/>
              <a:gd name="textAreaTop" fmla="*/ 842400 h 2073240"/>
              <a:gd name="textAreaBottom" fmla="*/ 1230840 h 207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9050" y="2960"/>
                  <a:pt x="16500" y="5080"/>
                  <a:pt x="16500" y="10800"/>
                </a:cubicBezTo>
                <a:cubicBezTo>
                  <a:pt x="16500" y="16520"/>
                  <a:pt x="19050" y="1864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rot="10800000">
            <a:off x="3083040" y="2361960"/>
            <a:ext cx="761760" cy="160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 flipH="1" flipV="1">
            <a:off x="1349280" y="2558520"/>
            <a:ext cx="177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 flipH="1" flipV="1">
            <a:off x="1306440" y="2690640"/>
            <a:ext cx="17640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flipH="1">
            <a:off x="1261800" y="2824200"/>
            <a:ext cx="22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1482840" y="2514600"/>
            <a:ext cx="704880" cy="70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1717560" y="2779560"/>
            <a:ext cx="177840" cy="176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3048120" y="4572000"/>
            <a:ext cx="527040" cy="507960"/>
          </a:xfrm>
          <a:prstGeom prst="ellips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4724280"/>
            <a:ext cx="527040" cy="507960"/>
          </a:xfrm>
          <a:prstGeom prst="ellips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"/>
          <p:cNvSpPr/>
          <p:nvPr/>
        </p:nvSpPr>
        <p:spPr>
          <a:xfrm>
            <a:off x="4952880" y="304920"/>
            <a:ext cx="4038840" cy="3733560"/>
          </a:xfrm>
          <a:prstGeom prst="wedgeEllipseCallout">
            <a:avLst>
              <a:gd name="adj1" fmla="val -71657"/>
              <a:gd name="adj2" fmla="val 79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ll, I must say! I’m impressed! So your leader lives within you?!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2438280" y="2514600"/>
            <a:ext cx="38124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584280" y="152280"/>
            <a:ext cx="4265640" cy="5486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 rot="19351800">
            <a:off x="1219320" y="2437920"/>
            <a:ext cx="140472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rot="1925400">
            <a:off x="3223800" y="2387520"/>
            <a:ext cx="140508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1397160" y="6248520"/>
            <a:ext cx="2639880" cy="2438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H="1">
            <a:off x="2616120" y="5232240"/>
            <a:ext cx="201600" cy="1422720"/>
          </a:xfrm>
          <a:prstGeom prst="line">
            <a:avLst/>
          </a:prstGeom>
          <a:ln w="16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6" name=""/>
          <p:cNvGrpSpPr/>
          <p:nvPr/>
        </p:nvGrpSpPr>
        <p:grpSpPr>
          <a:xfrm>
            <a:off x="380880" y="8280360"/>
            <a:ext cx="4670280" cy="3985920"/>
            <a:chOff x="380880" y="8280360"/>
            <a:chExt cx="4670280" cy="3985920"/>
          </a:xfrm>
        </p:grpSpPr>
        <p:grpSp>
          <p:nvGrpSpPr>
            <p:cNvPr id="1987" name=""/>
            <p:cNvGrpSpPr/>
            <p:nvPr/>
          </p:nvGrpSpPr>
          <p:grpSpPr>
            <a:xfrm>
              <a:off x="380880" y="10108800"/>
              <a:ext cx="4670280" cy="2157480"/>
              <a:chOff x="380880" y="10108800"/>
              <a:chExt cx="4670280" cy="2157480"/>
            </a:xfrm>
          </p:grpSpPr>
          <p:sp>
            <p:nvSpPr>
              <p:cNvPr id="1988" name=""/>
              <p:cNvSpPr/>
              <p:nvPr/>
            </p:nvSpPr>
            <p:spPr>
              <a:xfrm>
                <a:off x="2208600" y="111236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036320" y="105145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208600" y="1010880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80880" y="107179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427200" y="113270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3" name=""/>
            <p:cNvGrpSpPr/>
            <p:nvPr/>
          </p:nvGrpSpPr>
          <p:grpSpPr>
            <a:xfrm>
              <a:off x="782640" y="8280360"/>
              <a:ext cx="3832920" cy="3269160"/>
              <a:chOff x="782640" y="8280360"/>
              <a:chExt cx="3832920" cy="3269160"/>
            </a:xfrm>
          </p:grpSpPr>
          <p:sp>
            <p:nvSpPr>
              <p:cNvPr id="1994" name=""/>
              <p:cNvSpPr/>
              <p:nvPr/>
            </p:nvSpPr>
            <p:spPr>
              <a:xfrm>
                <a:off x="3418200" y="8338680"/>
                <a:ext cx="1197360" cy="2408400"/>
              </a:xfrm>
              <a:custGeom>
                <a:avLst/>
                <a:gdLst/>
                <a:ahLst/>
                <a:rect l="l" t="t" r="r" b="b"/>
                <a:pathLst>
                  <a:path w="283" h="569">
                    <a:moveTo>
                      <a:pt x="0" y="0"/>
                    </a:moveTo>
                    <a:cubicBezTo>
                      <a:pt x="46" y="70"/>
                      <a:pt x="59" y="71"/>
                      <a:pt x="128" y="119"/>
                    </a:cubicBezTo>
                    <a:cubicBezTo>
                      <a:pt x="146" y="132"/>
                      <a:pt x="183" y="155"/>
                      <a:pt x="183" y="155"/>
                    </a:cubicBezTo>
                    <a:cubicBezTo>
                      <a:pt x="233" y="231"/>
                      <a:pt x="209" y="216"/>
                      <a:pt x="237" y="301"/>
                    </a:cubicBezTo>
                    <a:cubicBezTo>
                      <a:pt x="248" y="383"/>
                      <a:pt x="245" y="466"/>
                      <a:pt x="256" y="548"/>
                    </a:cubicBezTo>
                    <a:cubicBezTo>
                      <a:pt x="259" y="569"/>
                      <a:pt x="271" y="567"/>
                      <a:pt x="283" y="567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5" name=""/>
              <p:cNvGrpSpPr/>
              <p:nvPr/>
            </p:nvGrpSpPr>
            <p:grpSpPr>
              <a:xfrm>
                <a:off x="782640" y="8280360"/>
                <a:ext cx="3277080" cy="3269160"/>
                <a:chOff x="782640" y="8280360"/>
                <a:chExt cx="3277080" cy="3269160"/>
              </a:xfrm>
            </p:grpSpPr>
            <p:sp>
              <p:nvSpPr>
                <p:cNvPr id="1996" name=""/>
                <p:cNvSpPr/>
                <p:nvPr/>
              </p:nvSpPr>
              <p:spPr>
                <a:xfrm>
                  <a:off x="782640" y="8491320"/>
                  <a:ext cx="1281240" cy="2246760"/>
                </a:xfrm>
                <a:custGeom>
                  <a:avLst/>
                  <a:gdLst/>
                  <a:ahLst/>
                  <a:rect l="l" t="t" r="r" b="b"/>
                  <a:pathLst>
                    <a:path w="303" h="531">
                      <a:moveTo>
                        <a:pt x="303" y="0"/>
                      </a:moveTo>
                      <a:cubicBezTo>
                        <a:pt x="294" y="12"/>
                        <a:pt x="247" y="89"/>
                        <a:pt x="220" y="101"/>
                      </a:cubicBezTo>
                      <a:cubicBezTo>
                        <a:pt x="160" y="127"/>
                        <a:pt x="84" y="133"/>
                        <a:pt x="19" y="147"/>
                      </a:cubicBezTo>
                      <a:cubicBezTo>
                        <a:pt x="0" y="205"/>
                        <a:pt x="13" y="263"/>
                        <a:pt x="47" y="311"/>
                      </a:cubicBezTo>
                      <a:cubicBezTo>
                        <a:pt x="61" y="370"/>
                        <a:pt x="67" y="380"/>
                        <a:pt x="56" y="448"/>
                      </a:cubicBezTo>
                      <a:cubicBezTo>
                        <a:pt x="51" y="481"/>
                        <a:pt x="33" y="500"/>
                        <a:pt x="47" y="531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004480" y="8280360"/>
                  <a:ext cx="1683360" cy="3045960"/>
                </a:xfrm>
                <a:custGeom>
                  <a:avLst/>
                  <a:gdLst/>
                  <a:ahLst/>
                  <a:rect l="l" t="t" r="r" b="b"/>
                  <a:pathLst>
                    <a:path w="481" h="384">
                      <a:moveTo>
                        <a:pt x="289" y="384"/>
                      </a:moveTo>
                      <a:cubicBezTo>
                        <a:pt x="333" y="369"/>
                        <a:pt x="426" y="357"/>
                        <a:pt x="426" y="357"/>
                      </a:cubicBezTo>
                      <a:cubicBezTo>
                        <a:pt x="462" y="332"/>
                        <a:pt x="470" y="327"/>
                        <a:pt x="481" y="284"/>
                      </a:cubicBezTo>
                      <a:cubicBezTo>
                        <a:pt x="475" y="258"/>
                        <a:pt x="473" y="187"/>
                        <a:pt x="444" y="174"/>
                      </a:cubicBezTo>
                      <a:cubicBezTo>
                        <a:pt x="402" y="155"/>
                        <a:pt x="353" y="162"/>
                        <a:pt x="307" y="156"/>
                      </a:cubicBezTo>
                      <a:cubicBezTo>
                        <a:pt x="222" y="145"/>
                        <a:pt x="136" y="139"/>
                        <a:pt x="51" y="128"/>
                      </a:cubicBezTo>
                      <a:cubicBezTo>
                        <a:pt x="0" y="94"/>
                        <a:pt x="15" y="67"/>
                        <a:pt x="60" y="37"/>
                      </a:cubicBezTo>
                      <a:cubicBezTo>
                        <a:pt x="124" y="40"/>
                        <a:pt x="188" y="41"/>
                        <a:pt x="252" y="46"/>
                      </a:cubicBezTo>
                      <a:cubicBezTo>
                        <a:pt x="262" y="47"/>
                        <a:pt x="273" y="62"/>
                        <a:pt x="280" y="55"/>
                      </a:cubicBezTo>
                      <a:cubicBezTo>
                        <a:pt x="294" y="41"/>
                        <a:pt x="298" y="0"/>
                        <a:pt x="298" y="0"/>
                      </a:cubicBezTo>
                      <a:cubicBezTo>
                        <a:pt x="304" y="9"/>
                        <a:pt x="316" y="28"/>
                        <a:pt x="316" y="28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2215440" y="8377200"/>
                  <a:ext cx="622440" cy="1857240"/>
                </a:xfrm>
                <a:custGeom>
                  <a:avLst/>
                  <a:gdLst/>
                  <a:ahLst/>
                  <a:rect l="l" t="t" r="r" b="b"/>
                  <a:pathLst>
                    <a:path w="147" h="439">
                      <a:moveTo>
                        <a:pt x="147" y="439"/>
                      </a:moveTo>
                      <a:cubicBezTo>
                        <a:pt x="104" y="425"/>
                        <a:pt x="61" y="416"/>
                        <a:pt x="19" y="402"/>
                      </a:cubicBezTo>
                      <a:cubicBezTo>
                        <a:pt x="0" y="350"/>
                        <a:pt x="7" y="327"/>
                        <a:pt x="55" y="311"/>
                      </a:cubicBezTo>
                      <a:cubicBezTo>
                        <a:pt x="72" y="284"/>
                        <a:pt x="92" y="264"/>
                        <a:pt x="110" y="238"/>
                      </a:cubicBezTo>
                      <a:cubicBezTo>
                        <a:pt x="128" y="164"/>
                        <a:pt x="124" y="198"/>
                        <a:pt x="110" y="73"/>
                      </a:cubicBezTo>
                      <a:cubicBezTo>
                        <a:pt x="107" y="48"/>
                        <a:pt x="92" y="25"/>
                        <a:pt x="92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2952000" y="8301240"/>
                  <a:ext cx="1107720" cy="3248280"/>
                </a:xfrm>
                <a:custGeom>
                  <a:avLst/>
                  <a:gdLst/>
                  <a:ahLst/>
                  <a:rect l="l" t="t" r="r" b="b"/>
                  <a:pathLst>
                    <a:path w="262" h="768">
                      <a:moveTo>
                        <a:pt x="201" y="768"/>
                      </a:moveTo>
                      <a:cubicBezTo>
                        <a:pt x="208" y="694"/>
                        <a:pt x="214" y="610"/>
                        <a:pt x="238" y="539"/>
                      </a:cubicBezTo>
                      <a:cubicBezTo>
                        <a:pt x="249" y="447"/>
                        <a:pt x="262" y="314"/>
                        <a:pt x="174" y="256"/>
                      </a:cubicBezTo>
                      <a:cubicBezTo>
                        <a:pt x="160" y="213"/>
                        <a:pt x="147" y="226"/>
                        <a:pt x="110" y="201"/>
                      </a:cubicBezTo>
                      <a:cubicBezTo>
                        <a:pt x="93" y="147"/>
                        <a:pt x="93" y="139"/>
                        <a:pt x="37" y="118"/>
                      </a:cubicBezTo>
                      <a:cubicBezTo>
                        <a:pt x="0" y="83"/>
                        <a:pt x="0" y="46"/>
                        <a:pt x="0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00" name=""/>
          <p:cNvSpPr/>
          <p:nvPr/>
        </p:nvSpPr>
        <p:spPr>
          <a:xfrm rot="16200000">
            <a:off x="2698920" y="4464000"/>
            <a:ext cx="622080" cy="144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6781680" y="293364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708660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769608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777240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71629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7162920" y="4610160"/>
            <a:ext cx="914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 rot="9534600">
            <a:off x="6933960" y="262872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 rot="11531400">
            <a:off x="7238520" y="262836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 rot="13149000">
            <a:off x="73911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rot="14453400">
            <a:off x="76197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7162920" y="53722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8580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77724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6400800" y="4457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8381880" y="49150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2362320" y="3733920"/>
            <a:ext cx="38088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1" name=""/>
          <p:cNvGrpSpPr/>
          <p:nvPr/>
        </p:nvGrpSpPr>
        <p:grpSpPr>
          <a:xfrm>
            <a:off x="789480" y="1828800"/>
            <a:ext cx="1824120" cy="4543560"/>
            <a:chOff x="789480" y="1828800"/>
            <a:chExt cx="1824120" cy="4543560"/>
          </a:xfrm>
        </p:grpSpPr>
        <p:grpSp>
          <p:nvGrpSpPr>
            <p:cNvPr id="2022" name=""/>
            <p:cNvGrpSpPr/>
            <p:nvPr/>
          </p:nvGrpSpPr>
          <p:grpSpPr>
            <a:xfrm>
              <a:off x="789480" y="1828800"/>
              <a:ext cx="1824120" cy="3200400"/>
              <a:chOff x="789480" y="1828800"/>
              <a:chExt cx="1824120" cy="3200400"/>
            </a:xfrm>
          </p:grpSpPr>
          <p:sp>
            <p:nvSpPr>
              <p:cNvPr id="2023" name=""/>
              <p:cNvSpPr/>
              <p:nvPr/>
            </p:nvSpPr>
            <p:spPr>
              <a:xfrm>
                <a:off x="914040" y="1828800"/>
                <a:ext cx="1600200" cy="2057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19351800">
                <a:off x="99000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rot="1925400">
                <a:off x="190404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218600" y="4114800"/>
                <a:ext cx="990720" cy="914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>
                <a:off x="1675800" y="3733560"/>
                <a:ext cx="76320" cy="533520"/>
              </a:xfrm>
              <a:prstGeom prst="line">
                <a:avLst/>
              </a:prstGeom>
              <a:ln w="1620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8" name=""/>
            <p:cNvGrpSpPr/>
            <p:nvPr/>
          </p:nvGrpSpPr>
          <p:grpSpPr>
            <a:xfrm>
              <a:off x="838080" y="4876920"/>
              <a:ext cx="1752480" cy="1495440"/>
              <a:chOff x="838080" y="4876920"/>
              <a:chExt cx="1752480" cy="1495440"/>
            </a:xfrm>
          </p:grpSpPr>
          <p:grpSp>
            <p:nvGrpSpPr>
              <p:cNvPr id="2029" name=""/>
              <p:cNvGrpSpPr/>
              <p:nvPr/>
            </p:nvGrpSpPr>
            <p:grpSpPr>
              <a:xfrm>
                <a:off x="838080" y="5562720"/>
                <a:ext cx="1752480" cy="809640"/>
                <a:chOff x="838080" y="5562720"/>
                <a:chExt cx="1752480" cy="809640"/>
              </a:xfrm>
            </p:grpSpPr>
            <p:sp>
              <p:nvSpPr>
                <p:cNvPr id="2030" name=""/>
                <p:cNvSpPr/>
                <p:nvPr/>
              </p:nvSpPr>
              <p:spPr>
                <a:xfrm>
                  <a:off x="1523880" y="59436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2209680" y="57150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523880" y="55627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838080" y="57913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981080" y="60199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5" name=""/>
              <p:cNvGrpSpPr/>
              <p:nvPr/>
            </p:nvGrpSpPr>
            <p:grpSpPr>
              <a:xfrm>
                <a:off x="988920" y="4876920"/>
                <a:ext cx="1438200" cy="1226880"/>
                <a:chOff x="988920" y="4876920"/>
                <a:chExt cx="1438200" cy="1226880"/>
              </a:xfrm>
            </p:grpSpPr>
            <p:sp>
              <p:nvSpPr>
                <p:cNvPr id="2036" name=""/>
                <p:cNvSpPr/>
                <p:nvPr/>
              </p:nvSpPr>
              <p:spPr>
                <a:xfrm>
                  <a:off x="1977840" y="4898880"/>
                  <a:ext cx="449280" cy="903600"/>
                </a:xfrm>
                <a:custGeom>
                  <a:avLst/>
                  <a:gdLst/>
                  <a:ahLst/>
                  <a:rect l="l" t="t" r="r" b="b"/>
                  <a:pathLst>
                    <a:path w="283" h="569">
                      <a:moveTo>
                        <a:pt x="0" y="0"/>
                      </a:moveTo>
                      <a:cubicBezTo>
                        <a:pt x="46" y="70"/>
                        <a:pt x="59" y="71"/>
                        <a:pt x="128" y="119"/>
                      </a:cubicBezTo>
                      <a:cubicBezTo>
                        <a:pt x="146" y="132"/>
                        <a:pt x="183" y="155"/>
                        <a:pt x="183" y="155"/>
                      </a:cubicBezTo>
                      <a:cubicBezTo>
                        <a:pt x="233" y="231"/>
                        <a:pt x="209" y="216"/>
                        <a:pt x="237" y="301"/>
                      </a:cubicBezTo>
                      <a:cubicBezTo>
                        <a:pt x="248" y="383"/>
                        <a:pt x="245" y="466"/>
                        <a:pt x="256" y="548"/>
                      </a:cubicBezTo>
                      <a:cubicBezTo>
                        <a:pt x="259" y="569"/>
                        <a:pt x="271" y="567"/>
                        <a:pt x="283" y="567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7" name=""/>
                <p:cNvGrpSpPr/>
                <p:nvPr/>
              </p:nvGrpSpPr>
              <p:grpSpPr>
                <a:xfrm>
                  <a:off x="988920" y="4876920"/>
                  <a:ext cx="1230120" cy="1226880"/>
                  <a:chOff x="988920" y="4876920"/>
                  <a:chExt cx="1230120" cy="1226880"/>
                </a:xfrm>
              </p:grpSpPr>
              <p:sp>
                <p:nvSpPr>
                  <p:cNvPr id="2038" name=""/>
                  <p:cNvSpPr/>
                  <p:nvPr/>
                </p:nvSpPr>
                <p:spPr>
                  <a:xfrm>
                    <a:off x="988920" y="4956120"/>
                    <a:ext cx="480960" cy="84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531">
                        <a:moveTo>
                          <a:pt x="303" y="0"/>
                        </a:moveTo>
                        <a:cubicBezTo>
                          <a:pt x="294" y="12"/>
                          <a:pt x="247" y="89"/>
                          <a:pt x="220" y="101"/>
                        </a:cubicBezTo>
                        <a:cubicBezTo>
                          <a:pt x="160" y="127"/>
                          <a:pt x="84" y="133"/>
                          <a:pt x="19" y="147"/>
                        </a:cubicBezTo>
                        <a:cubicBezTo>
                          <a:pt x="0" y="205"/>
                          <a:pt x="13" y="263"/>
                          <a:pt x="47" y="311"/>
                        </a:cubicBezTo>
                        <a:cubicBezTo>
                          <a:pt x="61" y="370"/>
                          <a:pt x="67" y="380"/>
                          <a:pt x="56" y="448"/>
                        </a:cubicBezTo>
                        <a:cubicBezTo>
                          <a:pt x="51" y="481"/>
                          <a:pt x="33" y="500"/>
                          <a:pt x="47" y="531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1447560" y="4876920"/>
                    <a:ext cx="631800" cy="11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384">
                        <a:moveTo>
                          <a:pt x="289" y="384"/>
                        </a:moveTo>
                        <a:cubicBezTo>
                          <a:pt x="333" y="369"/>
                          <a:pt x="426" y="357"/>
                          <a:pt x="426" y="357"/>
                        </a:cubicBezTo>
                        <a:cubicBezTo>
                          <a:pt x="462" y="332"/>
                          <a:pt x="470" y="327"/>
                          <a:pt x="481" y="284"/>
                        </a:cubicBezTo>
                        <a:cubicBezTo>
                          <a:pt x="475" y="258"/>
                          <a:pt x="473" y="187"/>
                          <a:pt x="444" y="174"/>
                        </a:cubicBezTo>
                        <a:cubicBezTo>
                          <a:pt x="402" y="155"/>
                          <a:pt x="353" y="162"/>
                          <a:pt x="307" y="156"/>
                        </a:cubicBezTo>
                        <a:cubicBezTo>
                          <a:pt x="222" y="145"/>
                          <a:pt x="136" y="139"/>
                          <a:pt x="51" y="128"/>
                        </a:cubicBezTo>
                        <a:cubicBezTo>
                          <a:pt x="0" y="94"/>
                          <a:pt x="15" y="67"/>
                          <a:pt x="60" y="37"/>
                        </a:cubicBezTo>
                        <a:cubicBezTo>
                          <a:pt x="124" y="40"/>
                          <a:pt x="188" y="41"/>
                          <a:pt x="252" y="46"/>
                        </a:cubicBezTo>
                        <a:cubicBezTo>
                          <a:pt x="262" y="47"/>
                          <a:pt x="273" y="62"/>
                          <a:pt x="280" y="55"/>
                        </a:cubicBezTo>
                        <a:cubicBezTo>
                          <a:pt x="294" y="41"/>
                          <a:pt x="298" y="0"/>
                          <a:pt x="298" y="0"/>
                        </a:cubicBezTo>
                        <a:cubicBezTo>
                          <a:pt x="304" y="9"/>
                          <a:pt x="316" y="28"/>
                          <a:pt x="316" y="2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1526760" y="4913280"/>
                    <a:ext cx="233640" cy="69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439">
                        <a:moveTo>
                          <a:pt x="147" y="439"/>
                        </a:moveTo>
                        <a:cubicBezTo>
                          <a:pt x="104" y="425"/>
                          <a:pt x="61" y="416"/>
                          <a:pt x="19" y="402"/>
                        </a:cubicBezTo>
                        <a:cubicBezTo>
                          <a:pt x="0" y="350"/>
                          <a:pt x="7" y="327"/>
                          <a:pt x="55" y="311"/>
                        </a:cubicBezTo>
                        <a:cubicBezTo>
                          <a:pt x="72" y="284"/>
                          <a:pt x="92" y="264"/>
                          <a:pt x="110" y="238"/>
                        </a:cubicBezTo>
                        <a:cubicBezTo>
                          <a:pt x="128" y="164"/>
                          <a:pt x="124" y="198"/>
                          <a:pt x="110" y="73"/>
                        </a:cubicBezTo>
                        <a:cubicBezTo>
                          <a:pt x="107" y="48"/>
                          <a:pt x="92" y="25"/>
                          <a:pt x="92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1803240" y="4884840"/>
                    <a:ext cx="415800" cy="12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768">
                        <a:moveTo>
                          <a:pt x="201" y="768"/>
                        </a:moveTo>
                        <a:cubicBezTo>
                          <a:pt x="208" y="694"/>
                          <a:pt x="214" y="610"/>
                          <a:pt x="238" y="539"/>
                        </a:cubicBezTo>
                        <a:cubicBezTo>
                          <a:pt x="249" y="447"/>
                          <a:pt x="262" y="314"/>
                          <a:pt x="174" y="256"/>
                        </a:cubicBezTo>
                        <a:cubicBezTo>
                          <a:pt x="160" y="213"/>
                          <a:pt x="147" y="226"/>
                          <a:pt x="110" y="201"/>
                        </a:cubicBezTo>
                        <a:cubicBezTo>
                          <a:pt x="93" y="147"/>
                          <a:pt x="93" y="139"/>
                          <a:pt x="37" y="118"/>
                        </a:cubicBezTo>
                        <a:cubicBezTo>
                          <a:pt x="0" y="83"/>
                          <a:pt x="0" y="46"/>
                          <a:pt x="0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042" name=""/>
          <p:cNvSpPr/>
          <p:nvPr/>
        </p:nvSpPr>
        <p:spPr>
          <a:xfrm rot="16200000">
            <a:off x="1615320" y="3337560"/>
            <a:ext cx="32832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3" name=""/>
          <p:cNvGrpSpPr/>
          <p:nvPr/>
        </p:nvGrpSpPr>
        <p:grpSpPr>
          <a:xfrm>
            <a:off x="685800" y="4010040"/>
            <a:ext cx="1846080" cy="838080"/>
            <a:chOff x="685800" y="4010040"/>
            <a:chExt cx="1846080" cy="838080"/>
          </a:xfrm>
        </p:grpSpPr>
        <p:sp>
          <p:nvSpPr>
            <p:cNvPr id="2044" name=""/>
            <p:cNvSpPr/>
            <p:nvPr/>
          </p:nvSpPr>
          <p:spPr>
            <a:xfrm>
              <a:off x="685800" y="4495680"/>
              <a:ext cx="380880" cy="3524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068560" y="4010040"/>
              <a:ext cx="46332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0" y="283"/>
                  </a:moveTo>
                  <a:cubicBezTo>
                    <a:pt x="62" y="292"/>
                    <a:pt x="87" y="286"/>
                    <a:pt x="146" y="274"/>
                  </a:cubicBezTo>
                  <a:cubicBezTo>
                    <a:pt x="175" y="255"/>
                    <a:pt x="217" y="229"/>
                    <a:pt x="238" y="201"/>
                  </a:cubicBezTo>
                  <a:cubicBezTo>
                    <a:pt x="251" y="183"/>
                    <a:pt x="274" y="146"/>
                    <a:pt x="274" y="146"/>
                  </a:cubicBezTo>
                  <a:cubicBezTo>
                    <a:pt x="292" y="74"/>
                    <a:pt x="283" y="122"/>
                    <a:pt x="283" y="0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892080" y="4300560"/>
              <a:ext cx="493560" cy="288720"/>
            </a:xfrm>
            <a:custGeom>
              <a:avLst/>
              <a:gdLst/>
              <a:ahLst/>
              <a:rect l="l" t="t" r="r" b="b"/>
              <a:pathLst>
                <a:path w="311" h="182">
                  <a:moveTo>
                    <a:pt x="311" y="27"/>
                  </a:moveTo>
                  <a:cubicBezTo>
                    <a:pt x="261" y="10"/>
                    <a:pt x="208" y="8"/>
                    <a:pt x="156" y="0"/>
                  </a:cubicBezTo>
                  <a:cubicBezTo>
                    <a:pt x="109" y="8"/>
                    <a:pt x="84" y="10"/>
                    <a:pt x="46" y="36"/>
                  </a:cubicBezTo>
                  <a:cubicBezTo>
                    <a:pt x="17" y="81"/>
                    <a:pt x="0" y="129"/>
                    <a:pt x="0" y="182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7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19112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419112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434340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556272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88620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4100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42670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457200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312408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 rot="21314400">
            <a:off x="601956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4952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525780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0" y="304920"/>
            <a:ext cx="3276720" cy="5181480"/>
          </a:xfrm>
          <a:prstGeom prst="wedgeEllipseCallout">
            <a:avLst>
              <a:gd name="adj1" fmla="val 74513"/>
              <a:gd name="adj2" fmla="val 8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rta.  I mean, we still get to be the cool lookin’ dudes God first made us to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 rot="16200000">
            <a:off x="7391160" y="3809880"/>
            <a:ext cx="45720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438" y="1305"/>
                  <a:pt x="7275" y="5080"/>
                  <a:pt x="7275" y="10800"/>
                </a:cubicBezTo>
                <a:cubicBezTo>
                  <a:pt x="7275" y="16520"/>
                  <a:pt x="14438" y="2029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rot="16200000">
            <a:off x="4647960" y="2666880"/>
            <a:ext cx="45720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338" y="1628"/>
                  <a:pt x="9075" y="5080"/>
                  <a:pt x="9075" y="10800"/>
                </a:cubicBezTo>
                <a:cubicBezTo>
                  <a:pt x="9075" y="16520"/>
                  <a:pt x="15338" y="1997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105520" y="990720"/>
            <a:ext cx="2438280" cy="990360"/>
          </a:xfrm>
          <a:prstGeom prst="wedgeEllipseCallout">
            <a:avLst>
              <a:gd name="adj1" fmla="val 20444"/>
              <a:gd name="adj2" fmla="val 1597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3886200" y="2438280"/>
            <a:ext cx="2057400" cy="533520"/>
            <a:chOff x="3886200" y="2438280"/>
            <a:chExt cx="2057400" cy="533520"/>
          </a:xfrm>
        </p:grpSpPr>
        <p:sp>
          <p:nvSpPr>
            <p:cNvPr id="2068" name=""/>
            <p:cNvSpPr/>
            <p:nvPr/>
          </p:nvSpPr>
          <p:spPr>
            <a:xfrm>
              <a:off x="4952880" y="2438280"/>
              <a:ext cx="533520" cy="533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9" name=""/>
            <p:cNvGrpSpPr/>
            <p:nvPr/>
          </p:nvGrpSpPr>
          <p:grpSpPr>
            <a:xfrm>
              <a:off x="3886200" y="2438280"/>
              <a:ext cx="2057400" cy="533520"/>
              <a:chOff x="3886200" y="2438280"/>
              <a:chExt cx="2057400" cy="533520"/>
            </a:xfrm>
          </p:grpSpPr>
          <p:sp>
            <p:nvSpPr>
              <p:cNvPr id="2070" name=""/>
              <p:cNvSpPr/>
              <p:nvPr/>
            </p:nvSpPr>
            <p:spPr>
              <a:xfrm>
                <a:off x="4267080" y="2438280"/>
                <a:ext cx="533520" cy="53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 flipV="1">
                <a:off x="3886200" y="2590560"/>
                <a:ext cx="45720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V="1">
                <a:off x="5410080" y="2590560"/>
                <a:ext cx="5335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3" name=""/>
            <p:cNvSpPr/>
            <p:nvPr/>
          </p:nvSpPr>
          <p:spPr>
            <a:xfrm>
              <a:off x="4800600" y="2666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6705720" y="3657240"/>
            <a:ext cx="1828800" cy="533880"/>
            <a:chOff x="6705720" y="3657240"/>
            <a:chExt cx="1828800" cy="533880"/>
          </a:xfrm>
        </p:grpSpPr>
        <p:grpSp>
          <p:nvGrpSpPr>
            <p:cNvPr id="2075" name=""/>
            <p:cNvGrpSpPr/>
            <p:nvPr/>
          </p:nvGrpSpPr>
          <p:grpSpPr>
            <a:xfrm>
              <a:off x="6705720" y="3657600"/>
              <a:ext cx="1523880" cy="533520"/>
              <a:chOff x="6705720" y="3657600"/>
              <a:chExt cx="1523880" cy="533520"/>
            </a:xfrm>
          </p:grpSpPr>
          <p:grpSp>
            <p:nvGrpSpPr>
              <p:cNvPr id="2076" name=""/>
              <p:cNvGrpSpPr/>
              <p:nvPr/>
            </p:nvGrpSpPr>
            <p:grpSpPr>
              <a:xfrm>
                <a:off x="7086600" y="3657600"/>
                <a:ext cx="1143000" cy="533520"/>
                <a:chOff x="7086600" y="3657600"/>
                <a:chExt cx="1143000" cy="533520"/>
              </a:xfrm>
            </p:grpSpPr>
            <p:grpSp>
              <p:nvGrpSpPr>
                <p:cNvPr id="2077" name=""/>
                <p:cNvGrpSpPr/>
                <p:nvPr/>
              </p:nvGrpSpPr>
              <p:grpSpPr>
                <a:xfrm>
                  <a:off x="7086600" y="3657600"/>
                  <a:ext cx="1143000" cy="533520"/>
                  <a:chOff x="7086600" y="3657600"/>
                  <a:chExt cx="1143000" cy="533520"/>
                </a:xfrm>
              </p:grpSpPr>
              <p:sp>
                <p:nvSpPr>
                  <p:cNvPr id="2078" name=""/>
                  <p:cNvSpPr/>
                  <p:nvPr/>
                </p:nvSpPr>
                <p:spPr>
                  <a:xfrm>
                    <a:off x="7086600" y="3657600"/>
                    <a:ext cx="533520" cy="533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>
                    <a:off x="7696440" y="3657600"/>
                    <a:ext cx="533160" cy="533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80" name=""/>
                <p:cNvSpPr/>
                <p:nvPr/>
              </p:nvSpPr>
              <p:spPr>
                <a:xfrm>
                  <a:off x="7543800" y="38862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1" name=""/>
              <p:cNvSpPr/>
              <p:nvPr/>
            </p:nvSpPr>
            <p:spPr>
              <a:xfrm flipH="1" flipV="1">
                <a:off x="6705720" y="3733560"/>
                <a:ext cx="4572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2" name=""/>
            <p:cNvSpPr/>
            <p:nvPr/>
          </p:nvSpPr>
          <p:spPr>
            <a:xfrm flipV="1">
              <a:off x="8229600" y="3657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0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"/>
          <p:cNvSpPr/>
          <p:nvPr/>
        </p:nvSpPr>
        <p:spPr>
          <a:xfrm>
            <a:off x="518148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858000" y="2819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6934320" y="3276720"/>
            <a:ext cx="30456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rot="16200000">
            <a:off x="6515280" y="4076640"/>
            <a:ext cx="38088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72" y="3076"/>
                  <a:pt x="17144" y="5080"/>
                  <a:pt x="17144" y="10800"/>
                </a:cubicBezTo>
                <a:cubicBezTo>
                  <a:pt x="17144" y="16520"/>
                  <a:pt x="19372" y="185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5334120" y="2819520"/>
            <a:ext cx="121896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5486400" y="3276720"/>
            <a:ext cx="30492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5486400" y="5181480"/>
            <a:ext cx="3048120" cy="167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7086600" y="1599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 flipV="1">
            <a:off x="7162920" y="1219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80880" y="2090880"/>
            <a:ext cx="304920" cy="271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8153280" y="5335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1752480" y="3049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90720" y="-1699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5181480" y="-1699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8858160" y="1905120"/>
            <a:ext cx="571680" cy="50796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-343080" y="3733920"/>
            <a:ext cx="68616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8915400" y="297180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2209680" y="1295280"/>
            <a:ext cx="38124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3048120" y="91440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8763120" y="22860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609480" y="304812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4724280" y="5335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581280" y="22860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6324480" y="38088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4572000" y="17524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8763120" y="39625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7696080" y="22860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-190440" y="12952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2057400" y="6094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80880" y="3049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7010280" y="-152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5562720" y="685800"/>
            <a:ext cx="609480" cy="609480"/>
          </a:xfrm>
          <a:custGeom>
            <a:avLst/>
            <a:gdLst>
              <a:gd name="textAreaLeft" fmla="*/ 183240 w 609480"/>
              <a:gd name="textAreaRight" fmla="*/ 426240 w 609480"/>
              <a:gd name="textAreaTop" fmla="*/ 183240 h 609480"/>
              <a:gd name="textAreaBottom" fmla="*/ 426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153" y="13081"/>
                </a:lnTo>
                <a:lnTo>
                  <a:pt x="3163" y="18437"/>
                </a:lnTo>
                <a:lnTo>
                  <a:pt x="8420" y="16406"/>
                </a:lnTo>
                <a:lnTo>
                  <a:pt x="10800" y="21600"/>
                </a:lnTo>
                <a:lnTo>
                  <a:pt x="13081" y="16447"/>
                </a:lnTo>
                <a:lnTo>
                  <a:pt x="18437" y="18437"/>
                </a:lnTo>
                <a:lnTo>
                  <a:pt x="16406" y="13180"/>
                </a:lnTo>
                <a:lnTo>
                  <a:pt x="21600" y="10800"/>
                </a:lnTo>
                <a:lnTo>
                  <a:pt x="16447" y="8519"/>
                </a:lnTo>
                <a:lnTo>
                  <a:pt x="18437" y="3163"/>
                </a:lnTo>
                <a:lnTo>
                  <a:pt x="13180" y="5194"/>
                </a:lnTo>
                <a:lnTo>
                  <a:pt x="10800" y="0"/>
                </a:lnTo>
                <a:lnTo>
                  <a:pt x="8519" y="5153"/>
                </a:lnTo>
                <a:lnTo>
                  <a:pt x="3163" y="3163"/>
                </a:lnTo>
                <a:lnTo>
                  <a:pt x="5194" y="842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609480" y="685800"/>
            <a:ext cx="609840" cy="609480"/>
          </a:xfrm>
          <a:custGeom>
            <a:avLst/>
            <a:gdLst>
              <a:gd name="textAreaLeft" fmla="*/ 212040 w 609840"/>
              <a:gd name="textAreaRight" fmla="*/ 397800 w 609840"/>
              <a:gd name="textAreaTop" fmla="*/ 212040 h 609480"/>
              <a:gd name="textAreaBottom" fmla="*/ 3974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9" y="12542"/>
                </a:lnTo>
                <a:lnTo>
                  <a:pt x="3163" y="18437"/>
                </a:lnTo>
                <a:lnTo>
                  <a:pt x="8983" y="15080"/>
                </a:lnTo>
                <a:lnTo>
                  <a:pt x="10800" y="21600"/>
                </a:lnTo>
                <a:lnTo>
                  <a:pt x="12542" y="15111"/>
                </a:lnTo>
                <a:lnTo>
                  <a:pt x="18437" y="18437"/>
                </a:lnTo>
                <a:lnTo>
                  <a:pt x="15080" y="12617"/>
                </a:lnTo>
                <a:lnTo>
                  <a:pt x="21600" y="10800"/>
                </a:lnTo>
                <a:lnTo>
                  <a:pt x="15111" y="9058"/>
                </a:lnTo>
                <a:lnTo>
                  <a:pt x="18437" y="3163"/>
                </a:lnTo>
                <a:lnTo>
                  <a:pt x="12617" y="6520"/>
                </a:lnTo>
                <a:lnTo>
                  <a:pt x="10800" y="0"/>
                </a:lnTo>
                <a:lnTo>
                  <a:pt x="9058" y="6489"/>
                </a:lnTo>
                <a:lnTo>
                  <a:pt x="3163" y="3163"/>
                </a:lnTo>
                <a:lnTo>
                  <a:pt x="6520" y="898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228600" y="304920"/>
            <a:ext cx="4648320" cy="6248160"/>
          </a:xfrm>
          <a:prstGeom prst="wedgeEllipseCallout">
            <a:avLst>
              <a:gd name="adj1" fmla="val 69296"/>
              <a:gd name="adj2" fmla="val 20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we are all designed with unique interests, strengths and abilities so that God’s amazing grace can shine for all the world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6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7" dur="250" autoRev="1" fill="hold"/>
                                        <p:tgtEl>
                                          <p:spTgt spid="20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8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9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0" dur="250" autoRev="1" fill="hold"/>
                                        <p:tgtEl>
                                          <p:spTgt spid="20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2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3" dur="250" autoRev="1" fill="hold"/>
                                        <p:tgtEl>
                                          <p:spTgt spid="20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6" dur="250" autoRev="1" fill="hold"/>
                                        <p:tgtEl>
                                          <p:spTgt spid="20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7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8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9" dur="250" autoRev="1" fill="hold"/>
                                        <p:tgtEl>
                                          <p:spTgt spid="20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0" nodeType="withEffect" fill="hold" presetClass="emph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1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2" dur="250" autoRev="1" fill="hold"/>
                                        <p:tgtEl>
                                          <p:spTgt spid="20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4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5" dur="250" autoRev="1" fill="hold"/>
                                        <p:tgtEl>
                                          <p:spTgt spid="20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7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8" dur="250" autoRev="1" fill="hold"/>
                                        <p:tgtEl>
                                          <p:spTgt spid="2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0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1" dur="250" autoRev="1" fill="hold"/>
                                        <p:tgtEl>
                                          <p:spTgt spid="2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2" nodeType="withEffect" fill="hold" presetClass="emph" presetID="26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4" dur="250" autoRev="1" fill="hold"/>
                                        <p:tgtEl>
                                          <p:spTgt spid="2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5" nodeType="withEffect" fill="hold" presetClass="emph" presetID="26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6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7" dur="250" autoRev="1" fill="hold"/>
                                        <p:tgtEl>
                                          <p:spTgt spid="2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0" dur="250" autoRev="1" fill="hold"/>
                                        <p:tgtEl>
                                          <p:spTgt spid="2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2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3" dur="250" autoRev="1" fill="hold"/>
                                        <p:tgtEl>
                                          <p:spTgt spid="2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4" nodeType="withEffect" fill="hold" presetClass="emph" presetID="26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5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6" dur="250" autoRev="1" fill="hold"/>
                                        <p:tgtEl>
                                          <p:spTgt spid="2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26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5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9" dur="250" autoRev="1" fill="hold"/>
                                        <p:tgtEl>
                                          <p:spTgt spid="2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1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2" dur="250" autoRev="1" fill="hold"/>
                                        <p:tgtEl>
                                          <p:spTgt spid="2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4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5" dur="250" autoRev="1" fill="hold"/>
                                        <p:tgtEl>
                                          <p:spTgt spid="2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6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7" dur="5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8" dur="250" autoRev="1" fill="hold"/>
                                        <p:tgtEl>
                                          <p:spTgt spid="2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9" nodeType="with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0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1" dur="250" autoRev="1" fill="hold"/>
                                        <p:tgtEl>
                                          <p:spTgt spid="2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mph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4" dur="250" autoRev="1" fill="hold"/>
                                        <p:tgtEl>
                                          <p:spTgt spid="2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5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6" dur="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7" dur="250" autoRev="1" fill="hold"/>
                                        <p:tgtEl>
                                          <p:spTgt spid="2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8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9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0" dur="250" autoRev="1" fill="hold"/>
                                        <p:tgtEl>
                                          <p:spTgt spid="2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2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3" dur="250" autoRev="1" fill="hold"/>
                                        <p:tgtEl>
                                          <p:spTgt spid="2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4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5" dur="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6" dur="250" autoRev="1" fill="hold"/>
                                        <p:tgtEl>
                                          <p:spTgt spid="2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990720" y="1905120"/>
            <a:ext cx="3504960" cy="2971800"/>
          </a:xfrm>
          <a:prstGeom prst="wedgeEllipseCallout">
            <a:avLst>
              <a:gd name="adj1" fmla="val 76134"/>
              <a:gd name="adj2" fmla="val 41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 in your case, all the universe, to s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380880" y="2090880"/>
            <a:ext cx="304920" cy="271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8153280" y="5335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752480" y="3049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990720" y="-1699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181480" y="-1699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8858160" y="1905120"/>
            <a:ext cx="571680" cy="50796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-343080" y="3733920"/>
            <a:ext cx="68616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8915400" y="297180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2209680" y="1295280"/>
            <a:ext cx="38124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048120" y="91440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8763120" y="22860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304812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4724280" y="5335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3581280" y="22860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6324480" y="38088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4572000" y="17524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8763120" y="39625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7696080" y="22860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-190440" y="12952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2057400" y="6094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80880" y="3049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7010280" y="-152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5562720" y="685800"/>
            <a:ext cx="609480" cy="609480"/>
          </a:xfrm>
          <a:custGeom>
            <a:avLst/>
            <a:gdLst>
              <a:gd name="textAreaLeft" fmla="*/ 183240 w 609480"/>
              <a:gd name="textAreaRight" fmla="*/ 426240 w 609480"/>
              <a:gd name="textAreaTop" fmla="*/ 183240 h 609480"/>
              <a:gd name="textAreaBottom" fmla="*/ 426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153" y="13081"/>
                </a:lnTo>
                <a:lnTo>
                  <a:pt x="3163" y="18437"/>
                </a:lnTo>
                <a:lnTo>
                  <a:pt x="8420" y="16406"/>
                </a:lnTo>
                <a:lnTo>
                  <a:pt x="10800" y="21600"/>
                </a:lnTo>
                <a:lnTo>
                  <a:pt x="13081" y="16447"/>
                </a:lnTo>
                <a:lnTo>
                  <a:pt x="18437" y="18437"/>
                </a:lnTo>
                <a:lnTo>
                  <a:pt x="16406" y="13180"/>
                </a:lnTo>
                <a:lnTo>
                  <a:pt x="21600" y="10800"/>
                </a:lnTo>
                <a:lnTo>
                  <a:pt x="16447" y="8519"/>
                </a:lnTo>
                <a:lnTo>
                  <a:pt x="18437" y="3163"/>
                </a:lnTo>
                <a:lnTo>
                  <a:pt x="13180" y="5194"/>
                </a:lnTo>
                <a:lnTo>
                  <a:pt x="10800" y="0"/>
                </a:lnTo>
                <a:lnTo>
                  <a:pt x="8519" y="5153"/>
                </a:lnTo>
                <a:lnTo>
                  <a:pt x="3163" y="3163"/>
                </a:lnTo>
                <a:lnTo>
                  <a:pt x="5194" y="842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609480" y="685800"/>
            <a:ext cx="609840" cy="609480"/>
          </a:xfrm>
          <a:custGeom>
            <a:avLst/>
            <a:gdLst>
              <a:gd name="textAreaLeft" fmla="*/ 212040 w 609840"/>
              <a:gd name="textAreaRight" fmla="*/ 397800 w 609840"/>
              <a:gd name="textAreaTop" fmla="*/ 212040 h 609480"/>
              <a:gd name="textAreaBottom" fmla="*/ 3974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89" y="12542"/>
                </a:lnTo>
                <a:lnTo>
                  <a:pt x="3163" y="18437"/>
                </a:lnTo>
                <a:lnTo>
                  <a:pt x="8983" y="15080"/>
                </a:lnTo>
                <a:lnTo>
                  <a:pt x="10800" y="21600"/>
                </a:lnTo>
                <a:lnTo>
                  <a:pt x="12542" y="15111"/>
                </a:lnTo>
                <a:lnTo>
                  <a:pt x="18437" y="18437"/>
                </a:lnTo>
                <a:lnTo>
                  <a:pt x="15080" y="12617"/>
                </a:lnTo>
                <a:lnTo>
                  <a:pt x="21600" y="10800"/>
                </a:lnTo>
                <a:lnTo>
                  <a:pt x="15111" y="9058"/>
                </a:lnTo>
                <a:lnTo>
                  <a:pt x="18437" y="3163"/>
                </a:lnTo>
                <a:lnTo>
                  <a:pt x="12617" y="6520"/>
                </a:lnTo>
                <a:lnTo>
                  <a:pt x="10800" y="0"/>
                </a:lnTo>
                <a:lnTo>
                  <a:pt x="9058" y="6489"/>
                </a:lnTo>
                <a:lnTo>
                  <a:pt x="3163" y="3163"/>
                </a:lnTo>
                <a:lnTo>
                  <a:pt x="6520" y="898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6477120" y="3352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 rot="16200000">
            <a:off x="6514920" y="42285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51814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7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8" dur="250" autoRev="1" fill="hold"/>
                                        <p:tgtEl>
                                          <p:spTgt spid="2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89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0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1" dur="250" autoRev="1" fill="hold"/>
                                        <p:tgtEl>
                                          <p:spTgt spid="2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3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4" dur="250" autoRev="1" fill="hold"/>
                                        <p:tgtEl>
                                          <p:spTgt spid="2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5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6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7" dur="250" autoRev="1" fill="hold"/>
                                        <p:tgtEl>
                                          <p:spTgt spid="2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9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250" autoRev="1" fill="hold"/>
                                        <p:tgtEl>
                                          <p:spTgt spid="2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1" nodeType="withEffect" fill="hold" presetClass="emph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2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3" dur="250" autoRev="1" fill="hold"/>
                                        <p:tgtEl>
                                          <p:spTgt spid="2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4" nodeType="with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5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6" dur="250" autoRev="1" fill="hold"/>
                                        <p:tgtEl>
                                          <p:spTgt spid="2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7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8" dur="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9" dur="250" autoRev="1" fill="hold"/>
                                        <p:tgtEl>
                                          <p:spTgt spid="2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0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2" dur="250" autoRev="1" fill="hold"/>
                                        <p:tgtEl>
                                          <p:spTgt spid="2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3" nodeType="withEffect" fill="hold" presetClass="emph" presetID="26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5" dur="250" autoRev="1" fill="hold"/>
                                        <p:tgtEl>
                                          <p:spTgt spid="2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6" nodeType="withEffect" fill="hold" presetClass="emph" presetID="26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7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8" dur="250" autoRev="1" fill="hold"/>
                                        <p:tgtEl>
                                          <p:spTgt spid="2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0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1" dur="250" autoRev="1" fill="hold"/>
                                        <p:tgtEl>
                                          <p:spTgt spid="2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3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4" dur="250" autoRev="1" fill="hold"/>
                                        <p:tgtEl>
                                          <p:spTgt spid="2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5" nodeType="withEffect" fill="hold" presetClass="emph" presetID="26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6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7" dur="250" autoRev="1" fill="hold"/>
                                        <p:tgtEl>
                                          <p:spTgt spid="2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mph" presetID="26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9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0" dur="250" autoRev="1" fill="hold"/>
                                        <p:tgtEl>
                                          <p:spTgt spid="2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1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2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3" dur="250" autoRev="1" fill="hold"/>
                                        <p:tgtEl>
                                          <p:spTgt spid="2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5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6" dur="250" autoRev="1" fill="hold"/>
                                        <p:tgtEl>
                                          <p:spTgt spid="2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7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9" dur="250" autoRev="1" fill="hold"/>
                                        <p:tgtEl>
                                          <p:spTgt spid="2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2" dur="250" autoRev="1" fill="hold"/>
                                        <p:tgtEl>
                                          <p:spTgt spid="2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43" nodeType="withEffect" fill="hold" presetClass="emph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4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5" dur="250" autoRev="1" fill="hold"/>
                                        <p:tgtEl>
                                          <p:spTgt spid="2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7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8" dur="250" autoRev="1" fill="hold"/>
                                        <p:tgtEl>
                                          <p:spTgt spid="2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49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0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1" dur="250" autoRev="1" fill="hold"/>
                                        <p:tgtEl>
                                          <p:spTgt spid="2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3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4" dur="250" autoRev="1" fill="hold"/>
                                        <p:tgtEl>
                                          <p:spTgt spid="2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5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6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7" dur="250" autoRev="1" fill="hold"/>
                                        <p:tgtEl>
                                          <p:spTgt spid="2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"/>
          <p:cNvSpPr/>
          <p:nvPr/>
        </p:nvSpPr>
        <p:spPr>
          <a:xfrm>
            <a:off x="4952880" y="152280"/>
            <a:ext cx="4038840" cy="6629400"/>
          </a:xfrm>
          <a:prstGeom prst="wedgeEllipseCallout">
            <a:avLst>
              <a:gd name="adj1" fmla="val -71657"/>
              <a:gd name="adj2" fmla="val 23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your God Almighty gifts you all with abilities and desires to share evidence of God’s presence and activity in the univer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2438280" y="2514600"/>
            <a:ext cx="38124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584280" y="152280"/>
            <a:ext cx="4265640" cy="5486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 rot="19351800">
            <a:off x="1219320" y="2437920"/>
            <a:ext cx="140472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rot="1925400">
            <a:off x="3223800" y="2387520"/>
            <a:ext cx="140508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1397160" y="6248520"/>
            <a:ext cx="2639880" cy="2438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2616120" y="5232240"/>
            <a:ext cx="201600" cy="1422720"/>
          </a:xfrm>
          <a:prstGeom prst="line">
            <a:avLst/>
          </a:prstGeom>
          <a:ln w="16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380880" y="8280360"/>
            <a:ext cx="4670280" cy="3985920"/>
            <a:chOff x="380880" y="8280360"/>
            <a:chExt cx="4670280" cy="3985920"/>
          </a:xfrm>
        </p:grpSpPr>
        <p:grpSp>
          <p:nvGrpSpPr>
            <p:cNvPr id="2164" name=""/>
            <p:cNvGrpSpPr/>
            <p:nvPr/>
          </p:nvGrpSpPr>
          <p:grpSpPr>
            <a:xfrm>
              <a:off x="380880" y="10108800"/>
              <a:ext cx="4670280" cy="2157480"/>
              <a:chOff x="380880" y="10108800"/>
              <a:chExt cx="4670280" cy="2157480"/>
            </a:xfrm>
          </p:grpSpPr>
          <p:sp>
            <p:nvSpPr>
              <p:cNvPr id="2165" name=""/>
              <p:cNvSpPr/>
              <p:nvPr/>
            </p:nvSpPr>
            <p:spPr>
              <a:xfrm>
                <a:off x="2208600" y="111236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4036320" y="105145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2208600" y="1010880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80880" y="107179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427200" y="113270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782640" y="8280360"/>
              <a:ext cx="3832920" cy="3269160"/>
              <a:chOff x="782640" y="8280360"/>
              <a:chExt cx="3832920" cy="32691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418200" y="8338680"/>
                <a:ext cx="1197360" cy="2408400"/>
              </a:xfrm>
              <a:custGeom>
                <a:avLst/>
                <a:gdLst/>
                <a:ahLst/>
                <a:rect l="l" t="t" r="r" b="b"/>
                <a:pathLst>
                  <a:path w="283" h="569">
                    <a:moveTo>
                      <a:pt x="0" y="0"/>
                    </a:moveTo>
                    <a:cubicBezTo>
                      <a:pt x="46" y="70"/>
                      <a:pt x="59" y="71"/>
                      <a:pt x="128" y="119"/>
                    </a:cubicBezTo>
                    <a:cubicBezTo>
                      <a:pt x="146" y="132"/>
                      <a:pt x="183" y="155"/>
                      <a:pt x="183" y="155"/>
                    </a:cubicBezTo>
                    <a:cubicBezTo>
                      <a:pt x="233" y="231"/>
                      <a:pt x="209" y="216"/>
                      <a:pt x="237" y="301"/>
                    </a:cubicBezTo>
                    <a:cubicBezTo>
                      <a:pt x="248" y="383"/>
                      <a:pt x="245" y="466"/>
                      <a:pt x="256" y="548"/>
                    </a:cubicBezTo>
                    <a:cubicBezTo>
                      <a:pt x="259" y="569"/>
                      <a:pt x="271" y="567"/>
                      <a:pt x="283" y="567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2" name=""/>
              <p:cNvGrpSpPr/>
              <p:nvPr/>
            </p:nvGrpSpPr>
            <p:grpSpPr>
              <a:xfrm>
                <a:off x="782640" y="8280360"/>
                <a:ext cx="3277080" cy="3269160"/>
                <a:chOff x="782640" y="8280360"/>
                <a:chExt cx="3277080" cy="3269160"/>
              </a:xfrm>
            </p:grpSpPr>
            <p:sp>
              <p:nvSpPr>
                <p:cNvPr id="2173" name=""/>
                <p:cNvSpPr/>
                <p:nvPr/>
              </p:nvSpPr>
              <p:spPr>
                <a:xfrm>
                  <a:off x="782640" y="8491320"/>
                  <a:ext cx="1281240" cy="2246760"/>
                </a:xfrm>
                <a:custGeom>
                  <a:avLst/>
                  <a:gdLst/>
                  <a:ahLst/>
                  <a:rect l="l" t="t" r="r" b="b"/>
                  <a:pathLst>
                    <a:path w="303" h="531">
                      <a:moveTo>
                        <a:pt x="303" y="0"/>
                      </a:moveTo>
                      <a:cubicBezTo>
                        <a:pt x="294" y="12"/>
                        <a:pt x="247" y="89"/>
                        <a:pt x="220" y="101"/>
                      </a:cubicBezTo>
                      <a:cubicBezTo>
                        <a:pt x="160" y="127"/>
                        <a:pt x="84" y="133"/>
                        <a:pt x="19" y="147"/>
                      </a:cubicBezTo>
                      <a:cubicBezTo>
                        <a:pt x="0" y="205"/>
                        <a:pt x="13" y="263"/>
                        <a:pt x="47" y="311"/>
                      </a:cubicBezTo>
                      <a:cubicBezTo>
                        <a:pt x="61" y="370"/>
                        <a:pt x="67" y="380"/>
                        <a:pt x="56" y="448"/>
                      </a:cubicBezTo>
                      <a:cubicBezTo>
                        <a:pt x="51" y="481"/>
                        <a:pt x="33" y="500"/>
                        <a:pt x="47" y="531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2004480" y="8280360"/>
                  <a:ext cx="1683360" cy="3045960"/>
                </a:xfrm>
                <a:custGeom>
                  <a:avLst/>
                  <a:gdLst/>
                  <a:ahLst/>
                  <a:rect l="l" t="t" r="r" b="b"/>
                  <a:pathLst>
                    <a:path w="481" h="384">
                      <a:moveTo>
                        <a:pt x="289" y="384"/>
                      </a:moveTo>
                      <a:cubicBezTo>
                        <a:pt x="333" y="369"/>
                        <a:pt x="426" y="357"/>
                        <a:pt x="426" y="357"/>
                      </a:cubicBezTo>
                      <a:cubicBezTo>
                        <a:pt x="462" y="332"/>
                        <a:pt x="470" y="327"/>
                        <a:pt x="481" y="284"/>
                      </a:cubicBezTo>
                      <a:cubicBezTo>
                        <a:pt x="475" y="258"/>
                        <a:pt x="473" y="187"/>
                        <a:pt x="444" y="174"/>
                      </a:cubicBezTo>
                      <a:cubicBezTo>
                        <a:pt x="402" y="155"/>
                        <a:pt x="353" y="162"/>
                        <a:pt x="307" y="156"/>
                      </a:cubicBezTo>
                      <a:cubicBezTo>
                        <a:pt x="222" y="145"/>
                        <a:pt x="136" y="139"/>
                        <a:pt x="51" y="128"/>
                      </a:cubicBezTo>
                      <a:cubicBezTo>
                        <a:pt x="0" y="94"/>
                        <a:pt x="15" y="67"/>
                        <a:pt x="60" y="37"/>
                      </a:cubicBezTo>
                      <a:cubicBezTo>
                        <a:pt x="124" y="40"/>
                        <a:pt x="188" y="41"/>
                        <a:pt x="252" y="46"/>
                      </a:cubicBezTo>
                      <a:cubicBezTo>
                        <a:pt x="262" y="47"/>
                        <a:pt x="273" y="62"/>
                        <a:pt x="280" y="55"/>
                      </a:cubicBezTo>
                      <a:cubicBezTo>
                        <a:pt x="294" y="41"/>
                        <a:pt x="298" y="0"/>
                        <a:pt x="298" y="0"/>
                      </a:cubicBezTo>
                      <a:cubicBezTo>
                        <a:pt x="304" y="9"/>
                        <a:pt x="316" y="28"/>
                        <a:pt x="316" y="28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2215440" y="8377200"/>
                  <a:ext cx="622440" cy="1857240"/>
                </a:xfrm>
                <a:custGeom>
                  <a:avLst/>
                  <a:gdLst/>
                  <a:ahLst/>
                  <a:rect l="l" t="t" r="r" b="b"/>
                  <a:pathLst>
                    <a:path w="147" h="439">
                      <a:moveTo>
                        <a:pt x="147" y="439"/>
                      </a:moveTo>
                      <a:cubicBezTo>
                        <a:pt x="104" y="425"/>
                        <a:pt x="61" y="416"/>
                        <a:pt x="19" y="402"/>
                      </a:cubicBezTo>
                      <a:cubicBezTo>
                        <a:pt x="0" y="350"/>
                        <a:pt x="7" y="327"/>
                        <a:pt x="55" y="311"/>
                      </a:cubicBezTo>
                      <a:cubicBezTo>
                        <a:pt x="72" y="284"/>
                        <a:pt x="92" y="264"/>
                        <a:pt x="110" y="238"/>
                      </a:cubicBezTo>
                      <a:cubicBezTo>
                        <a:pt x="128" y="164"/>
                        <a:pt x="124" y="198"/>
                        <a:pt x="110" y="73"/>
                      </a:cubicBezTo>
                      <a:cubicBezTo>
                        <a:pt x="107" y="48"/>
                        <a:pt x="92" y="25"/>
                        <a:pt x="92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2952000" y="8301240"/>
                  <a:ext cx="1107720" cy="3248280"/>
                </a:xfrm>
                <a:custGeom>
                  <a:avLst/>
                  <a:gdLst/>
                  <a:ahLst/>
                  <a:rect l="l" t="t" r="r" b="b"/>
                  <a:pathLst>
                    <a:path w="262" h="768">
                      <a:moveTo>
                        <a:pt x="201" y="768"/>
                      </a:moveTo>
                      <a:cubicBezTo>
                        <a:pt x="208" y="694"/>
                        <a:pt x="214" y="610"/>
                        <a:pt x="238" y="539"/>
                      </a:cubicBezTo>
                      <a:cubicBezTo>
                        <a:pt x="249" y="447"/>
                        <a:pt x="262" y="314"/>
                        <a:pt x="174" y="256"/>
                      </a:cubicBezTo>
                      <a:cubicBezTo>
                        <a:pt x="160" y="213"/>
                        <a:pt x="147" y="226"/>
                        <a:pt x="110" y="201"/>
                      </a:cubicBezTo>
                      <a:cubicBezTo>
                        <a:pt x="93" y="147"/>
                        <a:pt x="93" y="139"/>
                        <a:pt x="37" y="118"/>
                      </a:cubicBezTo>
                      <a:cubicBezTo>
                        <a:pt x="0" y="83"/>
                        <a:pt x="0" y="46"/>
                        <a:pt x="0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77" name=""/>
          <p:cNvSpPr/>
          <p:nvPr/>
        </p:nvSpPr>
        <p:spPr>
          <a:xfrm rot="16200000">
            <a:off x="2698920" y="4464000"/>
            <a:ext cx="622080" cy="144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6781680" y="293364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708660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769608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777240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71629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7162920" y="4610160"/>
            <a:ext cx="914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 rot="9534600">
            <a:off x="6933960" y="262872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 rot="11531400">
            <a:off x="7238520" y="262836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rot="13149000">
            <a:off x="73911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 rot="14453400">
            <a:off x="76197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7162920" y="53722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77724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6400800" y="4457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8381880" y="49150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2286000" y="3733920"/>
            <a:ext cx="38088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789480" y="1828800"/>
            <a:ext cx="1824120" cy="4543560"/>
            <a:chOff x="789480" y="1828800"/>
            <a:chExt cx="1824120" cy="4543560"/>
          </a:xfrm>
        </p:grpSpPr>
        <p:grpSp>
          <p:nvGrpSpPr>
            <p:cNvPr id="2199" name=""/>
            <p:cNvGrpSpPr/>
            <p:nvPr/>
          </p:nvGrpSpPr>
          <p:grpSpPr>
            <a:xfrm>
              <a:off x="789480" y="1828800"/>
              <a:ext cx="1824120" cy="3200400"/>
              <a:chOff x="789480" y="1828800"/>
              <a:chExt cx="1824120" cy="3200400"/>
            </a:xfrm>
          </p:grpSpPr>
          <p:sp>
            <p:nvSpPr>
              <p:cNvPr id="2200" name=""/>
              <p:cNvSpPr/>
              <p:nvPr/>
            </p:nvSpPr>
            <p:spPr>
              <a:xfrm>
                <a:off x="914040" y="1828800"/>
                <a:ext cx="1600200" cy="2057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rot="19351800">
                <a:off x="99000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rot="1925400">
                <a:off x="190404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218600" y="4114800"/>
                <a:ext cx="990720" cy="914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H="1">
                <a:off x="1675800" y="3733560"/>
                <a:ext cx="76320" cy="533520"/>
              </a:xfrm>
              <a:prstGeom prst="line">
                <a:avLst/>
              </a:prstGeom>
              <a:ln w="1620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5" name=""/>
            <p:cNvGrpSpPr/>
            <p:nvPr/>
          </p:nvGrpSpPr>
          <p:grpSpPr>
            <a:xfrm>
              <a:off x="838080" y="4876920"/>
              <a:ext cx="1752480" cy="1495440"/>
              <a:chOff x="838080" y="4876920"/>
              <a:chExt cx="1752480" cy="1495440"/>
            </a:xfrm>
          </p:grpSpPr>
          <p:grpSp>
            <p:nvGrpSpPr>
              <p:cNvPr id="2206" name=""/>
              <p:cNvGrpSpPr/>
              <p:nvPr/>
            </p:nvGrpSpPr>
            <p:grpSpPr>
              <a:xfrm>
                <a:off x="838080" y="5562720"/>
                <a:ext cx="1752480" cy="809640"/>
                <a:chOff x="838080" y="5562720"/>
                <a:chExt cx="1752480" cy="809640"/>
              </a:xfrm>
            </p:grpSpPr>
            <p:sp>
              <p:nvSpPr>
                <p:cNvPr id="2207" name=""/>
                <p:cNvSpPr/>
                <p:nvPr/>
              </p:nvSpPr>
              <p:spPr>
                <a:xfrm>
                  <a:off x="1523880" y="59436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2209680" y="57150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1523880" y="55627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838080" y="57913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1981080" y="60199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2" name=""/>
              <p:cNvGrpSpPr/>
              <p:nvPr/>
            </p:nvGrpSpPr>
            <p:grpSpPr>
              <a:xfrm>
                <a:off x="988920" y="4876920"/>
                <a:ext cx="1438200" cy="1226880"/>
                <a:chOff x="988920" y="4876920"/>
                <a:chExt cx="1438200" cy="1226880"/>
              </a:xfrm>
            </p:grpSpPr>
            <p:sp>
              <p:nvSpPr>
                <p:cNvPr id="2213" name=""/>
                <p:cNvSpPr/>
                <p:nvPr/>
              </p:nvSpPr>
              <p:spPr>
                <a:xfrm>
                  <a:off x="1977840" y="4898880"/>
                  <a:ext cx="449280" cy="903600"/>
                </a:xfrm>
                <a:custGeom>
                  <a:avLst/>
                  <a:gdLst/>
                  <a:ahLst/>
                  <a:rect l="l" t="t" r="r" b="b"/>
                  <a:pathLst>
                    <a:path w="283" h="569">
                      <a:moveTo>
                        <a:pt x="0" y="0"/>
                      </a:moveTo>
                      <a:cubicBezTo>
                        <a:pt x="46" y="70"/>
                        <a:pt x="59" y="71"/>
                        <a:pt x="128" y="119"/>
                      </a:cubicBezTo>
                      <a:cubicBezTo>
                        <a:pt x="146" y="132"/>
                        <a:pt x="183" y="155"/>
                        <a:pt x="183" y="155"/>
                      </a:cubicBezTo>
                      <a:cubicBezTo>
                        <a:pt x="233" y="231"/>
                        <a:pt x="209" y="216"/>
                        <a:pt x="237" y="301"/>
                      </a:cubicBezTo>
                      <a:cubicBezTo>
                        <a:pt x="248" y="383"/>
                        <a:pt x="245" y="466"/>
                        <a:pt x="256" y="548"/>
                      </a:cubicBezTo>
                      <a:cubicBezTo>
                        <a:pt x="259" y="569"/>
                        <a:pt x="271" y="567"/>
                        <a:pt x="283" y="567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14" name=""/>
                <p:cNvGrpSpPr/>
                <p:nvPr/>
              </p:nvGrpSpPr>
              <p:grpSpPr>
                <a:xfrm>
                  <a:off x="988920" y="4876920"/>
                  <a:ext cx="1230120" cy="1226880"/>
                  <a:chOff x="988920" y="4876920"/>
                  <a:chExt cx="1230120" cy="1226880"/>
                </a:xfrm>
              </p:grpSpPr>
              <p:sp>
                <p:nvSpPr>
                  <p:cNvPr id="2215" name=""/>
                  <p:cNvSpPr/>
                  <p:nvPr/>
                </p:nvSpPr>
                <p:spPr>
                  <a:xfrm>
                    <a:off x="988920" y="4956120"/>
                    <a:ext cx="480960" cy="84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531">
                        <a:moveTo>
                          <a:pt x="303" y="0"/>
                        </a:moveTo>
                        <a:cubicBezTo>
                          <a:pt x="294" y="12"/>
                          <a:pt x="247" y="89"/>
                          <a:pt x="220" y="101"/>
                        </a:cubicBezTo>
                        <a:cubicBezTo>
                          <a:pt x="160" y="127"/>
                          <a:pt x="84" y="133"/>
                          <a:pt x="19" y="147"/>
                        </a:cubicBezTo>
                        <a:cubicBezTo>
                          <a:pt x="0" y="205"/>
                          <a:pt x="13" y="263"/>
                          <a:pt x="47" y="311"/>
                        </a:cubicBezTo>
                        <a:cubicBezTo>
                          <a:pt x="61" y="370"/>
                          <a:pt x="67" y="380"/>
                          <a:pt x="56" y="448"/>
                        </a:cubicBezTo>
                        <a:cubicBezTo>
                          <a:pt x="51" y="481"/>
                          <a:pt x="33" y="500"/>
                          <a:pt x="47" y="531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1447560" y="4876920"/>
                    <a:ext cx="631800" cy="11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384">
                        <a:moveTo>
                          <a:pt x="289" y="384"/>
                        </a:moveTo>
                        <a:cubicBezTo>
                          <a:pt x="333" y="369"/>
                          <a:pt x="426" y="357"/>
                          <a:pt x="426" y="357"/>
                        </a:cubicBezTo>
                        <a:cubicBezTo>
                          <a:pt x="462" y="332"/>
                          <a:pt x="470" y="327"/>
                          <a:pt x="481" y="284"/>
                        </a:cubicBezTo>
                        <a:cubicBezTo>
                          <a:pt x="475" y="258"/>
                          <a:pt x="473" y="187"/>
                          <a:pt x="444" y="174"/>
                        </a:cubicBezTo>
                        <a:cubicBezTo>
                          <a:pt x="402" y="155"/>
                          <a:pt x="353" y="162"/>
                          <a:pt x="307" y="156"/>
                        </a:cubicBezTo>
                        <a:cubicBezTo>
                          <a:pt x="222" y="145"/>
                          <a:pt x="136" y="139"/>
                          <a:pt x="51" y="128"/>
                        </a:cubicBezTo>
                        <a:cubicBezTo>
                          <a:pt x="0" y="94"/>
                          <a:pt x="15" y="67"/>
                          <a:pt x="60" y="37"/>
                        </a:cubicBezTo>
                        <a:cubicBezTo>
                          <a:pt x="124" y="40"/>
                          <a:pt x="188" y="41"/>
                          <a:pt x="252" y="46"/>
                        </a:cubicBezTo>
                        <a:cubicBezTo>
                          <a:pt x="262" y="47"/>
                          <a:pt x="273" y="62"/>
                          <a:pt x="280" y="55"/>
                        </a:cubicBezTo>
                        <a:cubicBezTo>
                          <a:pt x="294" y="41"/>
                          <a:pt x="298" y="0"/>
                          <a:pt x="298" y="0"/>
                        </a:cubicBezTo>
                        <a:cubicBezTo>
                          <a:pt x="304" y="9"/>
                          <a:pt x="316" y="28"/>
                          <a:pt x="316" y="2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1526760" y="4913280"/>
                    <a:ext cx="233640" cy="69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439">
                        <a:moveTo>
                          <a:pt x="147" y="439"/>
                        </a:moveTo>
                        <a:cubicBezTo>
                          <a:pt x="104" y="425"/>
                          <a:pt x="61" y="416"/>
                          <a:pt x="19" y="402"/>
                        </a:cubicBezTo>
                        <a:cubicBezTo>
                          <a:pt x="0" y="350"/>
                          <a:pt x="7" y="327"/>
                          <a:pt x="55" y="311"/>
                        </a:cubicBezTo>
                        <a:cubicBezTo>
                          <a:pt x="72" y="284"/>
                          <a:pt x="92" y="264"/>
                          <a:pt x="110" y="238"/>
                        </a:cubicBezTo>
                        <a:cubicBezTo>
                          <a:pt x="128" y="164"/>
                          <a:pt x="124" y="198"/>
                          <a:pt x="110" y="73"/>
                        </a:cubicBezTo>
                        <a:cubicBezTo>
                          <a:pt x="107" y="48"/>
                          <a:pt x="92" y="25"/>
                          <a:pt x="92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1803240" y="4884840"/>
                    <a:ext cx="415800" cy="12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768">
                        <a:moveTo>
                          <a:pt x="201" y="768"/>
                        </a:moveTo>
                        <a:cubicBezTo>
                          <a:pt x="208" y="694"/>
                          <a:pt x="214" y="610"/>
                          <a:pt x="238" y="539"/>
                        </a:cubicBezTo>
                        <a:cubicBezTo>
                          <a:pt x="249" y="447"/>
                          <a:pt x="262" y="314"/>
                          <a:pt x="174" y="256"/>
                        </a:cubicBezTo>
                        <a:cubicBezTo>
                          <a:pt x="160" y="213"/>
                          <a:pt x="147" y="226"/>
                          <a:pt x="110" y="201"/>
                        </a:cubicBezTo>
                        <a:cubicBezTo>
                          <a:pt x="93" y="147"/>
                          <a:pt x="93" y="139"/>
                          <a:pt x="37" y="118"/>
                        </a:cubicBezTo>
                        <a:cubicBezTo>
                          <a:pt x="0" y="83"/>
                          <a:pt x="0" y="46"/>
                          <a:pt x="0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219" name=""/>
          <p:cNvSpPr/>
          <p:nvPr/>
        </p:nvSpPr>
        <p:spPr>
          <a:xfrm rot="16200000">
            <a:off x="1615320" y="3337560"/>
            <a:ext cx="32832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85800" y="4010040"/>
            <a:ext cx="1846080" cy="838080"/>
            <a:chOff x="685800" y="4010040"/>
            <a:chExt cx="1846080" cy="838080"/>
          </a:xfrm>
        </p:grpSpPr>
        <p:sp>
          <p:nvSpPr>
            <p:cNvPr id="2221" name=""/>
            <p:cNvSpPr/>
            <p:nvPr/>
          </p:nvSpPr>
          <p:spPr>
            <a:xfrm>
              <a:off x="685800" y="4495680"/>
              <a:ext cx="380880" cy="3524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068560" y="4010040"/>
              <a:ext cx="46332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0" y="283"/>
                  </a:moveTo>
                  <a:cubicBezTo>
                    <a:pt x="62" y="292"/>
                    <a:pt x="87" y="286"/>
                    <a:pt x="146" y="274"/>
                  </a:cubicBezTo>
                  <a:cubicBezTo>
                    <a:pt x="175" y="255"/>
                    <a:pt x="217" y="229"/>
                    <a:pt x="238" y="201"/>
                  </a:cubicBezTo>
                  <a:cubicBezTo>
                    <a:pt x="251" y="183"/>
                    <a:pt x="274" y="146"/>
                    <a:pt x="274" y="146"/>
                  </a:cubicBezTo>
                  <a:cubicBezTo>
                    <a:pt x="292" y="74"/>
                    <a:pt x="283" y="122"/>
                    <a:pt x="283" y="0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92080" y="4300560"/>
              <a:ext cx="493560" cy="288720"/>
            </a:xfrm>
            <a:custGeom>
              <a:avLst/>
              <a:gdLst/>
              <a:ahLst/>
              <a:rect l="l" t="t" r="r" b="b"/>
              <a:pathLst>
                <a:path w="311" h="182">
                  <a:moveTo>
                    <a:pt x="311" y="27"/>
                  </a:moveTo>
                  <a:cubicBezTo>
                    <a:pt x="261" y="10"/>
                    <a:pt x="208" y="8"/>
                    <a:pt x="156" y="0"/>
                  </a:cubicBezTo>
                  <a:cubicBezTo>
                    <a:pt x="109" y="8"/>
                    <a:pt x="84" y="10"/>
                    <a:pt x="46" y="36"/>
                  </a:cubicBezTo>
                  <a:cubicBezTo>
                    <a:pt x="17" y="81"/>
                    <a:pt x="0" y="129"/>
                    <a:pt x="0" y="182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4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419112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419112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434340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56272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388620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54100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42670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457200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312408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 rot="21314400">
            <a:off x="601956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4952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525780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152280" y="76320"/>
            <a:ext cx="3733920" cy="3047760"/>
          </a:xfrm>
          <a:prstGeom prst="wedgeEllipseCallout">
            <a:avLst>
              <a:gd name="adj1" fmla="val 50083"/>
              <a:gd name="adj2" fmla="val 50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up! In fact, you’re lookin’ at two very fine examp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 rot="16200000">
            <a:off x="4647960" y="2666880"/>
            <a:ext cx="45720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338" y="1628"/>
                  <a:pt x="9075" y="5080"/>
                  <a:pt x="9075" y="10800"/>
                </a:cubicBezTo>
                <a:cubicBezTo>
                  <a:pt x="9075" y="16520"/>
                  <a:pt x="15338" y="1997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5105520" y="228600"/>
            <a:ext cx="3733560" cy="1752480"/>
          </a:xfrm>
          <a:prstGeom prst="wedgeEllipseCallout">
            <a:avLst>
              <a:gd name="adj1" fmla="val -2976"/>
              <a:gd name="adj2" fmla="val 142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?  Me… and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7543800" y="4191120"/>
            <a:ext cx="457200" cy="30456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243828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27432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27432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39280" y="2613960"/>
            <a:ext cx="404640" cy="1272960"/>
          </a:xfrm>
          <a:custGeom>
            <a:avLst/>
            <a:gdLst>
              <a:gd name="textAreaLeft" fmla="*/ 149400 w 404640"/>
              <a:gd name="textAreaRight" fmla="*/ 273600 w 404640"/>
              <a:gd name="textAreaTop" fmla="*/ 142560 h 1272960"/>
              <a:gd name="textAreaBottom" fmla="*/ 1130400 h 127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03" y="2620"/>
                  <a:pt x="14606" y="5080"/>
                  <a:pt x="14606" y="10800"/>
                </a:cubicBezTo>
                <a:cubicBezTo>
                  <a:pt x="14606" y="16520"/>
                  <a:pt x="18103" y="189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133360" y="1600200"/>
            <a:ext cx="5331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228600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297180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3657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365760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6187320" y="4099320"/>
            <a:ext cx="32868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4648320"/>
            <a:ext cx="9144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9534600">
            <a:off x="5638320" y="266688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1531400">
            <a:off x="5943240" y="266652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3149000">
            <a:off x="6095520" y="259020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4453400">
            <a:off x="6324480" y="259020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67280" y="54100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21314400">
            <a:off x="365724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4956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86600" y="4952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304920"/>
            <a:ext cx="3429000" cy="1981080"/>
          </a:xfrm>
          <a:prstGeom prst="wedgeEllipseCallout">
            <a:avLst>
              <a:gd name="adj1" fmla="val 14583"/>
              <a:gd name="adj2" fmla="val 73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! You w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"/>
          <p:cNvSpPr/>
          <p:nvPr/>
        </p:nvSpPr>
        <p:spPr>
          <a:xfrm>
            <a:off x="60948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2895480" y="2819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733920" y="3505320"/>
            <a:ext cx="30456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 rot="16200000">
            <a:off x="2552760" y="4076640"/>
            <a:ext cx="38088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72" y="3076"/>
                  <a:pt x="17144" y="5080"/>
                  <a:pt x="17144" y="10800"/>
                </a:cubicBezTo>
                <a:cubicBezTo>
                  <a:pt x="17144" y="16520"/>
                  <a:pt x="19372" y="185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1371600" y="2819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2209680" y="3505320"/>
            <a:ext cx="30492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914400" y="5181480"/>
            <a:ext cx="3048120" cy="167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 flipV="1">
            <a:off x="2514600" y="1599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 flipV="1">
            <a:off x="2590920" y="1219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380880" y="2090880"/>
            <a:ext cx="304920" cy="271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3581280" y="5335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752480" y="3049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990720" y="-1699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181480" y="-1699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8858160" y="1905120"/>
            <a:ext cx="571680" cy="50796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-343080" y="3733920"/>
            <a:ext cx="68616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8915400" y="297180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2590920" y="3049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3048120" y="91440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8763120" y="22860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2280" y="5335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3048120" y="-15228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6324480" y="38088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0" y="17524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8763120" y="39625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7696080" y="22860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-190440" y="12952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2057400" y="6094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80880" y="3049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7010280" y="-152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990720" y="685800"/>
            <a:ext cx="609480" cy="609480"/>
          </a:xfrm>
          <a:custGeom>
            <a:avLst/>
            <a:gdLst>
              <a:gd name="textAreaLeft" fmla="*/ 183240 w 609480"/>
              <a:gd name="textAreaRight" fmla="*/ 426240 w 609480"/>
              <a:gd name="textAreaTop" fmla="*/ 183240 h 609480"/>
              <a:gd name="textAreaBottom" fmla="*/ 426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153" y="13081"/>
                </a:lnTo>
                <a:lnTo>
                  <a:pt x="3163" y="18437"/>
                </a:lnTo>
                <a:lnTo>
                  <a:pt x="8420" y="16406"/>
                </a:lnTo>
                <a:lnTo>
                  <a:pt x="10800" y="21600"/>
                </a:lnTo>
                <a:lnTo>
                  <a:pt x="13081" y="16447"/>
                </a:lnTo>
                <a:lnTo>
                  <a:pt x="18437" y="18437"/>
                </a:lnTo>
                <a:lnTo>
                  <a:pt x="16406" y="13180"/>
                </a:lnTo>
                <a:lnTo>
                  <a:pt x="21600" y="10800"/>
                </a:lnTo>
                <a:lnTo>
                  <a:pt x="16447" y="8519"/>
                </a:lnTo>
                <a:lnTo>
                  <a:pt x="18437" y="3163"/>
                </a:lnTo>
                <a:lnTo>
                  <a:pt x="13180" y="5194"/>
                </a:lnTo>
                <a:lnTo>
                  <a:pt x="10800" y="0"/>
                </a:lnTo>
                <a:lnTo>
                  <a:pt x="8519" y="5153"/>
                </a:lnTo>
                <a:lnTo>
                  <a:pt x="3163" y="3163"/>
                </a:lnTo>
                <a:lnTo>
                  <a:pt x="5194" y="842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4876920" y="380880"/>
            <a:ext cx="4038480" cy="3353040"/>
          </a:xfrm>
          <a:prstGeom prst="wedgeEllipseCallout">
            <a:avLst>
              <a:gd name="adj1" fmla="val -73546"/>
              <a:gd name="adj2" fmla="val 82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ly! Remember Pastor told us tha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0" y="0"/>
            <a:ext cx="9144000" cy="4343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1371600" y="2286000"/>
            <a:ext cx="6400800" cy="289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3886200" y="30492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4114800" y="2438280"/>
            <a:ext cx="167652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4267080" y="12193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5105520" y="13716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4495680" y="1447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 flipV="1">
            <a:off x="4419360" y="304920"/>
            <a:ext cx="5331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 flipV="1">
            <a:off x="4648320" y="15228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048120" y="259092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rot="21314400">
            <a:off x="6324120" y="26665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4952880" y="12193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181480" y="1447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 rot="16200000">
            <a:off x="4800600" y="1599840"/>
            <a:ext cx="228600" cy="83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887" y="1466"/>
                  <a:pt x="8174" y="5080"/>
                  <a:pt x="8174" y="10800"/>
                </a:cubicBezTo>
                <a:cubicBezTo>
                  <a:pt x="8174" y="16520"/>
                  <a:pt x="14887" y="2013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4267080" y="2438280"/>
            <a:ext cx="304920" cy="327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5334120" y="2438280"/>
            <a:ext cx="304560" cy="327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 flipH="1" flipV="1">
            <a:off x="4190760" y="380520"/>
            <a:ext cx="53316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 flipH="1" flipV="1">
            <a:off x="5028840" y="228240"/>
            <a:ext cx="22860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304920" y="228600"/>
            <a:ext cx="3429000" cy="1828800"/>
          </a:xfrm>
          <a:prstGeom prst="wedgeEllipseCallout">
            <a:avLst>
              <a:gd name="adj1" fmla="val 60694"/>
              <a:gd name="adj2" fmla="val 57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’re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d to lea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480060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 flipH="1" flipV="1">
            <a:off x="3962520" y="12193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5486400" y="1219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0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"/>
          <p:cNvSpPr/>
          <p:nvPr/>
        </p:nvSpPr>
        <p:spPr>
          <a:xfrm>
            <a:off x="5105520" y="1981080"/>
            <a:ext cx="4038480" cy="2286000"/>
          </a:xfrm>
          <a:prstGeom prst="wedgeEllipseCallout">
            <a:avLst>
              <a:gd name="adj1" fmla="val -76847"/>
              <a:gd name="adj2" fmla="val 975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you’re on a Faith Trek too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2438280" y="2514600"/>
            <a:ext cx="38124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584280" y="152280"/>
            <a:ext cx="4265640" cy="5486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 rot="19351800">
            <a:off x="1219320" y="2437920"/>
            <a:ext cx="140472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 rot="1925400">
            <a:off x="3223800" y="2387520"/>
            <a:ext cx="140508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1397160" y="6248520"/>
            <a:ext cx="2639880" cy="2438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flipH="1">
            <a:off x="2616120" y="5232240"/>
            <a:ext cx="201600" cy="1422720"/>
          </a:xfrm>
          <a:prstGeom prst="line">
            <a:avLst/>
          </a:prstGeom>
          <a:ln w="16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9" name=""/>
          <p:cNvGrpSpPr/>
          <p:nvPr/>
        </p:nvGrpSpPr>
        <p:grpSpPr>
          <a:xfrm>
            <a:off x="380880" y="8280360"/>
            <a:ext cx="4670280" cy="3985920"/>
            <a:chOff x="380880" y="8280360"/>
            <a:chExt cx="4670280" cy="3985920"/>
          </a:xfrm>
        </p:grpSpPr>
        <p:grpSp>
          <p:nvGrpSpPr>
            <p:cNvPr id="2310" name=""/>
            <p:cNvGrpSpPr/>
            <p:nvPr/>
          </p:nvGrpSpPr>
          <p:grpSpPr>
            <a:xfrm>
              <a:off x="380880" y="10108800"/>
              <a:ext cx="4670280" cy="2157480"/>
              <a:chOff x="380880" y="10108800"/>
              <a:chExt cx="4670280" cy="2157480"/>
            </a:xfrm>
          </p:grpSpPr>
          <p:sp>
            <p:nvSpPr>
              <p:cNvPr id="2311" name=""/>
              <p:cNvSpPr/>
              <p:nvPr/>
            </p:nvSpPr>
            <p:spPr>
              <a:xfrm>
                <a:off x="2208600" y="111236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4036320" y="105145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2208600" y="1010880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80880" y="107179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427200" y="113270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6" name=""/>
            <p:cNvGrpSpPr/>
            <p:nvPr/>
          </p:nvGrpSpPr>
          <p:grpSpPr>
            <a:xfrm>
              <a:off x="782640" y="8280360"/>
              <a:ext cx="3832920" cy="3269160"/>
              <a:chOff x="782640" y="8280360"/>
              <a:chExt cx="3832920" cy="3269160"/>
            </a:xfrm>
          </p:grpSpPr>
          <p:sp>
            <p:nvSpPr>
              <p:cNvPr id="2317" name=""/>
              <p:cNvSpPr/>
              <p:nvPr/>
            </p:nvSpPr>
            <p:spPr>
              <a:xfrm>
                <a:off x="3418200" y="8338680"/>
                <a:ext cx="1197360" cy="2408400"/>
              </a:xfrm>
              <a:custGeom>
                <a:avLst/>
                <a:gdLst/>
                <a:ahLst/>
                <a:rect l="l" t="t" r="r" b="b"/>
                <a:pathLst>
                  <a:path w="283" h="569">
                    <a:moveTo>
                      <a:pt x="0" y="0"/>
                    </a:moveTo>
                    <a:cubicBezTo>
                      <a:pt x="46" y="70"/>
                      <a:pt x="59" y="71"/>
                      <a:pt x="128" y="119"/>
                    </a:cubicBezTo>
                    <a:cubicBezTo>
                      <a:pt x="146" y="132"/>
                      <a:pt x="183" y="155"/>
                      <a:pt x="183" y="155"/>
                    </a:cubicBezTo>
                    <a:cubicBezTo>
                      <a:pt x="233" y="231"/>
                      <a:pt x="209" y="216"/>
                      <a:pt x="237" y="301"/>
                    </a:cubicBezTo>
                    <a:cubicBezTo>
                      <a:pt x="248" y="383"/>
                      <a:pt x="245" y="466"/>
                      <a:pt x="256" y="548"/>
                    </a:cubicBezTo>
                    <a:cubicBezTo>
                      <a:pt x="259" y="569"/>
                      <a:pt x="271" y="567"/>
                      <a:pt x="283" y="567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8" name=""/>
              <p:cNvGrpSpPr/>
              <p:nvPr/>
            </p:nvGrpSpPr>
            <p:grpSpPr>
              <a:xfrm>
                <a:off x="782640" y="8280360"/>
                <a:ext cx="3277080" cy="3269160"/>
                <a:chOff x="782640" y="8280360"/>
                <a:chExt cx="3277080" cy="3269160"/>
              </a:xfrm>
            </p:grpSpPr>
            <p:sp>
              <p:nvSpPr>
                <p:cNvPr id="2319" name=""/>
                <p:cNvSpPr/>
                <p:nvPr/>
              </p:nvSpPr>
              <p:spPr>
                <a:xfrm>
                  <a:off x="782640" y="8491320"/>
                  <a:ext cx="1281240" cy="2246760"/>
                </a:xfrm>
                <a:custGeom>
                  <a:avLst/>
                  <a:gdLst/>
                  <a:ahLst/>
                  <a:rect l="l" t="t" r="r" b="b"/>
                  <a:pathLst>
                    <a:path w="303" h="531">
                      <a:moveTo>
                        <a:pt x="303" y="0"/>
                      </a:moveTo>
                      <a:cubicBezTo>
                        <a:pt x="294" y="12"/>
                        <a:pt x="247" y="89"/>
                        <a:pt x="220" y="101"/>
                      </a:cubicBezTo>
                      <a:cubicBezTo>
                        <a:pt x="160" y="127"/>
                        <a:pt x="84" y="133"/>
                        <a:pt x="19" y="147"/>
                      </a:cubicBezTo>
                      <a:cubicBezTo>
                        <a:pt x="0" y="205"/>
                        <a:pt x="13" y="263"/>
                        <a:pt x="47" y="311"/>
                      </a:cubicBezTo>
                      <a:cubicBezTo>
                        <a:pt x="61" y="370"/>
                        <a:pt x="67" y="380"/>
                        <a:pt x="56" y="448"/>
                      </a:cubicBezTo>
                      <a:cubicBezTo>
                        <a:pt x="51" y="481"/>
                        <a:pt x="33" y="500"/>
                        <a:pt x="47" y="531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2004480" y="8280360"/>
                  <a:ext cx="1683360" cy="3045960"/>
                </a:xfrm>
                <a:custGeom>
                  <a:avLst/>
                  <a:gdLst/>
                  <a:ahLst/>
                  <a:rect l="l" t="t" r="r" b="b"/>
                  <a:pathLst>
                    <a:path w="481" h="384">
                      <a:moveTo>
                        <a:pt x="289" y="384"/>
                      </a:moveTo>
                      <a:cubicBezTo>
                        <a:pt x="333" y="369"/>
                        <a:pt x="426" y="357"/>
                        <a:pt x="426" y="357"/>
                      </a:cubicBezTo>
                      <a:cubicBezTo>
                        <a:pt x="462" y="332"/>
                        <a:pt x="470" y="327"/>
                        <a:pt x="481" y="284"/>
                      </a:cubicBezTo>
                      <a:cubicBezTo>
                        <a:pt x="475" y="258"/>
                        <a:pt x="473" y="187"/>
                        <a:pt x="444" y="174"/>
                      </a:cubicBezTo>
                      <a:cubicBezTo>
                        <a:pt x="402" y="155"/>
                        <a:pt x="353" y="162"/>
                        <a:pt x="307" y="156"/>
                      </a:cubicBezTo>
                      <a:cubicBezTo>
                        <a:pt x="222" y="145"/>
                        <a:pt x="136" y="139"/>
                        <a:pt x="51" y="128"/>
                      </a:cubicBezTo>
                      <a:cubicBezTo>
                        <a:pt x="0" y="94"/>
                        <a:pt x="15" y="67"/>
                        <a:pt x="60" y="37"/>
                      </a:cubicBezTo>
                      <a:cubicBezTo>
                        <a:pt x="124" y="40"/>
                        <a:pt x="188" y="41"/>
                        <a:pt x="252" y="46"/>
                      </a:cubicBezTo>
                      <a:cubicBezTo>
                        <a:pt x="262" y="47"/>
                        <a:pt x="273" y="62"/>
                        <a:pt x="280" y="55"/>
                      </a:cubicBezTo>
                      <a:cubicBezTo>
                        <a:pt x="294" y="41"/>
                        <a:pt x="298" y="0"/>
                        <a:pt x="298" y="0"/>
                      </a:cubicBezTo>
                      <a:cubicBezTo>
                        <a:pt x="304" y="9"/>
                        <a:pt x="316" y="28"/>
                        <a:pt x="316" y="28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2215440" y="8377200"/>
                  <a:ext cx="622440" cy="1857240"/>
                </a:xfrm>
                <a:custGeom>
                  <a:avLst/>
                  <a:gdLst/>
                  <a:ahLst/>
                  <a:rect l="l" t="t" r="r" b="b"/>
                  <a:pathLst>
                    <a:path w="147" h="439">
                      <a:moveTo>
                        <a:pt x="147" y="439"/>
                      </a:moveTo>
                      <a:cubicBezTo>
                        <a:pt x="104" y="425"/>
                        <a:pt x="61" y="416"/>
                        <a:pt x="19" y="402"/>
                      </a:cubicBezTo>
                      <a:cubicBezTo>
                        <a:pt x="0" y="350"/>
                        <a:pt x="7" y="327"/>
                        <a:pt x="55" y="311"/>
                      </a:cubicBezTo>
                      <a:cubicBezTo>
                        <a:pt x="72" y="284"/>
                        <a:pt x="92" y="264"/>
                        <a:pt x="110" y="238"/>
                      </a:cubicBezTo>
                      <a:cubicBezTo>
                        <a:pt x="128" y="164"/>
                        <a:pt x="124" y="198"/>
                        <a:pt x="110" y="73"/>
                      </a:cubicBezTo>
                      <a:cubicBezTo>
                        <a:pt x="107" y="48"/>
                        <a:pt x="92" y="25"/>
                        <a:pt x="92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2952000" y="8301240"/>
                  <a:ext cx="1107720" cy="3248280"/>
                </a:xfrm>
                <a:custGeom>
                  <a:avLst/>
                  <a:gdLst/>
                  <a:ahLst/>
                  <a:rect l="l" t="t" r="r" b="b"/>
                  <a:pathLst>
                    <a:path w="262" h="768">
                      <a:moveTo>
                        <a:pt x="201" y="768"/>
                      </a:moveTo>
                      <a:cubicBezTo>
                        <a:pt x="208" y="694"/>
                        <a:pt x="214" y="610"/>
                        <a:pt x="238" y="539"/>
                      </a:cubicBezTo>
                      <a:cubicBezTo>
                        <a:pt x="249" y="447"/>
                        <a:pt x="262" y="314"/>
                        <a:pt x="174" y="256"/>
                      </a:cubicBezTo>
                      <a:cubicBezTo>
                        <a:pt x="160" y="213"/>
                        <a:pt x="147" y="226"/>
                        <a:pt x="110" y="201"/>
                      </a:cubicBezTo>
                      <a:cubicBezTo>
                        <a:pt x="93" y="147"/>
                        <a:pt x="93" y="139"/>
                        <a:pt x="37" y="118"/>
                      </a:cubicBezTo>
                      <a:cubicBezTo>
                        <a:pt x="0" y="83"/>
                        <a:pt x="0" y="46"/>
                        <a:pt x="0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23" name=""/>
          <p:cNvSpPr/>
          <p:nvPr/>
        </p:nvSpPr>
        <p:spPr>
          <a:xfrm rot="16200000">
            <a:off x="2698920" y="4464000"/>
            <a:ext cx="622080" cy="144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0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"/>
                            </p:stCondLst>
                            <p:childTnLst>
                              <p:par>
                                <p:cTn id="13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6781680" y="293364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708660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769608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777240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71629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7162920" y="4610160"/>
            <a:ext cx="914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 rot="9534600">
            <a:off x="6933960" y="262872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 rot="11531400">
            <a:off x="7238520" y="262836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rot="13149000">
            <a:off x="73911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 rot="14453400">
            <a:off x="76197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7162920" y="53722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68580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77724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6400800" y="4457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8381880" y="49150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2286000" y="3733920"/>
            <a:ext cx="38088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4" name=""/>
          <p:cNvGrpSpPr/>
          <p:nvPr/>
        </p:nvGrpSpPr>
        <p:grpSpPr>
          <a:xfrm>
            <a:off x="789480" y="1828800"/>
            <a:ext cx="1824120" cy="4543560"/>
            <a:chOff x="789480" y="1828800"/>
            <a:chExt cx="1824120" cy="4543560"/>
          </a:xfrm>
        </p:grpSpPr>
        <p:grpSp>
          <p:nvGrpSpPr>
            <p:cNvPr id="2345" name=""/>
            <p:cNvGrpSpPr/>
            <p:nvPr/>
          </p:nvGrpSpPr>
          <p:grpSpPr>
            <a:xfrm>
              <a:off x="789480" y="1828800"/>
              <a:ext cx="1824120" cy="3200400"/>
              <a:chOff x="789480" y="1828800"/>
              <a:chExt cx="1824120" cy="3200400"/>
            </a:xfrm>
          </p:grpSpPr>
          <p:sp>
            <p:nvSpPr>
              <p:cNvPr id="2346" name=""/>
              <p:cNvSpPr/>
              <p:nvPr/>
            </p:nvSpPr>
            <p:spPr>
              <a:xfrm>
                <a:off x="914040" y="1828800"/>
                <a:ext cx="1600200" cy="2057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rot="19351800">
                <a:off x="99000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rot="1925400">
                <a:off x="190404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218600" y="4114800"/>
                <a:ext cx="990720" cy="914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H="1">
                <a:off x="1675800" y="3733560"/>
                <a:ext cx="76320" cy="533520"/>
              </a:xfrm>
              <a:prstGeom prst="line">
                <a:avLst/>
              </a:prstGeom>
              <a:ln w="1620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1" name=""/>
            <p:cNvGrpSpPr/>
            <p:nvPr/>
          </p:nvGrpSpPr>
          <p:grpSpPr>
            <a:xfrm>
              <a:off x="838080" y="4876920"/>
              <a:ext cx="1752480" cy="1495440"/>
              <a:chOff x="838080" y="4876920"/>
              <a:chExt cx="1752480" cy="1495440"/>
            </a:xfrm>
          </p:grpSpPr>
          <p:grpSp>
            <p:nvGrpSpPr>
              <p:cNvPr id="2352" name=""/>
              <p:cNvGrpSpPr/>
              <p:nvPr/>
            </p:nvGrpSpPr>
            <p:grpSpPr>
              <a:xfrm>
                <a:off x="838080" y="5562720"/>
                <a:ext cx="1752480" cy="809640"/>
                <a:chOff x="838080" y="5562720"/>
                <a:chExt cx="1752480" cy="809640"/>
              </a:xfrm>
            </p:grpSpPr>
            <p:sp>
              <p:nvSpPr>
                <p:cNvPr id="2353" name=""/>
                <p:cNvSpPr/>
                <p:nvPr/>
              </p:nvSpPr>
              <p:spPr>
                <a:xfrm>
                  <a:off x="1523880" y="59436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2209680" y="57150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1523880" y="55627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838080" y="57913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1981080" y="60199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8" name=""/>
              <p:cNvGrpSpPr/>
              <p:nvPr/>
            </p:nvGrpSpPr>
            <p:grpSpPr>
              <a:xfrm>
                <a:off x="988920" y="4876920"/>
                <a:ext cx="1438200" cy="1226880"/>
                <a:chOff x="988920" y="4876920"/>
                <a:chExt cx="1438200" cy="1226880"/>
              </a:xfrm>
            </p:grpSpPr>
            <p:sp>
              <p:nvSpPr>
                <p:cNvPr id="2359" name=""/>
                <p:cNvSpPr/>
                <p:nvPr/>
              </p:nvSpPr>
              <p:spPr>
                <a:xfrm>
                  <a:off x="1977840" y="4898880"/>
                  <a:ext cx="449280" cy="903600"/>
                </a:xfrm>
                <a:custGeom>
                  <a:avLst/>
                  <a:gdLst/>
                  <a:ahLst/>
                  <a:rect l="l" t="t" r="r" b="b"/>
                  <a:pathLst>
                    <a:path w="283" h="569">
                      <a:moveTo>
                        <a:pt x="0" y="0"/>
                      </a:moveTo>
                      <a:cubicBezTo>
                        <a:pt x="46" y="70"/>
                        <a:pt x="59" y="71"/>
                        <a:pt x="128" y="119"/>
                      </a:cubicBezTo>
                      <a:cubicBezTo>
                        <a:pt x="146" y="132"/>
                        <a:pt x="183" y="155"/>
                        <a:pt x="183" y="155"/>
                      </a:cubicBezTo>
                      <a:cubicBezTo>
                        <a:pt x="233" y="231"/>
                        <a:pt x="209" y="216"/>
                        <a:pt x="237" y="301"/>
                      </a:cubicBezTo>
                      <a:cubicBezTo>
                        <a:pt x="248" y="383"/>
                        <a:pt x="245" y="466"/>
                        <a:pt x="256" y="548"/>
                      </a:cubicBezTo>
                      <a:cubicBezTo>
                        <a:pt x="259" y="569"/>
                        <a:pt x="271" y="567"/>
                        <a:pt x="283" y="567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0" name=""/>
                <p:cNvGrpSpPr/>
                <p:nvPr/>
              </p:nvGrpSpPr>
              <p:grpSpPr>
                <a:xfrm>
                  <a:off x="988920" y="4876920"/>
                  <a:ext cx="1230120" cy="1226880"/>
                  <a:chOff x="988920" y="4876920"/>
                  <a:chExt cx="1230120" cy="1226880"/>
                </a:xfrm>
              </p:grpSpPr>
              <p:sp>
                <p:nvSpPr>
                  <p:cNvPr id="2361" name=""/>
                  <p:cNvSpPr/>
                  <p:nvPr/>
                </p:nvSpPr>
                <p:spPr>
                  <a:xfrm>
                    <a:off x="988920" y="4956120"/>
                    <a:ext cx="480960" cy="84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531">
                        <a:moveTo>
                          <a:pt x="303" y="0"/>
                        </a:moveTo>
                        <a:cubicBezTo>
                          <a:pt x="294" y="12"/>
                          <a:pt x="247" y="89"/>
                          <a:pt x="220" y="101"/>
                        </a:cubicBezTo>
                        <a:cubicBezTo>
                          <a:pt x="160" y="127"/>
                          <a:pt x="84" y="133"/>
                          <a:pt x="19" y="147"/>
                        </a:cubicBezTo>
                        <a:cubicBezTo>
                          <a:pt x="0" y="205"/>
                          <a:pt x="13" y="263"/>
                          <a:pt x="47" y="311"/>
                        </a:cubicBezTo>
                        <a:cubicBezTo>
                          <a:pt x="61" y="370"/>
                          <a:pt x="67" y="380"/>
                          <a:pt x="56" y="448"/>
                        </a:cubicBezTo>
                        <a:cubicBezTo>
                          <a:pt x="51" y="481"/>
                          <a:pt x="33" y="500"/>
                          <a:pt x="47" y="531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>
                    <a:off x="1447560" y="4876920"/>
                    <a:ext cx="631800" cy="11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384">
                        <a:moveTo>
                          <a:pt x="289" y="384"/>
                        </a:moveTo>
                        <a:cubicBezTo>
                          <a:pt x="333" y="369"/>
                          <a:pt x="426" y="357"/>
                          <a:pt x="426" y="357"/>
                        </a:cubicBezTo>
                        <a:cubicBezTo>
                          <a:pt x="462" y="332"/>
                          <a:pt x="470" y="327"/>
                          <a:pt x="481" y="284"/>
                        </a:cubicBezTo>
                        <a:cubicBezTo>
                          <a:pt x="475" y="258"/>
                          <a:pt x="473" y="187"/>
                          <a:pt x="444" y="174"/>
                        </a:cubicBezTo>
                        <a:cubicBezTo>
                          <a:pt x="402" y="155"/>
                          <a:pt x="353" y="162"/>
                          <a:pt x="307" y="156"/>
                        </a:cubicBezTo>
                        <a:cubicBezTo>
                          <a:pt x="222" y="145"/>
                          <a:pt x="136" y="139"/>
                          <a:pt x="51" y="128"/>
                        </a:cubicBezTo>
                        <a:cubicBezTo>
                          <a:pt x="0" y="94"/>
                          <a:pt x="15" y="67"/>
                          <a:pt x="60" y="37"/>
                        </a:cubicBezTo>
                        <a:cubicBezTo>
                          <a:pt x="124" y="40"/>
                          <a:pt x="188" y="41"/>
                          <a:pt x="252" y="46"/>
                        </a:cubicBezTo>
                        <a:cubicBezTo>
                          <a:pt x="262" y="47"/>
                          <a:pt x="273" y="62"/>
                          <a:pt x="280" y="55"/>
                        </a:cubicBezTo>
                        <a:cubicBezTo>
                          <a:pt x="294" y="41"/>
                          <a:pt x="298" y="0"/>
                          <a:pt x="298" y="0"/>
                        </a:cubicBezTo>
                        <a:cubicBezTo>
                          <a:pt x="304" y="9"/>
                          <a:pt x="316" y="28"/>
                          <a:pt x="316" y="2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1526760" y="4913280"/>
                    <a:ext cx="233640" cy="69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439">
                        <a:moveTo>
                          <a:pt x="147" y="439"/>
                        </a:moveTo>
                        <a:cubicBezTo>
                          <a:pt x="104" y="425"/>
                          <a:pt x="61" y="416"/>
                          <a:pt x="19" y="402"/>
                        </a:cubicBezTo>
                        <a:cubicBezTo>
                          <a:pt x="0" y="350"/>
                          <a:pt x="7" y="327"/>
                          <a:pt x="55" y="311"/>
                        </a:cubicBezTo>
                        <a:cubicBezTo>
                          <a:pt x="72" y="284"/>
                          <a:pt x="92" y="264"/>
                          <a:pt x="110" y="238"/>
                        </a:cubicBezTo>
                        <a:cubicBezTo>
                          <a:pt x="128" y="164"/>
                          <a:pt x="124" y="198"/>
                          <a:pt x="110" y="73"/>
                        </a:cubicBezTo>
                        <a:cubicBezTo>
                          <a:pt x="107" y="48"/>
                          <a:pt x="92" y="25"/>
                          <a:pt x="92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1803240" y="4884840"/>
                    <a:ext cx="415800" cy="12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768">
                        <a:moveTo>
                          <a:pt x="201" y="768"/>
                        </a:moveTo>
                        <a:cubicBezTo>
                          <a:pt x="208" y="694"/>
                          <a:pt x="214" y="610"/>
                          <a:pt x="238" y="539"/>
                        </a:cubicBezTo>
                        <a:cubicBezTo>
                          <a:pt x="249" y="447"/>
                          <a:pt x="262" y="314"/>
                          <a:pt x="174" y="256"/>
                        </a:cubicBezTo>
                        <a:cubicBezTo>
                          <a:pt x="160" y="213"/>
                          <a:pt x="147" y="226"/>
                          <a:pt x="110" y="201"/>
                        </a:cubicBezTo>
                        <a:cubicBezTo>
                          <a:pt x="93" y="147"/>
                          <a:pt x="93" y="139"/>
                          <a:pt x="37" y="118"/>
                        </a:cubicBezTo>
                        <a:cubicBezTo>
                          <a:pt x="0" y="83"/>
                          <a:pt x="0" y="46"/>
                          <a:pt x="0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365" name=""/>
          <p:cNvSpPr/>
          <p:nvPr/>
        </p:nvSpPr>
        <p:spPr>
          <a:xfrm rot="16200000">
            <a:off x="1615320" y="3337560"/>
            <a:ext cx="32832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6" name=""/>
          <p:cNvGrpSpPr/>
          <p:nvPr/>
        </p:nvGrpSpPr>
        <p:grpSpPr>
          <a:xfrm>
            <a:off x="685800" y="4010040"/>
            <a:ext cx="1846080" cy="838080"/>
            <a:chOff x="685800" y="4010040"/>
            <a:chExt cx="1846080" cy="838080"/>
          </a:xfrm>
        </p:grpSpPr>
        <p:sp>
          <p:nvSpPr>
            <p:cNvPr id="2367" name=""/>
            <p:cNvSpPr/>
            <p:nvPr/>
          </p:nvSpPr>
          <p:spPr>
            <a:xfrm>
              <a:off x="685800" y="4495680"/>
              <a:ext cx="380880" cy="3524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068560" y="4010040"/>
              <a:ext cx="46332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0" y="283"/>
                  </a:moveTo>
                  <a:cubicBezTo>
                    <a:pt x="62" y="292"/>
                    <a:pt x="87" y="286"/>
                    <a:pt x="146" y="274"/>
                  </a:cubicBezTo>
                  <a:cubicBezTo>
                    <a:pt x="175" y="255"/>
                    <a:pt x="217" y="229"/>
                    <a:pt x="238" y="201"/>
                  </a:cubicBezTo>
                  <a:cubicBezTo>
                    <a:pt x="251" y="183"/>
                    <a:pt x="274" y="146"/>
                    <a:pt x="274" y="146"/>
                  </a:cubicBezTo>
                  <a:cubicBezTo>
                    <a:pt x="292" y="74"/>
                    <a:pt x="283" y="122"/>
                    <a:pt x="283" y="0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92080" y="4300560"/>
              <a:ext cx="493560" cy="288720"/>
            </a:xfrm>
            <a:custGeom>
              <a:avLst/>
              <a:gdLst/>
              <a:ahLst/>
              <a:rect l="l" t="t" r="r" b="b"/>
              <a:pathLst>
                <a:path w="311" h="182">
                  <a:moveTo>
                    <a:pt x="311" y="27"/>
                  </a:moveTo>
                  <a:cubicBezTo>
                    <a:pt x="261" y="10"/>
                    <a:pt x="208" y="8"/>
                    <a:pt x="156" y="0"/>
                  </a:cubicBezTo>
                  <a:cubicBezTo>
                    <a:pt x="109" y="8"/>
                    <a:pt x="84" y="10"/>
                    <a:pt x="46" y="36"/>
                  </a:cubicBezTo>
                  <a:cubicBezTo>
                    <a:pt x="17" y="81"/>
                    <a:pt x="0" y="129"/>
                    <a:pt x="0" y="182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0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419112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419112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434340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556272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388620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54100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40384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419112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312408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 rot="21314400">
            <a:off x="601956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487692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152280" y="76320"/>
            <a:ext cx="3733920" cy="3047760"/>
          </a:xfrm>
          <a:prstGeom prst="wedgeEllipseCallout">
            <a:avLst>
              <a:gd name="adj1" fmla="val 50083"/>
              <a:gd name="adj2" fmla="val 50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up! I guess we’re on a lifelong quest to do our b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 rot="16200000">
            <a:off x="4800600" y="2819160"/>
            <a:ext cx="22860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338" y="1628"/>
                  <a:pt x="9075" y="5080"/>
                  <a:pt x="9075" y="10800"/>
                </a:cubicBezTo>
                <a:cubicBezTo>
                  <a:pt x="9075" y="16520"/>
                  <a:pt x="15338" y="1997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7543800" y="4191120"/>
            <a:ext cx="457200" cy="30456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0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6781680" y="293364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708660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69608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777240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71629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7162920" y="4610160"/>
            <a:ext cx="914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 rot="9534600">
            <a:off x="6933960" y="262872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 rot="11531400">
            <a:off x="7238520" y="262836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 rot="13149000">
            <a:off x="73911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 rot="14453400">
            <a:off x="76197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7162920" y="53722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68580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77724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6400800" y="4457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8381880" y="49150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2286000" y="3733920"/>
            <a:ext cx="38088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789480" y="1828800"/>
            <a:ext cx="1824120" cy="4543560"/>
            <a:chOff x="789480" y="1828800"/>
            <a:chExt cx="1824120" cy="4543560"/>
          </a:xfrm>
        </p:grpSpPr>
        <p:grpSp>
          <p:nvGrpSpPr>
            <p:cNvPr id="2410" name=""/>
            <p:cNvGrpSpPr/>
            <p:nvPr/>
          </p:nvGrpSpPr>
          <p:grpSpPr>
            <a:xfrm>
              <a:off x="789480" y="1828800"/>
              <a:ext cx="1824120" cy="3200400"/>
              <a:chOff x="789480" y="1828800"/>
              <a:chExt cx="1824120" cy="3200400"/>
            </a:xfrm>
          </p:grpSpPr>
          <p:sp>
            <p:nvSpPr>
              <p:cNvPr id="2411" name=""/>
              <p:cNvSpPr/>
              <p:nvPr/>
            </p:nvSpPr>
            <p:spPr>
              <a:xfrm>
                <a:off x="914040" y="1828800"/>
                <a:ext cx="1600200" cy="2057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rot="19351800">
                <a:off x="99000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rot="1925400">
                <a:off x="190404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1218600" y="4114800"/>
                <a:ext cx="990720" cy="914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flipH="1">
                <a:off x="1675800" y="3733560"/>
                <a:ext cx="76320" cy="533520"/>
              </a:xfrm>
              <a:prstGeom prst="line">
                <a:avLst/>
              </a:prstGeom>
              <a:ln w="1620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6" name=""/>
            <p:cNvGrpSpPr/>
            <p:nvPr/>
          </p:nvGrpSpPr>
          <p:grpSpPr>
            <a:xfrm>
              <a:off x="838080" y="4876920"/>
              <a:ext cx="1752480" cy="1495440"/>
              <a:chOff x="838080" y="4876920"/>
              <a:chExt cx="1752480" cy="1495440"/>
            </a:xfrm>
          </p:grpSpPr>
          <p:grpSp>
            <p:nvGrpSpPr>
              <p:cNvPr id="2417" name=""/>
              <p:cNvGrpSpPr/>
              <p:nvPr/>
            </p:nvGrpSpPr>
            <p:grpSpPr>
              <a:xfrm>
                <a:off x="838080" y="5562720"/>
                <a:ext cx="1752480" cy="809640"/>
                <a:chOff x="838080" y="5562720"/>
                <a:chExt cx="1752480" cy="809640"/>
              </a:xfrm>
            </p:grpSpPr>
            <p:sp>
              <p:nvSpPr>
                <p:cNvPr id="2418" name=""/>
                <p:cNvSpPr/>
                <p:nvPr/>
              </p:nvSpPr>
              <p:spPr>
                <a:xfrm>
                  <a:off x="1523880" y="59436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2209680" y="57150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1523880" y="55627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838080" y="57913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1981080" y="60199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3" name=""/>
              <p:cNvGrpSpPr/>
              <p:nvPr/>
            </p:nvGrpSpPr>
            <p:grpSpPr>
              <a:xfrm>
                <a:off x="988920" y="4876920"/>
                <a:ext cx="1438200" cy="1226880"/>
                <a:chOff x="988920" y="4876920"/>
                <a:chExt cx="1438200" cy="1226880"/>
              </a:xfrm>
            </p:grpSpPr>
            <p:sp>
              <p:nvSpPr>
                <p:cNvPr id="2424" name=""/>
                <p:cNvSpPr/>
                <p:nvPr/>
              </p:nvSpPr>
              <p:spPr>
                <a:xfrm>
                  <a:off x="1977840" y="4898880"/>
                  <a:ext cx="449280" cy="903600"/>
                </a:xfrm>
                <a:custGeom>
                  <a:avLst/>
                  <a:gdLst/>
                  <a:ahLst/>
                  <a:rect l="l" t="t" r="r" b="b"/>
                  <a:pathLst>
                    <a:path w="283" h="569">
                      <a:moveTo>
                        <a:pt x="0" y="0"/>
                      </a:moveTo>
                      <a:cubicBezTo>
                        <a:pt x="46" y="70"/>
                        <a:pt x="59" y="71"/>
                        <a:pt x="128" y="119"/>
                      </a:cubicBezTo>
                      <a:cubicBezTo>
                        <a:pt x="146" y="132"/>
                        <a:pt x="183" y="155"/>
                        <a:pt x="183" y="155"/>
                      </a:cubicBezTo>
                      <a:cubicBezTo>
                        <a:pt x="233" y="231"/>
                        <a:pt x="209" y="216"/>
                        <a:pt x="237" y="301"/>
                      </a:cubicBezTo>
                      <a:cubicBezTo>
                        <a:pt x="248" y="383"/>
                        <a:pt x="245" y="466"/>
                        <a:pt x="256" y="548"/>
                      </a:cubicBezTo>
                      <a:cubicBezTo>
                        <a:pt x="259" y="569"/>
                        <a:pt x="271" y="567"/>
                        <a:pt x="283" y="567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25" name=""/>
                <p:cNvGrpSpPr/>
                <p:nvPr/>
              </p:nvGrpSpPr>
              <p:grpSpPr>
                <a:xfrm>
                  <a:off x="988920" y="4876920"/>
                  <a:ext cx="1230120" cy="1226880"/>
                  <a:chOff x="988920" y="4876920"/>
                  <a:chExt cx="1230120" cy="1226880"/>
                </a:xfrm>
              </p:grpSpPr>
              <p:sp>
                <p:nvSpPr>
                  <p:cNvPr id="2426" name=""/>
                  <p:cNvSpPr/>
                  <p:nvPr/>
                </p:nvSpPr>
                <p:spPr>
                  <a:xfrm>
                    <a:off x="988920" y="4956120"/>
                    <a:ext cx="480960" cy="84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531">
                        <a:moveTo>
                          <a:pt x="303" y="0"/>
                        </a:moveTo>
                        <a:cubicBezTo>
                          <a:pt x="294" y="12"/>
                          <a:pt x="247" y="89"/>
                          <a:pt x="220" y="101"/>
                        </a:cubicBezTo>
                        <a:cubicBezTo>
                          <a:pt x="160" y="127"/>
                          <a:pt x="84" y="133"/>
                          <a:pt x="19" y="147"/>
                        </a:cubicBezTo>
                        <a:cubicBezTo>
                          <a:pt x="0" y="205"/>
                          <a:pt x="13" y="263"/>
                          <a:pt x="47" y="311"/>
                        </a:cubicBezTo>
                        <a:cubicBezTo>
                          <a:pt x="61" y="370"/>
                          <a:pt x="67" y="380"/>
                          <a:pt x="56" y="448"/>
                        </a:cubicBezTo>
                        <a:cubicBezTo>
                          <a:pt x="51" y="481"/>
                          <a:pt x="33" y="500"/>
                          <a:pt x="47" y="531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"/>
                  <p:cNvSpPr/>
                  <p:nvPr/>
                </p:nvSpPr>
                <p:spPr>
                  <a:xfrm>
                    <a:off x="1447560" y="4876920"/>
                    <a:ext cx="631800" cy="11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384">
                        <a:moveTo>
                          <a:pt x="289" y="384"/>
                        </a:moveTo>
                        <a:cubicBezTo>
                          <a:pt x="333" y="369"/>
                          <a:pt x="426" y="357"/>
                          <a:pt x="426" y="357"/>
                        </a:cubicBezTo>
                        <a:cubicBezTo>
                          <a:pt x="462" y="332"/>
                          <a:pt x="470" y="327"/>
                          <a:pt x="481" y="284"/>
                        </a:cubicBezTo>
                        <a:cubicBezTo>
                          <a:pt x="475" y="258"/>
                          <a:pt x="473" y="187"/>
                          <a:pt x="444" y="174"/>
                        </a:cubicBezTo>
                        <a:cubicBezTo>
                          <a:pt x="402" y="155"/>
                          <a:pt x="353" y="162"/>
                          <a:pt x="307" y="156"/>
                        </a:cubicBezTo>
                        <a:cubicBezTo>
                          <a:pt x="222" y="145"/>
                          <a:pt x="136" y="139"/>
                          <a:pt x="51" y="128"/>
                        </a:cubicBezTo>
                        <a:cubicBezTo>
                          <a:pt x="0" y="94"/>
                          <a:pt x="15" y="67"/>
                          <a:pt x="60" y="37"/>
                        </a:cubicBezTo>
                        <a:cubicBezTo>
                          <a:pt x="124" y="40"/>
                          <a:pt x="188" y="41"/>
                          <a:pt x="252" y="46"/>
                        </a:cubicBezTo>
                        <a:cubicBezTo>
                          <a:pt x="262" y="47"/>
                          <a:pt x="273" y="62"/>
                          <a:pt x="280" y="55"/>
                        </a:cubicBezTo>
                        <a:cubicBezTo>
                          <a:pt x="294" y="41"/>
                          <a:pt x="298" y="0"/>
                          <a:pt x="298" y="0"/>
                        </a:cubicBezTo>
                        <a:cubicBezTo>
                          <a:pt x="304" y="9"/>
                          <a:pt x="316" y="28"/>
                          <a:pt x="316" y="2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>
                    <a:off x="1526760" y="4913280"/>
                    <a:ext cx="233640" cy="69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439">
                        <a:moveTo>
                          <a:pt x="147" y="439"/>
                        </a:moveTo>
                        <a:cubicBezTo>
                          <a:pt x="104" y="425"/>
                          <a:pt x="61" y="416"/>
                          <a:pt x="19" y="402"/>
                        </a:cubicBezTo>
                        <a:cubicBezTo>
                          <a:pt x="0" y="350"/>
                          <a:pt x="7" y="327"/>
                          <a:pt x="55" y="311"/>
                        </a:cubicBezTo>
                        <a:cubicBezTo>
                          <a:pt x="72" y="284"/>
                          <a:pt x="92" y="264"/>
                          <a:pt x="110" y="238"/>
                        </a:cubicBezTo>
                        <a:cubicBezTo>
                          <a:pt x="128" y="164"/>
                          <a:pt x="124" y="198"/>
                          <a:pt x="110" y="73"/>
                        </a:cubicBezTo>
                        <a:cubicBezTo>
                          <a:pt x="107" y="48"/>
                          <a:pt x="92" y="25"/>
                          <a:pt x="92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>
                    <a:off x="1803240" y="4884840"/>
                    <a:ext cx="415800" cy="12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768">
                        <a:moveTo>
                          <a:pt x="201" y="768"/>
                        </a:moveTo>
                        <a:cubicBezTo>
                          <a:pt x="208" y="694"/>
                          <a:pt x="214" y="610"/>
                          <a:pt x="238" y="539"/>
                        </a:cubicBezTo>
                        <a:cubicBezTo>
                          <a:pt x="249" y="447"/>
                          <a:pt x="262" y="314"/>
                          <a:pt x="174" y="256"/>
                        </a:cubicBezTo>
                        <a:cubicBezTo>
                          <a:pt x="160" y="213"/>
                          <a:pt x="147" y="226"/>
                          <a:pt x="110" y="201"/>
                        </a:cubicBezTo>
                        <a:cubicBezTo>
                          <a:pt x="93" y="147"/>
                          <a:pt x="93" y="139"/>
                          <a:pt x="37" y="118"/>
                        </a:cubicBezTo>
                        <a:cubicBezTo>
                          <a:pt x="0" y="83"/>
                          <a:pt x="0" y="46"/>
                          <a:pt x="0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30" name=""/>
          <p:cNvSpPr/>
          <p:nvPr/>
        </p:nvSpPr>
        <p:spPr>
          <a:xfrm rot="16200000">
            <a:off x="1615320" y="3337560"/>
            <a:ext cx="32832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1" name=""/>
          <p:cNvGrpSpPr/>
          <p:nvPr/>
        </p:nvGrpSpPr>
        <p:grpSpPr>
          <a:xfrm>
            <a:off x="685800" y="4010040"/>
            <a:ext cx="1846080" cy="838080"/>
            <a:chOff x="685800" y="4010040"/>
            <a:chExt cx="1846080" cy="838080"/>
          </a:xfrm>
        </p:grpSpPr>
        <p:sp>
          <p:nvSpPr>
            <p:cNvPr id="2432" name=""/>
            <p:cNvSpPr/>
            <p:nvPr/>
          </p:nvSpPr>
          <p:spPr>
            <a:xfrm>
              <a:off x="685800" y="4495680"/>
              <a:ext cx="380880" cy="3524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068560" y="4010040"/>
              <a:ext cx="46332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0" y="283"/>
                  </a:moveTo>
                  <a:cubicBezTo>
                    <a:pt x="62" y="292"/>
                    <a:pt x="87" y="286"/>
                    <a:pt x="146" y="274"/>
                  </a:cubicBezTo>
                  <a:cubicBezTo>
                    <a:pt x="175" y="255"/>
                    <a:pt x="217" y="229"/>
                    <a:pt x="238" y="201"/>
                  </a:cubicBezTo>
                  <a:cubicBezTo>
                    <a:pt x="251" y="183"/>
                    <a:pt x="274" y="146"/>
                    <a:pt x="274" y="146"/>
                  </a:cubicBezTo>
                  <a:cubicBezTo>
                    <a:pt x="292" y="74"/>
                    <a:pt x="283" y="122"/>
                    <a:pt x="283" y="0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92080" y="4300560"/>
              <a:ext cx="493560" cy="288720"/>
            </a:xfrm>
            <a:custGeom>
              <a:avLst/>
              <a:gdLst/>
              <a:ahLst/>
              <a:rect l="l" t="t" r="r" b="b"/>
              <a:pathLst>
                <a:path w="311" h="182">
                  <a:moveTo>
                    <a:pt x="311" y="27"/>
                  </a:moveTo>
                  <a:cubicBezTo>
                    <a:pt x="261" y="10"/>
                    <a:pt x="208" y="8"/>
                    <a:pt x="156" y="0"/>
                  </a:cubicBezTo>
                  <a:cubicBezTo>
                    <a:pt x="109" y="8"/>
                    <a:pt x="84" y="10"/>
                    <a:pt x="46" y="36"/>
                  </a:cubicBezTo>
                  <a:cubicBezTo>
                    <a:pt x="17" y="81"/>
                    <a:pt x="0" y="129"/>
                    <a:pt x="0" y="182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5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419112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419112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434340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556272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388620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54100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40384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419112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312408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 rot="21314400">
            <a:off x="601956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487692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 rot="16200000">
            <a:off x="4800600" y="2819160"/>
            <a:ext cx="22860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338" y="1628"/>
                  <a:pt x="9075" y="5080"/>
                  <a:pt x="9075" y="10800"/>
                </a:cubicBezTo>
                <a:cubicBezTo>
                  <a:pt x="9075" y="16520"/>
                  <a:pt x="15338" y="1997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304920" y="304920"/>
            <a:ext cx="3733560" cy="4876560"/>
          </a:xfrm>
          <a:prstGeom prst="wedgeEllipseCallout">
            <a:avLst>
              <a:gd name="adj1" fmla="val 127634"/>
              <a:gd name="adj2" fmla="val 308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we’re given tons of ways to serve God and others everyday along the 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7543800" y="4191120"/>
            <a:ext cx="457200" cy="30456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0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6781680" y="293364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708660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769608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777240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71629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7162920" y="4610160"/>
            <a:ext cx="914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 rot="9534600">
            <a:off x="6933960" y="262872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rot="11531400">
            <a:off x="7238520" y="262836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 rot="13149000">
            <a:off x="73911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rot="14453400">
            <a:off x="76197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7162920" y="53722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68580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77724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6400800" y="4457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8381880" y="49150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2286000" y="3733920"/>
            <a:ext cx="38088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4" name=""/>
          <p:cNvGrpSpPr/>
          <p:nvPr/>
        </p:nvGrpSpPr>
        <p:grpSpPr>
          <a:xfrm>
            <a:off x="789480" y="1828800"/>
            <a:ext cx="1824120" cy="4543560"/>
            <a:chOff x="789480" y="1828800"/>
            <a:chExt cx="1824120" cy="4543560"/>
          </a:xfrm>
        </p:grpSpPr>
        <p:grpSp>
          <p:nvGrpSpPr>
            <p:cNvPr id="2475" name=""/>
            <p:cNvGrpSpPr/>
            <p:nvPr/>
          </p:nvGrpSpPr>
          <p:grpSpPr>
            <a:xfrm>
              <a:off x="789480" y="1828800"/>
              <a:ext cx="1824120" cy="3200400"/>
              <a:chOff x="789480" y="1828800"/>
              <a:chExt cx="1824120" cy="3200400"/>
            </a:xfrm>
          </p:grpSpPr>
          <p:sp>
            <p:nvSpPr>
              <p:cNvPr id="2476" name=""/>
              <p:cNvSpPr/>
              <p:nvPr/>
            </p:nvSpPr>
            <p:spPr>
              <a:xfrm>
                <a:off x="914040" y="1828800"/>
                <a:ext cx="1600200" cy="2057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rot="19351800">
                <a:off x="99000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rot="1925400">
                <a:off x="190404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218600" y="4114800"/>
                <a:ext cx="990720" cy="914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>
                <a:off x="1675800" y="3733560"/>
                <a:ext cx="76320" cy="533520"/>
              </a:xfrm>
              <a:prstGeom prst="line">
                <a:avLst/>
              </a:prstGeom>
              <a:ln w="1620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1" name=""/>
            <p:cNvGrpSpPr/>
            <p:nvPr/>
          </p:nvGrpSpPr>
          <p:grpSpPr>
            <a:xfrm>
              <a:off x="838080" y="4876920"/>
              <a:ext cx="1752480" cy="1495440"/>
              <a:chOff x="838080" y="4876920"/>
              <a:chExt cx="1752480" cy="1495440"/>
            </a:xfrm>
          </p:grpSpPr>
          <p:grpSp>
            <p:nvGrpSpPr>
              <p:cNvPr id="2482" name=""/>
              <p:cNvGrpSpPr/>
              <p:nvPr/>
            </p:nvGrpSpPr>
            <p:grpSpPr>
              <a:xfrm>
                <a:off x="838080" y="5562720"/>
                <a:ext cx="1752480" cy="809640"/>
                <a:chOff x="838080" y="5562720"/>
                <a:chExt cx="1752480" cy="809640"/>
              </a:xfrm>
            </p:grpSpPr>
            <p:sp>
              <p:nvSpPr>
                <p:cNvPr id="2483" name=""/>
                <p:cNvSpPr/>
                <p:nvPr/>
              </p:nvSpPr>
              <p:spPr>
                <a:xfrm>
                  <a:off x="1523880" y="59436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2209680" y="57150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1523880" y="55627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838080" y="57913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1981080" y="60199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8" name=""/>
              <p:cNvGrpSpPr/>
              <p:nvPr/>
            </p:nvGrpSpPr>
            <p:grpSpPr>
              <a:xfrm>
                <a:off x="988920" y="4876920"/>
                <a:ext cx="1438200" cy="1226880"/>
                <a:chOff x="988920" y="4876920"/>
                <a:chExt cx="1438200" cy="1226880"/>
              </a:xfrm>
            </p:grpSpPr>
            <p:sp>
              <p:nvSpPr>
                <p:cNvPr id="2489" name=""/>
                <p:cNvSpPr/>
                <p:nvPr/>
              </p:nvSpPr>
              <p:spPr>
                <a:xfrm>
                  <a:off x="1977840" y="4898880"/>
                  <a:ext cx="449280" cy="903600"/>
                </a:xfrm>
                <a:custGeom>
                  <a:avLst/>
                  <a:gdLst/>
                  <a:ahLst/>
                  <a:rect l="l" t="t" r="r" b="b"/>
                  <a:pathLst>
                    <a:path w="283" h="569">
                      <a:moveTo>
                        <a:pt x="0" y="0"/>
                      </a:moveTo>
                      <a:cubicBezTo>
                        <a:pt x="46" y="70"/>
                        <a:pt x="59" y="71"/>
                        <a:pt x="128" y="119"/>
                      </a:cubicBezTo>
                      <a:cubicBezTo>
                        <a:pt x="146" y="132"/>
                        <a:pt x="183" y="155"/>
                        <a:pt x="183" y="155"/>
                      </a:cubicBezTo>
                      <a:cubicBezTo>
                        <a:pt x="233" y="231"/>
                        <a:pt x="209" y="216"/>
                        <a:pt x="237" y="301"/>
                      </a:cubicBezTo>
                      <a:cubicBezTo>
                        <a:pt x="248" y="383"/>
                        <a:pt x="245" y="466"/>
                        <a:pt x="256" y="548"/>
                      </a:cubicBezTo>
                      <a:cubicBezTo>
                        <a:pt x="259" y="569"/>
                        <a:pt x="271" y="567"/>
                        <a:pt x="283" y="567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0" name=""/>
                <p:cNvGrpSpPr/>
                <p:nvPr/>
              </p:nvGrpSpPr>
              <p:grpSpPr>
                <a:xfrm>
                  <a:off x="988920" y="4876920"/>
                  <a:ext cx="1230120" cy="1226880"/>
                  <a:chOff x="988920" y="4876920"/>
                  <a:chExt cx="1230120" cy="1226880"/>
                </a:xfrm>
              </p:grpSpPr>
              <p:sp>
                <p:nvSpPr>
                  <p:cNvPr id="2491" name=""/>
                  <p:cNvSpPr/>
                  <p:nvPr/>
                </p:nvSpPr>
                <p:spPr>
                  <a:xfrm>
                    <a:off x="988920" y="4956120"/>
                    <a:ext cx="480960" cy="84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531">
                        <a:moveTo>
                          <a:pt x="303" y="0"/>
                        </a:moveTo>
                        <a:cubicBezTo>
                          <a:pt x="294" y="12"/>
                          <a:pt x="247" y="89"/>
                          <a:pt x="220" y="101"/>
                        </a:cubicBezTo>
                        <a:cubicBezTo>
                          <a:pt x="160" y="127"/>
                          <a:pt x="84" y="133"/>
                          <a:pt x="19" y="147"/>
                        </a:cubicBezTo>
                        <a:cubicBezTo>
                          <a:pt x="0" y="205"/>
                          <a:pt x="13" y="263"/>
                          <a:pt x="47" y="311"/>
                        </a:cubicBezTo>
                        <a:cubicBezTo>
                          <a:pt x="61" y="370"/>
                          <a:pt x="67" y="380"/>
                          <a:pt x="56" y="448"/>
                        </a:cubicBezTo>
                        <a:cubicBezTo>
                          <a:pt x="51" y="481"/>
                          <a:pt x="33" y="500"/>
                          <a:pt x="47" y="531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1447560" y="4876920"/>
                    <a:ext cx="631800" cy="11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384">
                        <a:moveTo>
                          <a:pt x="289" y="384"/>
                        </a:moveTo>
                        <a:cubicBezTo>
                          <a:pt x="333" y="369"/>
                          <a:pt x="426" y="357"/>
                          <a:pt x="426" y="357"/>
                        </a:cubicBezTo>
                        <a:cubicBezTo>
                          <a:pt x="462" y="332"/>
                          <a:pt x="470" y="327"/>
                          <a:pt x="481" y="284"/>
                        </a:cubicBezTo>
                        <a:cubicBezTo>
                          <a:pt x="475" y="258"/>
                          <a:pt x="473" y="187"/>
                          <a:pt x="444" y="174"/>
                        </a:cubicBezTo>
                        <a:cubicBezTo>
                          <a:pt x="402" y="155"/>
                          <a:pt x="353" y="162"/>
                          <a:pt x="307" y="156"/>
                        </a:cubicBezTo>
                        <a:cubicBezTo>
                          <a:pt x="222" y="145"/>
                          <a:pt x="136" y="139"/>
                          <a:pt x="51" y="128"/>
                        </a:cubicBezTo>
                        <a:cubicBezTo>
                          <a:pt x="0" y="94"/>
                          <a:pt x="15" y="67"/>
                          <a:pt x="60" y="37"/>
                        </a:cubicBezTo>
                        <a:cubicBezTo>
                          <a:pt x="124" y="40"/>
                          <a:pt x="188" y="41"/>
                          <a:pt x="252" y="46"/>
                        </a:cubicBezTo>
                        <a:cubicBezTo>
                          <a:pt x="262" y="47"/>
                          <a:pt x="273" y="62"/>
                          <a:pt x="280" y="55"/>
                        </a:cubicBezTo>
                        <a:cubicBezTo>
                          <a:pt x="294" y="41"/>
                          <a:pt x="298" y="0"/>
                          <a:pt x="298" y="0"/>
                        </a:cubicBezTo>
                        <a:cubicBezTo>
                          <a:pt x="304" y="9"/>
                          <a:pt x="316" y="28"/>
                          <a:pt x="316" y="2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>
                    <a:off x="1526760" y="4913280"/>
                    <a:ext cx="233640" cy="69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439">
                        <a:moveTo>
                          <a:pt x="147" y="439"/>
                        </a:moveTo>
                        <a:cubicBezTo>
                          <a:pt x="104" y="425"/>
                          <a:pt x="61" y="416"/>
                          <a:pt x="19" y="402"/>
                        </a:cubicBezTo>
                        <a:cubicBezTo>
                          <a:pt x="0" y="350"/>
                          <a:pt x="7" y="327"/>
                          <a:pt x="55" y="311"/>
                        </a:cubicBezTo>
                        <a:cubicBezTo>
                          <a:pt x="72" y="284"/>
                          <a:pt x="92" y="264"/>
                          <a:pt x="110" y="238"/>
                        </a:cubicBezTo>
                        <a:cubicBezTo>
                          <a:pt x="128" y="164"/>
                          <a:pt x="124" y="198"/>
                          <a:pt x="110" y="73"/>
                        </a:cubicBezTo>
                        <a:cubicBezTo>
                          <a:pt x="107" y="48"/>
                          <a:pt x="92" y="25"/>
                          <a:pt x="92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"/>
                  <p:cNvSpPr/>
                  <p:nvPr/>
                </p:nvSpPr>
                <p:spPr>
                  <a:xfrm>
                    <a:off x="1803240" y="4884840"/>
                    <a:ext cx="415800" cy="12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768">
                        <a:moveTo>
                          <a:pt x="201" y="768"/>
                        </a:moveTo>
                        <a:cubicBezTo>
                          <a:pt x="208" y="694"/>
                          <a:pt x="214" y="610"/>
                          <a:pt x="238" y="539"/>
                        </a:cubicBezTo>
                        <a:cubicBezTo>
                          <a:pt x="249" y="447"/>
                          <a:pt x="262" y="314"/>
                          <a:pt x="174" y="256"/>
                        </a:cubicBezTo>
                        <a:cubicBezTo>
                          <a:pt x="160" y="213"/>
                          <a:pt x="147" y="226"/>
                          <a:pt x="110" y="201"/>
                        </a:cubicBezTo>
                        <a:cubicBezTo>
                          <a:pt x="93" y="147"/>
                          <a:pt x="93" y="139"/>
                          <a:pt x="37" y="118"/>
                        </a:cubicBezTo>
                        <a:cubicBezTo>
                          <a:pt x="0" y="83"/>
                          <a:pt x="0" y="46"/>
                          <a:pt x="0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95" name=""/>
          <p:cNvSpPr/>
          <p:nvPr/>
        </p:nvSpPr>
        <p:spPr>
          <a:xfrm rot="16200000">
            <a:off x="1615320" y="3337560"/>
            <a:ext cx="32832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685800" y="4010040"/>
            <a:ext cx="1846080" cy="838080"/>
            <a:chOff x="685800" y="4010040"/>
            <a:chExt cx="1846080" cy="838080"/>
          </a:xfrm>
        </p:grpSpPr>
        <p:sp>
          <p:nvSpPr>
            <p:cNvPr id="2497" name=""/>
            <p:cNvSpPr/>
            <p:nvPr/>
          </p:nvSpPr>
          <p:spPr>
            <a:xfrm>
              <a:off x="685800" y="4495680"/>
              <a:ext cx="380880" cy="3524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068560" y="4010040"/>
              <a:ext cx="46332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0" y="283"/>
                  </a:moveTo>
                  <a:cubicBezTo>
                    <a:pt x="62" y="292"/>
                    <a:pt x="87" y="286"/>
                    <a:pt x="146" y="274"/>
                  </a:cubicBezTo>
                  <a:cubicBezTo>
                    <a:pt x="175" y="255"/>
                    <a:pt x="217" y="229"/>
                    <a:pt x="238" y="201"/>
                  </a:cubicBezTo>
                  <a:cubicBezTo>
                    <a:pt x="251" y="183"/>
                    <a:pt x="274" y="146"/>
                    <a:pt x="274" y="146"/>
                  </a:cubicBezTo>
                  <a:cubicBezTo>
                    <a:pt x="292" y="74"/>
                    <a:pt x="283" y="122"/>
                    <a:pt x="283" y="0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92080" y="4300560"/>
              <a:ext cx="493560" cy="288720"/>
            </a:xfrm>
            <a:custGeom>
              <a:avLst/>
              <a:gdLst/>
              <a:ahLst/>
              <a:rect l="l" t="t" r="r" b="b"/>
              <a:pathLst>
                <a:path w="311" h="182">
                  <a:moveTo>
                    <a:pt x="311" y="27"/>
                  </a:moveTo>
                  <a:cubicBezTo>
                    <a:pt x="261" y="10"/>
                    <a:pt x="208" y="8"/>
                    <a:pt x="156" y="0"/>
                  </a:cubicBezTo>
                  <a:cubicBezTo>
                    <a:pt x="109" y="8"/>
                    <a:pt x="84" y="10"/>
                    <a:pt x="46" y="36"/>
                  </a:cubicBezTo>
                  <a:cubicBezTo>
                    <a:pt x="17" y="81"/>
                    <a:pt x="0" y="129"/>
                    <a:pt x="0" y="182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0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419112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419112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434340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556272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88620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54100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40384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419112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312408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 rot="21314400">
            <a:off x="601956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487692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 rot="16200000">
            <a:off x="4800600" y="2819160"/>
            <a:ext cx="22860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338" y="1628"/>
                  <a:pt x="9075" y="5080"/>
                  <a:pt x="9075" y="10800"/>
                </a:cubicBezTo>
                <a:cubicBezTo>
                  <a:pt x="9075" y="16520"/>
                  <a:pt x="15338" y="1997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5334120" y="76320"/>
            <a:ext cx="3733560" cy="3200400"/>
          </a:xfrm>
          <a:prstGeom prst="wedgeEllipseCallout">
            <a:avLst>
              <a:gd name="adj1" fmla="val -47365"/>
              <a:gd name="adj2" fmla="val 48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matter where you live in the Milky 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7543800" y="4191120"/>
            <a:ext cx="457200" cy="30456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0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6781680" y="293364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708660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769608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777240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71629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7162920" y="4610160"/>
            <a:ext cx="914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rot="9534600">
            <a:off x="6933960" y="262872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 rot="11531400">
            <a:off x="7238520" y="262836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 rot="13149000">
            <a:off x="73911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 rot="14453400">
            <a:off x="76197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7162920" y="53722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68580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77724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6400800" y="4457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8381880" y="49150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2286000" y="3733920"/>
            <a:ext cx="38088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9" name=""/>
          <p:cNvGrpSpPr/>
          <p:nvPr/>
        </p:nvGrpSpPr>
        <p:grpSpPr>
          <a:xfrm>
            <a:off x="789480" y="1828800"/>
            <a:ext cx="1824120" cy="4543560"/>
            <a:chOff x="789480" y="1828800"/>
            <a:chExt cx="1824120" cy="4543560"/>
          </a:xfrm>
        </p:grpSpPr>
        <p:grpSp>
          <p:nvGrpSpPr>
            <p:cNvPr id="2540" name=""/>
            <p:cNvGrpSpPr/>
            <p:nvPr/>
          </p:nvGrpSpPr>
          <p:grpSpPr>
            <a:xfrm>
              <a:off x="789480" y="1828800"/>
              <a:ext cx="1824120" cy="3200400"/>
              <a:chOff x="789480" y="1828800"/>
              <a:chExt cx="1824120" cy="3200400"/>
            </a:xfrm>
          </p:grpSpPr>
          <p:sp>
            <p:nvSpPr>
              <p:cNvPr id="2541" name=""/>
              <p:cNvSpPr/>
              <p:nvPr/>
            </p:nvSpPr>
            <p:spPr>
              <a:xfrm>
                <a:off x="914040" y="1828800"/>
                <a:ext cx="1600200" cy="2057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rot="19351800">
                <a:off x="99000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rot="1925400">
                <a:off x="190404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1218600" y="4114800"/>
                <a:ext cx="990720" cy="914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H="1">
                <a:off x="1675800" y="3733560"/>
                <a:ext cx="76320" cy="533520"/>
              </a:xfrm>
              <a:prstGeom prst="line">
                <a:avLst/>
              </a:prstGeom>
              <a:ln w="1620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6" name=""/>
            <p:cNvGrpSpPr/>
            <p:nvPr/>
          </p:nvGrpSpPr>
          <p:grpSpPr>
            <a:xfrm>
              <a:off x="838080" y="4876920"/>
              <a:ext cx="1752480" cy="1495440"/>
              <a:chOff x="838080" y="4876920"/>
              <a:chExt cx="1752480" cy="1495440"/>
            </a:xfrm>
          </p:grpSpPr>
          <p:grpSp>
            <p:nvGrpSpPr>
              <p:cNvPr id="2547" name=""/>
              <p:cNvGrpSpPr/>
              <p:nvPr/>
            </p:nvGrpSpPr>
            <p:grpSpPr>
              <a:xfrm>
                <a:off x="838080" y="5562720"/>
                <a:ext cx="1752480" cy="809640"/>
                <a:chOff x="838080" y="5562720"/>
                <a:chExt cx="1752480" cy="809640"/>
              </a:xfrm>
            </p:grpSpPr>
            <p:sp>
              <p:nvSpPr>
                <p:cNvPr id="2548" name=""/>
                <p:cNvSpPr/>
                <p:nvPr/>
              </p:nvSpPr>
              <p:spPr>
                <a:xfrm>
                  <a:off x="1523880" y="59436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2209680" y="57150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1523880" y="55627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838080" y="57913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1981080" y="60199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3" name=""/>
              <p:cNvGrpSpPr/>
              <p:nvPr/>
            </p:nvGrpSpPr>
            <p:grpSpPr>
              <a:xfrm>
                <a:off x="988920" y="4876920"/>
                <a:ext cx="1438200" cy="1226880"/>
                <a:chOff x="988920" y="4876920"/>
                <a:chExt cx="1438200" cy="122688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1977840" y="4898880"/>
                  <a:ext cx="449280" cy="903600"/>
                </a:xfrm>
                <a:custGeom>
                  <a:avLst/>
                  <a:gdLst/>
                  <a:ahLst/>
                  <a:rect l="l" t="t" r="r" b="b"/>
                  <a:pathLst>
                    <a:path w="283" h="569">
                      <a:moveTo>
                        <a:pt x="0" y="0"/>
                      </a:moveTo>
                      <a:cubicBezTo>
                        <a:pt x="46" y="70"/>
                        <a:pt x="59" y="71"/>
                        <a:pt x="128" y="119"/>
                      </a:cubicBezTo>
                      <a:cubicBezTo>
                        <a:pt x="146" y="132"/>
                        <a:pt x="183" y="155"/>
                        <a:pt x="183" y="155"/>
                      </a:cubicBezTo>
                      <a:cubicBezTo>
                        <a:pt x="233" y="231"/>
                        <a:pt x="209" y="216"/>
                        <a:pt x="237" y="301"/>
                      </a:cubicBezTo>
                      <a:cubicBezTo>
                        <a:pt x="248" y="383"/>
                        <a:pt x="245" y="466"/>
                        <a:pt x="256" y="548"/>
                      </a:cubicBezTo>
                      <a:cubicBezTo>
                        <a:pt x="259" y="569"/>
                        <a:pt x="271" y="567"/>
                        <a:pt x="283" y="567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55" name=""/>
                <p:cNvGrpSpPr/>
                <p:nvPr/>
              </p:nvGrpSpPr>
              <p:grpSpPr>
                <a:xfrm>
                  <a:off x="988920" y="4876920"/>
                  <a:ext cx="1230120" cy="1226880"/>
                  <a:chOff x="988920" y="4876920"/>
                  <a:chExt cx="1230120" cy="1226880"/>
                </a:xfrm>
              </p:grpSpPr>
              <p:sp>
                <p:nvSpPr>
                  <p:cNvPr id="2556" name=""/>
                  <p:cNvSpPr/>
                  <p:nvPr/>
                </p:nvSpPr>
                <p:spPr>
                  <a:xfrm>
                    <a:off x="988920" y="4956120"/>
                    <a:ext cx="480960" cy="84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531">
                        <a:moveTo>
                          <a:pt x="303" y="0"/>
                        </a:moveTo>
                        <a:cubicBezTo>
                          <a:pt x="294" y="12"/>
                          <a:pt x="247" y="89"/>
                          <a:pt x="220" y="101"/>
                        </a:cubicBezTo>
                        <a:cubicBezTo>
                          <a:pt x="160" y="127"/>
                          <a:pt x="84" y="133"/>
                          <a:pt x="19" y="147"/>
                        </a:cubicBezTo>
                        <a:cubicBezTo>
                          <a:pt x="0" y="205"/>
                          <a:pt x="13" y="263"/>
                          <a:pt x="47" y="311"/>
                        </a:cubicBezTo>
                        <a:cubicBezTo>
                          <a:pt x="61" y="370"/>
                          <a:pt x="67" y="380"/>
                          <a:pt x="56" y="448"/>
                        </a:cubicBezTo>
                        <a:cubicBezTo>
                          <a:pt x="51" y="481"/>
                          <a:pt x="33" y="500"/>
                          <a:pt x="47" y="531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>
                    <a:off x="1447560" y="4876920"/>
                    <a:ext cx="631800" cy="11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384">
                        <a:moveTo>
                          <a:pt x="289" y="384"/>
                        </a:moveTo>
                        <a:cubicBezTo>
                          <a:pt x="333" y="369"/>
                          <a:pt x="426" y="357"/>
                          <a:pt x="426" y="357"/>
                        </a:cubicBezTo>
                        <a:cubicBezTo>
                          <a:pt x="462" y="332"/>
                          <a:pt x="470" y="327"/>
                          <a:pt x="481" y="284"/>
                        </a:cubicBezTo>
                        <a:cubicBezTo>
                          <a:pt x="475" y="258"/>
                          <a:pt x="473" y="187"/>
                          <a:pt x="444" y="174"/>
                        </a:cubicBezTo>
                        <a:cubicBezTo>
                          <a:pt x="402" y="155"/>
                          <a:pt x="353" y="162"/>
                          <a:pt x="307" y="156"/>
                        </a:cubicBezTo>
                        <a:cubicBezTo>
                          <a:pt x="222" y="145"/>
                          <a:pt x="136" y="139"/>
                          <a:pt x="51" y="128"/>
                        </a:cubicBezTo>
                        <a:cubicBezTo>
                          <a:pt x="0" y="94"/>
                          <a:pt x="15" y="67"/>
                          <a:pt x="60" y="37"/>
                        </a:cubicBezTo>
                        <a:cubicBezTo>
                          <a:pt x="124" y="40"/>
                          <a:pt x="188" y="41"/>
                          <a:pt x="252" y="46"/>
                        </a:cubicBezTo>
                        <a:cubicBezTo>
                          <a:pt x="262" y="47"/>
                          <a:pt x="273" y="62"/>
                          <a:pt x="280" y="55"/>
                        </a:cubicBezTo>
                        <a:cubicBezTo>
                          <a:pt x="294" y="41"/>
                          <a:pt x="298" y="0"/>
                          <a:pt x="298" y="0"/>
                        </a:cubicBezTo>
                        <a:cubicBezTo>
                          <a:pt x="304" y="9"/>
                          <a:pt x="316" y="28"/>
                          <a:pt x="316" y="2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1526760" y="4913280"/>
                    <a:ext cx="233640" cy="69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439">
                        <a:moveTo>
                          <a:pt x="147" y="439"/>
                        </a:moveTo>
                        <a:cubicBezTo>
                          <a:pt x="104" y="425"/>
                          <a:pt x="61" y="416"/>
                          <a:pt x="19" y="402"/>
                        </a:cubicBezTo>
                        <a:cubicBezTo>
                          <a:pt x="0" y="350"/>
                          <a:pt x="7" y="327"/>
                          <a:pt x="55" y="311"/>
                        </a:cubicBezTo>
                        <a:cubicBezTo>
                          <a:pt x="72" y="284"/>
                          <a:pt x="92" y="264"/>
                          <a:pt x="110" y="238"/>
                        </a:cubicBezTo>
                        <a:cubicBezTo>
                          <a:pt x="128" y="164"/>
                          <a:pt x="124" y="198"/>
                          <a:pt x="110" y="73"/>
                        </a:cubicBezTo>
                        <a:cubicBezTo>
                          <a:pt x="107" y="48"/>
                          <a:pt x="92" y="25"/>
                          <a:pt x="92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>
                    <a:off x="1803240" y="4884840"/>
                    <a:ext cx="415800" cy="12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768">
                        <a:moveTo>
                          <a:pt x="201" y="768"/>
                        </a:moveTo>
                        <a:cubicBezTo>
                          <a:pt x="208" y="694"/>
                          <a:pt x="214" y="610"/>
                          <a:pt x="238" y="539"/>
                        </a:cubicBezTo>
                        <a:cubicBezTo>
                          <a:pt x="249" y="447"/>
                          <a:pt x="262" y="314"/>
                          <a:pt x="174" y="256"/>
                        </a:cubicBezTo>
                        <a:cubicBezTo>
                          <a:pt x="160" y="213"/>
                          <a:pt x="147" y="226"/>
                          <a:pt x="110" y="201"/>
                        </a:cubicBezTo>
                        <a:cubicBezTo>
                          <a:pt x="93" y="147"/>
                          <a:pt x="93" y="139"/>
                          <a:pt x="37" y="118"/>
                        </a:cubicBezTo>
                        <a:cubicBezTo>
                          <a:pt x="0" y="83"/>
                          <a:pt x="0" y="46"/>
                          <a:pt x="0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560" name=""/>
          <p:cNvSpPr/>
          <p:nvPr/>
        </p:nvSpPr>
        <p:spPr>
          <a:xfrm rot="16200000">
            <a:off x="1615320" y="3337560"/>
            <a:ext cx="32832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1" name=""/>
          <p:cNvGrpSpPr/>
          <p:nvPr/>
        </p:nvGrpSpPr>
        <p:grpSpPr>
          <a:xfrm>
            <a:off x="685800" y="4010040"/>
            <a:ext cx="1846080" cy="838080"/>
            <a:chOff x="685800" y="4010040"/>
            <a:chExt cx="1846080" cy="838080"/>
          </a:xfrm>
        </p:grpSpPr>
        <p:sp>
          <p:nvSpPr>
            <p:cNvPr id="2562" name=""/>
            <p:cNvSpPr/>
            <p:nvPr/>
          </p:nvSpPr>
          <p:spPr>
            <a:xfrm>
              <a:off x="685800" y="4495680"/>
              <a:ext cx="380880" cy="3524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2068560" y="4010040"/>
              <a:ext cx="46332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0" y="283"/>
                  </a:moveTo>
                  <a:cubicBezTo>
                    <a:pt x="62" y="292"/>
                    <a:pt x="87" y="286"/>
                    <a:pt x="146" y="274"/>
                  </a:cubicBezTo>
                  <a:cubicBezTo>
                    <a:pt x="175" y="255"/>
                    <a:pt x="217" y="229"/>
                    <a:pt x="238" y="201"/>
                  </a:cubicBezTo>
                  <a:cubicBezTo>
                    <a:pt x="251" y="183"/>
                    <a:pt x="274" y="146"/>
                    <a:pt x="274" y="146"/>
                  </a:cubicBezTo>
                  <a:cubicBezTo>
                    <a:pt x="292" y="74"/>
                    <a:pt x="283" y="122"/>
                    <a:pt x="283" y="0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892080" y="4300560"/>
              <a:ext cx="493560" cy="288720"/>
            </a:xfrm>
            <a:custGeom>
              <a:avLst/>
              <a:gdLst/>
              <a:ahLst/>
              <a:rect l="l" t="t" r="r" b="b"/>
              <a:pathLst>
                <a:path w="311" h="182">
                  <a:moveTo>
                    <a:pt x="311" y="27"/>
                  </a:moveTo>
                  <a:cubicBezTo>
                    <a:pt x="261" y="10"/>
                    <a:pt x="208" y="8"/>
                    <a:pt x="156" y="0"/>
                  </a:cubicBezTo>
                  <a:cubicBezTo>
                    <a:pt x="109" y="8"/>
                    <a:pt x="84" y="10"/>
                    <a:pt x="46" y="36"/>
                  </a:cubicBezTo>
                  <a:cubicBezTo>
                    <a:pt x="17" y="81"/>
                    <a:pt x="0" y="129"/>
                    <a:pt x="0" y="182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5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419112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419112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434340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556272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388620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54100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40384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419112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312408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 rot="21314400">
            <a:off x="601956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487692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 rot="16200000">
            <a:off x="4800600" y="2819160"/>
            <a:ext cx="22860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338" y="1628"/>
                  <a:pt x="9075" y="5080"/>
                  <a:pt x="9075" y="10800"/>
                </a:cubicBezTo>
                <a:cubicBezTo>
                  <a:pt x="9075" y="16520"/>
                  <a:pt x="15338" y="1997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5334120" y="76320"/>
            <a:ext cx="3733560" cy="2286000"/>
          </a:xfrm>
          <a:prstGeom prst="wedgeEllipseCallout">
            <a:avLst>
              <a:gd name="adj1" fmla="val 1615"/>
              <a:gd name="adj2" fmla="val 93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are you from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 rot="16200000">
            <a:off x="7543800" y="3885840"/>
            <a:ext cx="22860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338" y="1628"/>
                  <a:pt x="9075" y="5080"/>
                  <a:pt x="9075" y="10800"/>
                </a:cubicBezTo>
                <a:cubicBezTo>
                  <a:pt x="9075" y="16520"/>
                  <a:pt x="15338" y="1997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"/>
          <p:cNvSpPr/>
          <p:nvPr/>
        </p:nvSpPr>
        <p:spPr>
          <a:xfrm>
            <a:off x="5105520" y="1981080"/>
            <a:ext cx="4038480" cy="3124440"/>
          </a:xfrm>
          <a:prstGeom prst="wedgeEllipseCallout">
            <a:avLst>
              <a:gd name="adj1" fmla="val -76847"/>
              <a:gd name="adj2" fmla="val 57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’m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-b-gon near the Notell Solar Strea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2438280" y="2514600"/>
            <a:ext cx="38124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84280" y="152280"/>
            <a:ext cx="4265640" cy="5486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 rot="19351800">
            <a:off x="1219320" y="2437920"/>
            <a:ext cx="140472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 rot="1925400">
            <a:off x="3223800" y="2387520"/>
            <a:ext cx="140508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1397160" y="6248520"/>
            <a:ext cx="2639880" cy="2438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 flipH="1">
            <a:off x="2616120" y="5232240"/>
            <a:ext cx="201600" cy="1422720"/>
          </a:xfrm>
          <a:prstGeom prst="line">
            <a:avLst/>
          </a:prstGeom>
          <a:ln w="16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2" name=""/>
          <p:cNvGrpSpPr/>
          <p:nvPr/>
        </p:nvGrpSpPr>
        <p:grpSpPr>
          <a:xfrm>
            <a:off x="380880" y="8280360"/>
            <a:ext cx="4670280" cy="3985920"/>
            <a:chOff x="380880" y="8280360"/>
            <a:chExt cx="4670280" cy="3985920"/>
          </a:xfrm>
        </p:grpSpPr>
        <p:grpSp>
          <p:nvGrpSpPr>
            <p:cNvPr id="2593" name=""/>
            <p:cNvGrpSpPr/>
            <p:nvPr/>
          </p:nvGrpSpPr>
          <p:grpSpPr>
            <a:xfrm>
              <a:off x="380880" y="10108800"/>
              <a:ext cx="4670280" cy="2157480"/>
              <a:chOff x="380880" y="10108800"/>
              <a:chExt cx="4670280" cy="2157480"/>
            </a:xfrm>
          </p:grpSpPr>
          <p:sp>
            <p:nvSpPr>
              <p:cNvPr id="2594" name=""/>
              <p:cNvSpPr/>
              <p:nvPr/>
            </p:nvSpPr>
            <p:spPr>
              <a:xfrm>
                <a:off x="2208600" y="111236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4036320" y="105145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2208600" y="1010880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80880" y="1071792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427200" y="11327040"/>
                <a:ext cx="1014840" cy="939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9" name=""/>
            <p:cNvGrpSpPr/>
            <p:nvPr/>
          </p:nvGrpSpPr>
          <p:grpSpPr>
            <a:xfrm>
              <a:off x="782640" y="8280360"/>
              <a:ext cx="3832920" cy="3269160"/>
              <a:chOff x="782640" y="8280360"/>
              <a:chExt cx="3832920" cy="3269160"/>
            </a:xfrm>
          </p:grpSpPr>
          <p:sp>
            <p:nvSpPr>
              <p:cNvPr id="2600" name=""/>
              <p:cNvSpPr/>
              <p:nvPr/>
            </p:nvSpPr>
            <p:spPr>
              <a:xfrm>
                <a:off x="3418200" y="8338680"/>
                <a:ext cx="1197360" cy="2408400"/>
              </a:xfrm>
              <a:custGeom>
                <a:avLst/>
                <a:gdLst/>
                <a:ahLst/>
                <a:rect l="l" t="t" r="r" b="b"/>
                <a:pathLst>
                  <a:path w="283" h="569">
                    <a:moveTo>
                      <a:pt x="0" y="0"/>
                    </a:moveTo>
                    <a:cubicBezTo>
                      <a:pt x="46" y="70"/>
                      <a:pt x="59" y="71"/>
                      <a:pt x="128" y="119"/>
                    </a:cubicBezTo>
                    <a:cubicBezTo>
                      <a:pt x="146" y="132"/>
                      <a:pt x="183" y="155"/>
                      <a:pt x="183" y="155"/>
                    </a:cubicBezTo>
                    <a:cubicBezTo>
                      <a:pt x="233" y="231"/>
                      <a:pt x="209" y="216"/>
                      <a:pt x="237" y="301"/>
                    </a:cubicBezTo>
                    <a:cubicBezTo>
                      <a:pt x="248" y="383"/>
                      <a:pt x="245" y="466"/>
                      <a:pt x="256" y="548"/>
                    </a:cubicBezTo>
                    <a:cubicBezTo>
                      <a:pt x="259" y="569"/>
                      <a:pt x="271" y="567"/>
                      <a:pt x="283" y="567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1" name=""/>
              <p:cNvGrpSpPr/>
              <p:nvPr/>
            </p:nvGrpSpPr>
            <p:grpSpPr>
              <a:xfrm>
                <a:off x="782640" y="8280360"/>
                <a:ext cx="3277080" cy="3269160"/>
                <a:chOff x="782640" y="8280360"/>
                <a:chExt cx="3277080" cy="3269160"/>
              </a:xfrm>
            </p:grpSpPr>
            <p:sp>
              <p:nvSpPr>
                <p:cNvPr id="2602" name=""/>
                <p:cNvSpPr/>
                <p:nvPr/>
              </p:nvSpPr>
              <p:spPr>
                <a:xfrm>
                  <a:off x="782640" y="8491320"/>
                  <a:ext cx="1281240" cy="2246760"/>
                </a:xfrm>
                <a:custGeom>
                  <a:avLst/>
                  <a:gdLst/>
                  <a:ahLst/>
                  <a:rect l="l" t="t" r="r" b="b"/>
                  <a:pathLst>
                    <a:path w="303" h="531">
                      <a:moveTo>
                        <a:pt x="303" y="0"/>
                      </a:moveTo>
                      <a:cubicBezTo>
                        <a:pt x="294" y="12"/>
                        <a:pt x="247" y="89"/>
                        <a:pt x="220" y="101"/>
                      </a:cubicBezTo>
                      <a:cubicBezTo>
                        <a:pt x="160" y="127"/>
                        <a:pt x="84" y="133"/>
                        <a:pt x="19" y="147"/>
                      </a:cubicBezTo>
                      <a:cubicBezTo>
                        <a:pt x="0" y="205"/>
                        <a:pt x="13" y="263"/>
                        <a:pt x="47" y="311"/>
                      </a:cubicBezTo>
                      <a:cubicBezTo>
                        <a:pt x="61" y="370"/>
                        <a:pt x="67" y="380"/>
                        <a:pt x="56" y="448"/>
                      </a:cubicBezTo>
                      <a:cubicBezTo>
                        <a:pt x="51" y="481"/>
                        <a:pt x="33" y="500"/>
                        <a:pt x="47" y="531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2004480" y="8280360"/>
                  <a:ext cx="1683360" cy="3045960"/>
                </a:xfrm>
                <a:custGeom>
                  <a:avLst/>
                  <a:gdLst/>
                  <a:ahLst/>
                  <a:rect l="l" t="t" r="r" b="b"/>
                  <a:pathLst>
                    <a:path w="481" h="384">
                      <a:moveTo>
                        <a:pt x="289" y="384"/>
                      </a:moveTo>
                      <a:cubicBezTo>
                        <a:pt x="333" y="369"/>
                        <a:pt x="426" y="357"/>
                        <a:pt x="426" y="357"/>
                      </a:cubicBezTo>
                      <a:cubicBezTo>
                        <a:pt x="462" y="332"/>
                        <a:pt x="470" y="327"/>
                        <a:pt x="481" y="284"/>
                      </a:cubicBezTo>
                      <a:cubicBezTo>
                        <a:pt x="475" y="258"/>
                        <a:pt x="473" y="187"/>
                        <a:pt x="444" y="174"/>
                      </a:cubicBezTo>
                      <a:cubicBezTo>
                        <a:pt x="402" y="155"/>
                        <a:pt x="353" y="162"/>
                        <a:pt x="307" y="156"/>
                      </a:cubicBezTo>
                      <a:cubicBezTo>
                        <a:pt x="222" y="145"/>
                        <a:pt x="136" y="139"/>
                        <a:pt x="51" y="128"/>
                      </a:cubicBezTo>
                      <a:cubicBezTo>
                        <a:pt x="0" y="94"/>
                        <a:pt x="15" y="67"/>
                        <a:pt x="60" y="37"/>
                      </a:cubicBezTo>
                      <a:cubicBezTo>
                        <a:pt x="124" y="40"/>
                        <a:pt x="188" y="41"/>
                        <a:pt x="252" y="46"/>
                      </a:cubicBezTo>
                      <a:cubicBezTo>
                        <a:pt x="262" y="47"/>
                        <a:pt x="273" y="62"/>
                        <a:pt x="280" y="55"/>
                      </a:cubicBezTo>
                      <a:cubicBezTo>
                        <a:pt x="294" y="41"/>
                        <a:pt x="298" y="0"/>
                        <a:pt x="298" y="0"/>
                      </a:cubicBezTo>
                      <a:cubicBezTo>
                        <a:pt x="304" y="9"/>
                        <a:pt x="316" y="28"/>
                        <a:pt x="316" y="28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2215440" y="8377200"/>
                  <a:ext cx="622440" cy="1857240"/>
                </a:xfrm>
                <a:custGeom>
                  <a:avLst/>
                  <a:gdLst/>
                  <a:ahLst/>
                  <a:rect l="l" t="t" r="r" b="b"/>
                  <a:pathLst>
                    <a:path w="147" h="439">
                      <a:moveTo>
                        <a:pt x="147" y="439"/>
                      </a:moveTo>
                      <a:cubicBezTo>
                        <a:pt x="104" y="425"/>
                        <a:pt x="61" y="416"/>
                        <a:pt x="19" y="402"/>
                      </a:cubicBezTo>
                      <a:cubicBezTo>
                        <a:pt x="0" y="350"/>
                        <a:pt x="7" y="327"/>
                        <a:pt x="55" y="311"/>
                      </a:cubicBezTo>
                      <a:cubicBezTo>
                        <a:pt x="72" y="284"/>
                        <a:pt x="92" y="264"/>
                        <a:pt x="110" y="238"/>
                      </a:cubicBezTo>
                      <a:cubicBezTo>
                        <a:pt x="128" y="164"/>
                        <a:pt x="124" y="198"/>
                        <a:pt x="110" y="73"/>
                      </a:cubicBezTo>
                      <a:cubicBezTo>
                        <a:pt x="107" y="48"/>
                        <a:pt x="92" y="25"/>
                        <a:pt x="92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2952000" y="8301240"/>
                  <a:ext cx="1107720" cy="3248280"/>
                </a:xfrm>
                <a:custGeom>
                  <a:avLst/>
                  <a:gdLst/>
                  <a:ahLst/>
                  <a:rect l="l" t="t" r="r" b="b"/>
                  <a:pathLst>
                    <a:path w="262" h="768">
                      <a:moveTo>
                        <a:pt x="201" y="768"/>
                      </a:moveTo>
                      <a:cubicBezTo>
                        <a:pt x="208" y="694"/>
                        <a:pt x="214" y="610"/>
                        <a:pt x="238" y="539"/>
                      </a:cubicBezTo>
                      <a:cubicBezTo>
                        <a:pt x="249" y="447"/>
                        <a:pt x="262" y="314"/>
                        <a:pt x="174" y="256"/>
                      </a:cubicBezTo>
                      <a:cubicBezTo>
                        <a:pt x="160" y="213"/>
                        <a:pt x="147" y="226"/>
                        <a:pt x="110" y="201"/>
                      </a:cubicBezTo>
                      <a:cubicBezTo>
                        <a:pt x="93" y="147"/>
                        <a:pt x="93" y="139"/>
                        <a:pt x="37" y="118"/>
                      </a:cubicBezTo>
                      <a:cubicBezTo>
                        <a:pt x="0" y="83"/>
                        <a:pt x="0" y="46"/>
                        <a:pt x="0" y="0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6" name=""/>
          <p:cNvSpPr/>
          <p:nvPr/>
        </p:nvSpPr>
        <p:spPr>
          <a:xfrm rot="16200000">
            <a:off x="2698920" y="4464000"/>
            <a:ext cx="622080" cy="144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0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500"/>
                            </p:stCondLst>
                            <p:childTnLst>
                              <p:par>
                                <p:cTn id="13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6477120" y="3352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 rot="16200000">
            <a:off x="6514920" y="42285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1066680" y="1600200"/>
            <a:ext cx="3733920" cy="2590920"/>
          </a:xfrm>
          <a:prstGeom prst="wedgeEllipseCallout">
            <a:avLst>
              <a:gd name="adj1" fmla="val 56462"/>
              <a:gd name="adj2" fmla="val 42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nds pretty far out there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51814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0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"/>
                            </p:stCondLst>
                            <p:childTnLst>
                              <p:par>
                                <p:cTn id="13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6781680" y="293364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708660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7696080" y="361944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77240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71629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7162920" y="4610160"/>
            <a:ext cx="914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 rot="9534600">
            <a:off x="6933960" y="262872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 rot="11531400">
            <a:off x="7238520" y="262836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 rot="13149000">
            <a:off x="73911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 rot="14453400">
            <a:off x="7619760" y="255204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7162920" y="53722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68580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7772400" y="613404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6400800" y="4457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8381880" y="49150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2362320" y="3733920"/>
            <a:ext cx="38088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0" name=""/>
          <p:cNvGrpSpPr/>
          <p:nvPr/>
        </p:nvGrpSpPr>
        <p:grpSpPr>
          <a:xfrm>
            <a:off x="789480" y="1828800"/>
            <a:ext cx="1824120" cy="4543560"/>
            <a:chOff x="789480" y="1828800"/>
            <a:chExt cx="1824120" cy="4543560"/>
          </a:xfrm>
        </p:grpSpPr>
        <p:grpSp>
          <p:nvGrpSpPr>
            <p:cNvPr id="2641" name=""/>
            <p:cNvGrpSpPr/>
            <p:nvPr/>
          </p:nvGrpSpPr>
          <p:grpSpPr>
            <a:xfrm>
              <a:off x="789480" y="1828800"/>
              <a:ext cx="1824120" cy="3200400"/>
              <a:chOff x="789480" y="1828800"/>
              <a:chExt cx="1824120" cy="3200400"/>
            </a:xfrm>
          </p:grpSpPr>
          <p:sp>
            <p:nvSpPr>
              <p:cNvPr id="2642" name=""/>
              <p:cNvSpPr/>
              <p:nvPr/>
            </p:nvSpPr>
            <p:spPr>
              <a:xfrm>
                <a:off x="914040" y="1828800"/>
                <a:ext cx="1600200" cy="2057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rot="19351800">
                <a:off x="99000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rot="1925400">
                <a:off x="1904040" y="2666880"/>
                <a:ext cx="527040" cy="8380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1218600" y="4114800"/>
                <a:ext cx="990720" cy="9144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 flipH="1">
                <a:off x="1675800" y="3733560"/>
                <a:ext cx="76320" cy="533520"/>
              </a:xfrm>
              <a:prstGeom prst="line">
                <a:avLst/>
              </a:prstGeom>
              <a:ln w="1620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7" name=""/>
            <p:cNvGrpSpPr/>
            <p:nvPr/>
          </p:nvGrpSpPr>
          <p:grpSpPr>
            <a:xfrm>
              <a:off x="838080" y="4876920"/>
              <a:ext cx="1752480" cy="1495440"/>
              <a:chOff x="838080" y="4876920"/>
              <a:chExt cx="1752480" cy="1495440"/>
            </a:xfrm>
          </p:grpSpPr>
          <p:grpSp>
            <p:nvGrpSpPr>
              <p:cNvPr id="2648" name=""/>
              <p:cNvGrpSpPr/>
              <p:nvPr/>
            </p:nvGrpSpPr>
            <p:grpSpPr>
              <a:xfrm>
                <a:off x="838080" y="5562720"/>
                <a:ext cx="1752480" cy="809640"/>
                <a:chOff x="838080" y="5562720"/>
                <a:chExt cx="1752480" cy="809640"/>
              </a:xfrm>
            </p:grpSpPr>
            <p:sp>
              <p:nvSpPr>
                <p:cNvPr id="2649" name=""/>
                <p:cNvSpPr/>
                <p:nvPr/>
              </p:nvSpPr>
              <p:spPr>
                <a:xfrm>
                  <a:off x="1523880" y="59436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2209680" y="571500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1523880" y="55627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838080" y="57913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1981080" y="6019920"/>
                  <a:ext cx="380880" cy="352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4" name=""/>
              <p:cNvGrpSpPr/>
              <p:nvPr/>
            </p:nvGrpSpPr>
            <p:grpSpPr>
              <a:xfrm>
                <a:off x="988920" y="4876920"/>
                <a:ext cx="1438200" cy="1226880"/>
                <a:chOff x="988920" y="4876920"/>
                <a:chExt cx="1438200" cy="1226880"/>
              </a:xfrm>
            </p:grpSpPr>
            <p:sp>
              <p:nvSpPr>
                <p:cNvPr id="2655" name=""/>
                <p:cNvSpPr/>
                <p:nvPr/>
              </p:nvSpPr>
              <p:spPr>
                <a:xfrm>
                  <a:off x="1977840" y="4898880"/>
                  <a:ext cx="449280" cy="903600"/>
                </a:xfrm>
                <a:custGeom>
                  <a:avLst/>
                  <a:gdLst/>
                  <a:ahLst/>
                  <a:rect l="l" t="t" r="r" b="b"/>
                  <a:pathLst>
                    <a:path w="283" h="569">
                      <a:moveTo>
                        <a:pt x="0" y="0"/>
                      </a:moveTo>
                      <a:cubicBezTo>
                        <a:pt x="46" y="70"/>
                        <a:pt x="59" y="71"/>
                        <a:pt x="128" y="119"/>
                      </a:cubicBezTo>
                      <a:cubicBezTo>
                        <a:pt x="146" y="132"/>
                        <a:pt x="183" y="155"/>
                        <a:pt x="183" y="155"/>
                      </a:cubicBezTo>
                      <a:cubicBezTo>
                        <a:pt x="233" y="231"/>
                        <a:pt x="209" y="216"/>
                        <a:pt x="237" y="301"/>
                      </a:cubicBezTo>
                      <a:cubicBezTo>
                        <a:pt x="248" y="383"/>
                        <a:pt x="245" y="466"/>
                        <a:pt x="256" y="548"/>
                      </a:cubicBezTo>
                      <a:cubicBezTo>
                        <a:pt x="259" y="569"/>
                        <a:pt x="271" y="567"/>
                        <a:pt x="283" y="567"/>
                      </a:cubicBezTo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6" name=""/>
                <p:cNvGrpSpPr/>
                <p:nvPr/>
              </p:nvGrpSpPr>
              <p:grpSpPr>
                <a:xfrm>
                  <a:off x="988920" y="4876920"/>
                  <a:ext cx="1230120" cy="1226880"/>
                  <a:chOff x="988920" y="4876920"/>
                  <a:chExt cx="1230120" cy="1226880"/>
                </a:xfrm>
              </p:grpSpPr>
              <p:sp>
                <p:nvSpPr>
                  <p:cNvPr id="2657" name=""/>
                  <p:cNvSpPr/>
                  <p:nvPr/>
                </p:nvSpPr>
                <p:spPr>
                  <a:xfrm>
                    <a:off x="988920" y="4956120"/>
                    <a:ext cx="480960" cy="84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531">
                        <a:moveTo>
                          <a:pt x="303" y="0"/>
                        </a:moveTo>
                        <a:cubicBezTo>
                          <a:pt x="294" y="12"/>
                          <a:pt x="247" y="89"/>
                          <a:pt x="220" y="101"/>
                        </a:cubicBezTo>
                        <a:cubicBezTo>
                          <a:pt x="160" y="127"/>
                          <a:pt x="84" y="133"/>
                          <a:pt x="19" y="147"/>
                        </a:cubicBezTo>
                        <a:cubicBezTo>
                          <a:pt x="0" y="205"/>
                          <a:pt x="13" y="263"/>
                          <a:pt x="47" y="311"/>
                        </a:cubicBezTo>
                        <a:cubicBezTo>
                          <a:pt x="61" y="370"/>
                          <a:pt x="67" y="380"/>
                          <a:pt x="56" y="448"/>
                        </a:cubicBezTo>
                        <a:cubicBezTo>
                          <a:pt x="51" y="481"/>
                          <a:pt x="33" y="500"/>
                          <a:pt x="47" y="531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1447560" y="4876920"/>
                    <a:ext cx="631800" cy="11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384">
                        <a:moveTo>
                          <a:pt x="289" y="384"/>
                        </a:moveTo>
                        <a:cubicBezTo>
                          <a:pt x="333" y="369"/>
                          <a:pt x="426" y="357"/>
                          <a:pt x="426" y="357"/>
                        </a:cubicBezTo>
                        <a:cubicBezTo>
                          <a:pt x="462" y="332"/>
                          <a:pt x="470" y="327"/>
                          <a:pt x="481" y="284"/>
                        </a:cubicBezTo>
                        <a:cubicBezTo>
                          <a:pt x="475" y="258"/>
                          <a:pt x="473" y="187"/>
                          <a:pt x="444" y="174"/>
                        </a:cubicBezTo>
                        <a:cubicBezTo>
                          <a:pt x="402" y="155"/>
                          <a:pt x="353" y="162"/>
                          <a:pt x="307" y="156"/>
                        </a:cubicBezTo>
                        <a:cubicBezTo>
                          <a:pt x="222" y="145"/>
                          <a:pt x="136" y="139"/>
                          <a:pt x="51" y="128"/>
                        </a:cubicBezTo>
                        <a:cubicBezTo>
                          <a:pt x="0" y="94"/>
                          <a:pt x="15" y="67"/>
                          <a:pt x="60" y="37"/>
                        </a:cubicBezTo>
                        <a:cubicBezTo>
                          <a:pt x="124" y="40"/>
                          <a:pt x="188" y="41"/>
                          <a:pt x="252" y="46"/>
                        </a:cubicBezTo>
                        <a:cubicBezTo>
                          <a:pt x="262" y="47"/>
                          <a:pt x="273" y="62"/>
                          <a:pt x="280" y="55"/>
                        </a:cubicBezTo>
                        <a:cubicBezTo>
                          <a:pt x="294" y="41"/>
                          <a:pt x="298" y="0"/>
                          <a:pt x="298" y="0"/>
                        </a:cubicBezTo>
                        <a:cubicBezTo>
                          <a:pt x="304" y="9"/>
                          <a:pt x="316" y="28"/>
                          <a:pt x="316" y="2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>
                    <a:off x="1526760" y="4913280"/>
                    <a:ext cx="233640" cy="69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439">
                        <a:moveTo>
                          <a:pt x="147" y="439"/>
                        </a:moveTo>
                        <a:cubicBezTo>
                          <a:pt x="104" y="425"/>
                          <a:pt x="61" y="416"/>
                          <a:pt x="19" y="402"/>
                        </a:cubicBezTo>
                        <a:cubicBezTo>
                          <a:pt x="0" y="350"/>
                          <a:pt x="7" y="327"/>
                          <a:pt x="55" y="311"/>
                        </a:cubicBezTo>
                        <a:cubicBezTo>
                          <a:pt x="72" y="284"/>
                          <a:pt x="92" y="264"/>
                          <a:pt x="110" y="238"/>
                        </a:cubicBezTo>
                        <a:cubicBezTo>
                          <a:pt x="128" y="164"/>
                          <a:pt x="124" y="198"/>
                          <a:pt x="110" y="73"/>
                        </a:cubicBezTo>
                        <a:cubicBezTo>
                          <a:pt x="107" y="48"/>
                          <a:pt x="92" y="25"/>
                          <a:pt x="92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>
                    <a:off x="1803240" y="4884840"/>
                    <a:ext cx="415800" cy="12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768">
                        <a:moveTo>
                          <a:pt x="201" y="768"/>
                        </a:moveTo>
                        <a:cubicBezTo>
                          <a:pt x="208" y="694"/>
                          <a:pt x="214" y="610"/>
                          <a:pt x="238" y="539"/>
                        </a:cubicBezTo>
                        <a:cubicBezTo>
                          <a:pt x="249" y="447"/>
                          <a:pt x="262" y="314"/>
                          <a:pt x="174" y="256"/>
                        </a:cubicBezTo>
                        <a:cubicBezTo>
                          <a:pt x="160" y="213"/>
                          <a:pt x="147" y="226"/>
                          <a:pt x="110" y="201"/>
                        </a:cubicBezTo>
                        <a:cubicBezTo>
                          <a:pt x="93" y="147"/>
                          <a:pt x="93" y="139"/>
                          <a:pt x="37" y="118"/>
                        </a:cubicBezTo>
                        <a:cubicBezTo>
                          <a:pt x="0" y="83"/>
                          <a:pt x="0" y="46"/>
                          <a:pt x="0" y="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661" name=""/>
          <p:cNvSpPr/>
          <p:nvPr/>
        </p:nvSpPr>
        <p:spPr>
          <a:xfrm rot="16200000">
            <a:off x="1615320" y="3337560"/>
            <a:ext cx="32832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2" name=""/>
          <p:cNvGrpSpPr/>
          <p:nvPr/>
        </p:nvGrpSpPr>
        <p:grpSpPr>
          <a:xfrm>
            <a:off x="685800" y="4010040"/>
            <a:ext cx="1846080" cy="838080"/>
            <a:chOff x="685800" y="4010040"/>
            <a:chExt cx="1846080" cy="838080"/>
          </a:xfrm>
        </p:grpSpPr>
        <p:sp>
          <p:nvSpPr>
            <p:cNvPr id="2663" name=""/>
            <p:cNvSpPr/>
            <p:nvPr/>
          </p:nvSpPr>
          <p:spPr>
            <a:xfrm>
              <a:off x="685800" y="4495680"/>
              <a:ext cx="380880" cy="3524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068560" y="4010040"/>
              <a:ext cx="46332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0" y="283"/>
                  </a:moveTo>
                  <a:cubicBezTo>
                    <a:pt x="62" y="292"/>
                    <a:pt x="87" y="286"/>
                    <a:pt x="146" y="274"/>
                  </a:cubicBezTo>
                  <a:cubicBezTo>
                    <a:pt x="175" y="255"/>
                    <a:pt x="217" y="229"/>
                    <a:pt x="238" y="201"/>
                  </a:cubicBezTo>
                  <a:cubicBezTo>
                    <a:pt x="251" y="183"/>
                    <a:pt x="274" y="146"/>
                    <a:pt x="274" y="146"/>
                  </a:cubicBezTo>
                  <a:cubicBezTo>
                    <a:pt x="292" y="74"/>
                    <a:pt x="283" y="122"/>
                    <a:pt x="283" y="0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892080" y="4300560"/>
              <a:ext cx="493560" cy="288720"/>
            </a:xfrm>
            <a:custGeom>
              <a:avLst/>
              <a:gdLst/>
              <a:ahLst/>
              <a:rect l="l" t="t" r="r" b="b"/>
              <a:pathLst>
                <a:path w="311" h="182">
                  <a:moveTo>
                    <a:pt x="311" y="27"/>
                  </a:moveTo>
                  <a:cubicBezTo>
                    <a:pt x="261" y="10"/>
                    <a:pt x="208" y="8"/>
                    <a:pt x="156" y="0"/>
                  </a:cubicBezTo>
                  <a:cubicBezTo>
                    <a:pt x="109" y="8"/>
                    <a:pt x="84" y="10"/>
                    <a:pt x="46" y="36"/>
                  </a:cubicBezTo>
                  <a:cubicBezTo>
                    <a:pt x="17" y="81"/>
                    <a:pt x="0" y="129"/>
                    <a:pt x="0" y="182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6" name=""/>
          <p:cNvSpPr/>
          <p:nvPr/>
        </p:nvSpPr>
        <p:spPr>
          <a:xfrm>
            <a:off x="388620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419112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419112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434340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556272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388620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54100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411480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 flipH="1" flipV="1">
            <a:off x="4495680" y="16002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 flipH="1" flipV="1">
            <a:off x="464832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312408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 rot="21314400">
            <a:off x="601956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480060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4952880" y="2666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 rot="16200000">
            <a:off x="7391160" y="3809880"/>
            <a:ext cx="45720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338" y="1628"/>
                  <a:pt x="9075" y="5080"/>
                  <a:pt x="9075" y="10800"/>
                </a:cubicBezTo>
                <a:cubicBezTo>
                  <a:pt x="9075" y="16520"/>
                  <a:pt x="15338" y="1997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457200" y="533520"/>
            <a:ext cx="990720" cy="9903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22860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7772400" y="16765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 rot="16200000">
            <a:off x="4838760" y="2704680"/>
            <a:ext cx="30492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738" y="336"/>
                  <a:pt x="1875" y="5080"/>
                  <a:pt x="1875" y="10800"/>
                </a:cubicBezTo>
                <a:cubicBezTo>
                  <a:pt x="1875" y="16520"/>
                  <a:pt x="11738" y="2126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2057400" y="0"/>
            <a:ext cx="3733920" cy="3581280"/>
          </a:xfrm>
          <a:prstGeom prst="wedgeEllipseCallout">
            <a:avLst>
              <a:gd name="adj1" fmla="val -44300"/>
              <a:gd name="adj2" fmla="val 468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ll, this has been quite an enlightening experie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500"/>
                            </p:stCondLst>
                            <p:childTnLst>
                              <p:par>
                                <p:cTn id="1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2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500"/>
                                        <p:tgtEl>
                                          <p:spTgt spid="2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31240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6210000" y="3848040"/>
            <a:ext cx="609840" cy="14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304920"/>
            <a:ext cx="4572000" cy="2286000"/>
          </a:xfrm>
          <a:prstGeom prst="wedgeEllipseCallout">
            <a:avLst>
              <a:gd name="adj1" fmla="val 46041"/>
              <a:gd name="adj2" fmla="val 95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gotta 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getting l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3048120"/>
            <a:ext cx="30492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"/>
          <p:cNvSpPr/>
          <p:nvPr/>
        </p:nvSpPr>
        <p:spPr>
          <a:xfrm>
            <a:off x="518148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6858000" y="2819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6934320" y="3276720"/>
            <a:ext cx="30456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 rot="16200000">
            <a:off x="6515280" y="4076640"/>
            <a:ext cx="38088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72" y="3076"/>
                  <a:pt x="17144" y="5080"/>
                  <a:pt x="17144" y="10800"/>
                </a:cubicBezTo>
                <a:cubicBezTo>
                  <a:pt x="17144" y="16520"/>
                  <a:pt x="19372" y="185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5334120" y="2819520"/>
            <a:ext cx="121896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5486400" y="3276720"/>
            <a:ext cx="30492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5486400" y="5181480"/>
            <a:ext cx="3048120" cy="167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 flipV="1">
            <a:off x="7086600" y="1599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 flipV="1">
            <a:off x="7162920" y="1219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8" name=""/>
          <p:cNvGrpSpPr/>
          <p:nvPr/>
        </p:nvGrpSpPr>
        <p:grpSpPr>
          <a:xfrm>
            <a:off x="3352680" y="5334120"/>
            <a:ext cx="1952640" cy="1396440"/>
            <a:chOff x="3352680" y="5334120"/>
            <a:chExt cx="1952640" cy="1396440"/>
          </a:xfrm>
        </p:grpSpPr>
        <p:sp>
          <p:nvSpPr>
            <p:cNvPr id="2699" name=""/>
            <p:cNvSpPr/>
            <p:nvPr/>
          </p:nvSpPr>
          <p:spPr>
            <a:xfrm>
              <a:off x="4314600" y="5740200"/>
              <a:ext cx="990720" cy="99036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789440" y="5334120"/>
              <a:ext cx="174600" cy="493560"/>
            </a:xfrm>
            <a:custGeom>
              <a:avLst/>
              <a:gdLst/>
              <a:ahLst/>
              <a:rect l="l" t="t" r="r" b="b"/>
              <a:pathLst>
                <a:path w="110" h="311">
                  <a:moveTo>
                    <a:pt x="110" y="311"/>
                  </a:moveTo>
                  <a:cubicBezTo>
                    <a:pt x="33" y="231"/>
                    <a:pt x="0" y="92"/>
                    <a:pt x="92" y="0"/>
                  </a:cubicBezTo>
                </a:path>
              </a:pathLst>
            </a:cu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527280" y="5943600"/>
              <a:ext cx="942840" cy="101160"/>
            </a:xfrm>
            <a:custGeom>
              <a:avLst/>
              <a:gdLst/>
              <a:ahLst/>
              <a:rect l="l" t="t" r="r" b="b"/>
              <a:pathLst>
                <a:path w="594" h="64">
                  <a:moveTo>
                    <a:pt x="594" y="64"/>
                  </a:moveTo>
                  <a:cubicBezTo>
                    <a:pt x="431" y="37"/>
                    <a:pt x="266" y="29"/>
                    <a:pt x="101" y="18"/>
                  </a:cubicBezTo>
                  <a:cubicBezTo>
                    <a:pt x="8" y="12"/>
                    <a:pt x="30" y="30"/>
                    <a:pt x="0" y="0"/>
                  </a:cubicBezTo>
                </a:path>
              </a:pathLst>
            </a:custGeom>
            <a:solidFill>
              <a:srgbClr val="ffd581"/>
            </a:solidFill>
            <a:ln w="76320">
              <a:solidFill>
                <a:srgbClr val="ffd5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352680" y="6224400"/>
              <a:ext cx="1060200" cy="37800"/>
            </a:xfrm>
            <a:custGeom>
              <a:avLst/>
              <a:gdLst/>
              <a:ahLst/>
              <a:rect l="l" t="t" r="r" b="b"/>
              <a:pathLst>
                <a:path w="668" h="24">
                  <a:moveTo>
                    <a:pt x="668" y="24"/>
                  </a:moveTo>
                  <a:cubicBezTo>
                    <a:pt x="446" y="0"/>
                    <a:pt x="223" y="24"/>
                    <a:pt x="0" y="24"/>
                  </a:cubicBezTo>
                </a:path>
              </a:pathLst>
            </a:custGeom>
            <a:noFill/>
            <a:ln w="76320">
              <a:solidFill>
                <a:srgbClr val="ffd5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671640" y="6451560"/>
              <a:ext cx="914400" cy="77400"/>
            </a:xfrm>
            <a:custGeom>
              <a:avLst/>
              <a:gdLst/>
              <a:ahLst/>
              <a:rect l="l" t="t" r="r" b="b"/>
              <a:pathLst>
                <a:path w="576" h="49">
                  <a:moveTo>
                    <a:pt x="576" y="0"/>
                  </a:moveTo>
                  <a:cubicBezTo>
                    <a:pt x="439" y="17"/>
                    <a:pt x="314" y="31"/>
                    <a:pt x="174" y="37"/>
                  </a:cubicBezTo>
                  <a:cubicBezTo>
                    <a:pt x="62" y="49"/>
                    <a:pt x="119" y="46"/>
                    <a:pt x="0" y="46"/>
                  </a:cubicBezTo>
                </a:path>
              </a:pathLst>
            </a:custGeom>
            <a:noFill/>
            <a:ln w="76320">
              <a:solidFill>
                <a:srgbClr val="ffd5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4" name=""/>
          <p:cNvSpPr/>
          <p:nvPr/>
        </p:nvSpPr>
        <p:spPr>
          <a:xfrm>
            <a:off x="304920" y="1752480"/>
            <a:ext cx="4038480" cy="3048120"/>
          </a:xfrm>
          <a:prstGeom prst="wedgeEllipseCallout">
            <a:avLst>
              <a:gd name="adj1" fmla="val 75981"/>
              <a:gd name="adj2" fmla="val 42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’s cuz there’s a lot of “lightening” bugs out ton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-1143000" y="30492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3809880" y="1371600"/>
            <a:ext cx="685800" cy="6858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6477120" y="-144792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2209680" y="-144792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380880" y="44197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0" name=""/>
          <p:cNvGrpSpPr/>
          <p:nvPr/>
        </p:nvGrpSpPr>
        <p:grpSpPr>
          <a:xfrm>
            <a:off x="-1905120" y="990720"/>
            <a:ext cx="762120" cy="761760"/>
            <a:chOff x="-1905120" y="990720"/>
            <a:chExt cx="762120" cy="761760"/>
          </a:xfrm>
        </p:grpSpPr>
        <p:sp>
          <p:nvSpPr>
            <p:cNvPr id="2711" name=""/>
            <p:cNvSpPr/>
            <p:nvPr/>
          </p:nvSpPr>
          <p:spPr>
            <a:xfrm>
              <a:off x="-1905120" y="990720"/>
              <a:ext cx="762120" cy="7617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00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-1828800" y="1295280"/>
              <a:ext cx="533520" cy="151920"/>
            </a:xfrm>
            <a:prstGeom prst="ellipse">
              <a:avLst/>
            </a:prstGeom>
            <a:solidFill>
              <a:srgbClr val="ffff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 rot="497400">
              <a:off x="-1828800" y="1218600"/>
              <a:ext cx="533520" cy="152280"/>
            </a:xfrm>
            <a:prstGeom prst="ellipse">
              <a:avLst/>
            </a:pr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-1371600" y="1218960"/>
              <a:ext cx="76320" cy="152280"/>
            </a:xfrm>
            <a:prstGeom prst="ellipse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5" name=""/>
          <p:cNvSpPr/>
          <p:nvPr/>
        </p:nvSpPr>
        <p:spPr>
          <a:xfrm>
            <a:off x="8381880" y="1447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8686800" y="4572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4495680" y="32767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609480" y="19810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0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11111E-006 C 1.38778E-017 0.04398 0.08611 0.08009 0.19115 0.08009 C 0.31493 0.08009 0.35972 0.04005 0.37847 0.01597 L 0.39792 -0.01597 C 0.41719 -0.04005 0.46476 -0.08009 0.60451 -0.08009 C 0.6941 -0.08009 0.79583 -0.04398 0.79583 1.11111E-006 C 0.79583 0.04398 0.6941 0.08009 0.60451 0.08009 C 0.46476 0.08009 0.41719 0.04005 0.39792 0.01597 L 0.37847 -0.01597 C 0.35972 -0.04005 0.31493 -0.08009 0.19115 -0.08009 C 0.08611 -0.08009 1.38778E-017 -0.04398 1.38778E-017 1.11111E-006 Z">
                                      <p:cBhvr>
                                        <p:cTn id="1391" dur="2000" fill="hold"/>
                                        <p:tgtEl>
                                          <p:spTgt spid="27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2" nodeType="withEffect" fill="hold" presetClass="path" presetID="2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1.11111E-006 C 0.03299 1.11111E-006 0.06007 0.11134 0.06007 0.24676 C 0.06007 0.40671 0.03003 0.46458 0.01198 0.48889 L -0.01198 0.51389 C -0.03003 0.53866 -0.06007 0.60023 -0.06007 0.78079 C -0.06007 0.8963 -0.03299 1.02778 0 1.02778 C 0.03299 1.02778 0.06007 0.8963 0.06007 0.78079 C 0.06007 0.60023 0.03003 0.53866 0.01198 0.51389 L -0.01198 0.48889 C -0.03003 0.46458 -0.06007 0.40671 -0.06007 0.24676 C -0.06007 0.11134 -0.03299 1.11111E-006 0 1.11111E-006 Z">
                                      <p:cBhvr>
                                        <p:cTn id="1393" dur="2000" fill="hold"/>
                                        <p:tgtEl>
                                          <p:spTgt spid="2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4" nodeType="withEffect" fill="hold" presetClass="path" presetID="61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326 -0.11111 C -0.08559 -0.09514 -0.0993 -0.07917 -0.10555 -0.05903 C -0.11163 -0.03727 -0.11475 -0.01181 -0.1177 0.01389 C -0.12083 0.03981 -0.1177 0.06134 -0.11475 0.08519 C -0.11163 0.10741 -0.10711 0.13125 -0.09618 0.15069 C -0.08715 0.17083 -0.0717 0.18681 -0.05503 0.19884 C -0.03958 0.21065 -0.02118 0.21852 -0.00277 0.22269 C 0.01563 0.22639 0.03386 0.22639 0.05087 0.22269 C 0.06927 0.21852 0.08611 0.20856 0.09983 0.19259 C 0.11372 0.1787 0.12587 0.16065 0.13212 0.13912 C 0.13976 0.11921 0.14271 0.09144 0.14271 0.06921 C 0.14427 0.04769 0.14271 0.02176 0.13507 0 C 0.12761 -0.01991 0.11372 -0.03519 0.09532 -0.04329 C 0.07674 -0.04907 0.05834 -0.0412 0.04618 -0.02731 C 0.03542 -0.01389 0.02778 0.00787 0.02622 0.03356 C 0.02622 0.05926 0.02778 0.0831 0.03542 0.10324 C 0.04323 0.12315 0.04167 0.12708 0.07223 0.15278 C 0.09983 0.18079 0.12761 0.17292 0.14427 0.17454 C 0.16111 0.17454 0.17483 0.16667 0.19167 0.1588 C 0.21042 0.14931 0.22552 0.13125 0.23664 0.11528 C 0.24723 0.09931 0.25174 0.0794 0.25782 0.04769 C 0.2625 0.01597 0.2625 0 0.2625 -0.02384 C 0.2625 -0.04722 0.2625 -0.0713 0.2625 -0.09514 E">
                                      <p:cBhvr>
                                        <p:cTn id="1395" dur="2000" fill="hold"/>
                                        <p:tgtEl>
                                          <p:spTgt spid="2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98" dur="1000" fill="hold"/>
                                        <p:tgtEl>
                                          <p:spTgt spid="2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0.39167 0.67778 E">
                                      <p:cBhvr>
                                        <p:cTn id="1400" dur="2000" fill="hold"/>
                                        <p:tgtEl>
                                          <p:spTgt spid="2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"/>
          <p:cNvSpPr/>
          <p:nvPr/>
        </p:nvSpPr>
        <p:spPr>
          <a:xfrm>
            <a:off x="502920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6400800" y="2895480"/>
            <a:ext cx="121932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6553080" y="31240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5486400" y="5181480"/>
            <a:ext cx="25909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 rot="9534600">
            <a:off x="4876560" y="685800"/>
            <a:ext cx="144756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 rot="11531400">
            <a:off x="5638320" y="456840"/>
            <a:ext cx="1447920" cy="12873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 rot="13149000">
            <a:off x="6095880" y="456840"/>
            <a:ext cx="1524240" cy="135396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 rot="14453400">
            <a:off x="6626880" y="535680"/>
            <a:ext cx="1409760" cy="12524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228600" y="304920"/>
            <a:ext cx="4572000" cy="3657600"/>
          </a:xfrm>
          <a:prstGeom prst="wedgeEllipseCallout">
            <a:avLst>
              <a:gd name="adj1" fmla="val 53541"/>
              <a:gd name="adj2" fmla="val 56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night?! That’s right! I’m going to be in so much trouble for coming home so l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5105520" y="2895480"/>
            <a:ext cx="121896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5257800" y="3048120"/>
            <a:ext cx="30492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4419720" y="228600"/>
            <a:ext cx="685800" cy="6858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380880" y="4419720"/>
            <a:ext cx="762120" cy="7617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8381880" y="1447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8686800" y="4572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4572000" y="40384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380880" y="304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 rot="20283000">
            <a:off x="6629040" y="4495320"/>
            <a:ext cx="990720" cy="4572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0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"/>
          <p:cNvSpPr/>
          <p:nvPr/>
        </p:nvSpPr>
        <p:spPr>
          <a:xfrm>
            <a:off x="5181480" y="304920"/>
            <a:ext cx="3810240" cy="6172200"/>
          </a:xfrm>
          <a:prstGeom prst="wedgeEllipseCallout">
            <a:avLst>
              <a:gd name="adj1" fmla="val -63625"/>
              <a:gd name="adj2" fmla="val 2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ders and followers of God, the Trinity, I have found the Master of the Universe on the planet Earth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2438280" y="2514600"/>
            <a:ext cx="38124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1" name=""/>
          <p:cNvGrpSpPr/>
          <p:nvPr/>
        </p:nvGrpSpPr>
        <p:grpSpPr>
          <a:xfrm>
            <a:off x="250560" y="152280"/>
            <a:ext cx="4861800" cy="12112200"/>
            <a:chOff x="250560" y="152280"/>
            <a:chExt cx="4861800" cy="12112200"/>
          </a:xfrm>
        </p:grpSpPr>
        <p:grpSp>
          <p:nvGrpSpPr>
            <p:cNvPr id="2742" name=""/>
            <p:cNvGrpSpPr/>
            <p:nvPr/>
          </p:nvGrpSpPr>
          <p:grpSpPr>
            <a:xfrm>
              <a:off x="250560" y="152280"/>
              <a:ext cx="4861800" cy="12112200"/>
              <a:chOff x="250560" y="152280"/>
              <a:chExt cx="4861800" cy="12112200"/>
            </a:xfrm>
          </p:grpSpPr>
          <p:grpSp>
            <p:nvGrpSpPr>
              <p:cNvPr id="2743" name=""/>
              <p:cNvGrpSpPr/>
              <p:nvPr/>
            </p:nvGrpSpPr>
            <p:grpSpPr>
              <a:xfrm>
                <a:off x="250560" y="152280"/>
                <a:ext cx="4861800" cy="8532000"/>
                <a:chOff x="250560" y="152280"/>
                <a:chExt cx="4861800" cy="8532000"/>
              </a:xfrm>
            </p:grpSpPr>
            <p:sp>
              <p:nvSpPr>
                <p:cNvPr id="2744" name=""/>
                <p:cNvSpPr/>
                <p:nvPr/>
              </p:nvSpPr>
              <p:spPr>
                <a:xfrm>
                  <a:off x="583200" y="152280"/>
                  <a:ext cx="4263840" cy="5484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rot="19351800">
                  <a:off x="785160" y="2386080"/>
                  <a:ext cx="1404360" cy="2234160"/>
                </a:xfrm>
                <a:prstGeom prst="ellips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 rot="1925400">
                  <a:off x="3221640" y="2386440"/>
                  <a:ext cx="1404360" cy="2234160"/>
                </a:xfrm>
                <a:prstGeom prst="ellips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1394640" y="6246720"/>
                  <a:ext cx="2639880" cy="24375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H="1">
                  <a:off x="2612880" y="5230440"/>
                  <a:ext cx="203040" cy="1422360"/>
                </a:xfrm>
                <a:prstGeom prst="line">
                  <a:avLst/>
                </a:prstGeom>
                <a:ln w="1620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9" name=""/>
              <p:cNvGrpSpPr/>
              <p:nvPr/>
            </p:nvGrpSpPr>
            <p:grpSpPr>
              <a:xfrm>
                <a:off x="380880" y="8279280"/>
                <a:ext cx="4668840" cy="3985200"/>
                <a:chOff x="380880" y="8279280"/>
                <a:chExt cx="4668840" cy="3985200"/>
              </a:xfrm>
            </p:grpSpPr>
            <p:grpSp>
              <p:nvGrpSpPr>
                <p:cNvPr id="2750" name=""/>
                <p:cNvGrpSpPr/>
                <p:nvPr/>
              </p:nvGrpSpPr>
              <p:grpSpPr>
                <a:xfrm>
                  <a:off x="380880" y="10107360"/>
                  <a:ext cx="4668840" cy="2157120"/>
                  <a:chOff x="380880" y="10107360"/>
                  <a:chExt cx="4668840" cy="2157120"/>
                </a:xfrm>
              </p:grpSpPr>
              <p:sp>
                <p:nvSpPr>
                  <p:cNvPr id="2751" name=""/>
                  <p:cNvSpPr/>
                  <p:nvPr/>
                </p:nvSpPr>
                <p:spPr>
                  <a:xfrm>
                    <a:off x="2207880" y="11122200"/>
                    <a:ext cx="1014480" cy="9388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2" name=""/>
                  <p:cNvSpPr/>
                  <p:nvPr/>
                </p:nvSpPr>
                <p:spPr>
                  <a:xfrm>
                    <a:off x="4035240" y="10513080"/>
                    <a:ext cx="1014480" cy="9388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3" name=""/>
                  <p:cNvSpPr/>
                  <p:nvPr/>
                </p:nvSpPr>
                <p:spPr>
                  <a:xfrm>
                    <a:off x="2207880" y="10107360"/>
                    <a:ext cx="1014480" cy="9388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4" name=""/>
                  <p:cNvSpPr/>
                  <p:nvPr/>
                </p:nvSpPr>
                <p:spPr>
                  <a:xfrm>
                    <a:off x="380880" y="10716480"/>
                    <a:ext cx="1014480" cy="9388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5" name=""/>
                  <p:cNvSpPr/>
                  <p:nvPr/>
                </p:nvSpPr>
                <p:spPr>
                  <a:xfrm>
                    <a:off x="3426120" y="11325600"/>
                    <a:ext cx="1014480" cy="9388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6" name=""/>
                <p:cNvGrpSpPr/>
                <p:nvPr/>
              </p:nvGrpSpPr>
              <p:grpSpPr>
                <a:xfrm>
                  <a:off x="782640" y="8279280"/>
                  <a:ext cx="3831120" cy="3268440"/>
                  <a:chOff x="782640" y="8279280"/>
                  <a:chExt cx="3831120" cy="3268440"/>
                </a:xfrm>
              </p:grpSpPr>
              <p:sp>
                <p:nvSpPr>
                  <p:cNvPr id="2757" name=""/>
                  <p:cNvSpPr/>
                  <p:nvPr/>
                </p:nvSpPr>
                <p:spPr>
                  <a:xfrm>
                    <a:off x="3417120" y="8337600"/>
                    <a:ext cx="1196640" cy="240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3" h="569">
                        <a:moveTo>
                          <a:pt x="0" y="0"/>
                        </a:moveTo>
                        <a:cubicBezTo>
                          <a:pt x="46" y="70"/>
                          <a:pt x="59" y="71"/>
                          <a:pt x="128" y="119"/>
                        </a:cubicBezTo>
                        <a:cubicBezTo>
                          <a:pt x="146" y="132"/>
                          <a:pt x="183" y="155"/>
                          <a:pt x="183" y="155"/>
                        </a:cubicBezTo>
                        <a:cubicBezTo>
                          <a:pt x="233" y="231"/>
                          <a:pt x="209" y="216"/>
                          <a:pt x="237" y="301"/>
                        </a:cubicBezTo>
                        <a:cubicBezTo>
                          <a:pt x="248" y="383"/>
                          <a:pt x="245" y="466"/>
                          <a:pt x="256" y="548"/>
                        </a:cubicBezTo>
                        <a:cubicBezTo>
                          <a:pt x="259" y="569"/>
                          <a:pt x="271" y="567"/>
                          <a:pt x="283" y="567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58" name=""/>
                  <p:cNvGrpSpPr/>
                  <p:nvPr/>
                </p:nvGrpSpPr>
                <p:grpSpPr>
                  <a:xfrm>
                    <a:off x="782640" y="8279280"/>
                    <a:ext cx="3276000" cy="3268440"/>
                    <a:chOff x="782640" y="8279280"/>
                    <a:chExt cx="3276000" cy="3268440"/>
                  </a:xfrm>
                </p:grpSpPr>
                <p:sp>
                  <p:nvSpPr>
                    <p:cNvPr id="2759" name=""/>
                    <p:cNvSpPr/>
                    <p:nvPr/>
                  </p:nvSpPr>
                  <p:spPr>
                    <a:xfrm>
                      <a:off x="782640" y="8490240"/>
                      <a:ext cx="1280880" cy="224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3" h="531">
                          <a:moveTo>
                            <a:pt x="303" y="0"/>
                          </a:moveTo>
                          <a:cubicBezTo>
                            <a:pt x="294" y="12"/>
                            <a:pt x="247" y="89"/>
                            <a:pt x="220" y="101"/>
                          </a:cubicBezTo>
                          <a:cubicBezTo>
                            <a:pt x="160" y="127"/>
                            <a:pt x="84" y="133"/>
                            <a:pt x="19" y="147"/>
                          </a:cubicBezTo>
                          <a:cubicBezTo>
                            <a:pt x="0" y="205"/>
                            <a:pt x="13" y="263"/>
                            <a:pt x="47" y="311"/>
                          </a:cubicBezTo>
                          <a:cubicBezTo>
                            <a:pt x="61" y="370"/>
                            <a:pt x="67" y="380"/>
                            <a:pt x="56" y="448"/>
                          </a:cubicBezTo>
                          <a:cubicBezTo>
                            <a:pt x="51" y="481"/>
                            <a:pt x="33" y="500"/>
                            <a:pt x="47" y="531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00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0" name=""/>
                    <p:cNvSpPr/>
                    <p:nvPr/>
                  </p:nvSpPr>
                  <p:spPr>
                    <a:xfrm>
                      <a:off x="2004120" y="8279280"/>
                      <a:ext cx="1682640" cy="304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1" h="384">
                          <a:moveTo>
                            <a:pt x="289" y="384"/>
                          </a:moveTo>
                          <a:cubicBezTo>
                            <a:pt x="333" y="369"/>
                            <a:pt x="426" y="357"/>
                            <a:pt x="426" y="357"/>
                          </a:cubicBezTo>
                          <a:cubicBezTo>
                            <a:pt x="462" y="332"/>
                            <a:pt x="470" y="327"/>
                            <a:pt x="481" y="284"/>
                          </a:cubicBezTo>
                          <a:cubicBezTo>
                            <a:pt x="475" y="258"/>
                            <a:pt x="473" y="187"/>
                            <a:pt x="444" y="174"/>
                          </a:cubicBezTo>
                          <a:cubicBezTo>
                            <a:pt x="402" y="155"/>
                            <a:pt x="353" y="162"/>
                            <a:pt x="307" y="156"/>
                          </a:cubicBezTo>
                          <a:cubicBezTo>
                            <a:pt x="222" y="145"/>
                            <a:pt x="136" y="139"/>
                            <a:pt x="51" y="128"/>
                          </a:cubicBezTo>
                          <a:cubicBezTo>
                            <a:pt x="0" y="94"/>
                            <a:pt x="15" y="67"/>
                            <a:pt x="60" y="37"/>
                          </a:cubicBezTo>
                          <a:cubicBezTo>
                            <a:pt x="124" y="40"/>
                            <a:pt x="188" y="41"/>
                            <a:pt x="252" y="46"/>
                          </a:cubicBezTo>
                          <a:cubicBezTo>
                            <a:pt x="262" y="47"/>
                            <a:pt x="273" y="62"/>
                            <a:pt x="280" y="55"/>
                          </a:cubicBezTo>
                          <a:cubicBezTo>
                            <a:pt x="294" y="41"/>
                            <a:pt x="298" y="0"/>
                            <a:pt x="298" y="0"/>
                          </a:cubicBezTo>
                          <a:cubicBezTo>
                            <a:pt x="304" y="9"/>
                            <a:pt x="316" y="28"/>
                            <a:pt x="316" y="28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00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1" name=""/>
                    <p:cNvSpPr/>
                    <p:nvPr/>
                  </p:nvSpPr>
                  <p:spPr>
                    <a:xfrm>
                      <a:off x="2215080" y="8376120"/>
                      <a:ext cx="622080" cy="18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439">
                          <a:moveTo>
                            <a:pt x="147" y="439"/>
                          </a:moveTo>
                          <a:cubicBezTo>
                            <a:pt x="104" y="425"/>
                            <a:pt x="61" y="416"/>
                            <a:pt x="19" y="402"/>
                          </a:cubicBezTo>
                          <a:cubicBezTo>
                            <a:pt x="0" y="350"/>
                            <a:pt x="7" y="327"/>
                            <a:pt x="55" y="311"/>
                          </a:cubicBezTo>
                          <a:cubicBezTo>
                            <a:pt x="72" y="284"/>
                            <a:pt x="92" y="264"/>
                            <a:pt x="110" y="238"/>
                          </a:cubicBezTo>
                          <a:cubicBezTo>
                            <a:pt x="128" y="164"/>
                            <a:pt x="124" y="198"/>
                            <a:pt x="110" y="73"/>
                          </a:cubicBezTo>
                          <a:cubicBezTo>
                            <a:pt x="107" y="48"/>
                            <a:pt x="92" y="25"/>
                            <a:pt x="92" y="0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00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2" name=""/>
                    <p:cNvSpPr/>
                    <p:nvPr/>
                  </p:nvSpPr>
                  <p:spPr>
                    <a:xfrm>
                      <a:off x="2951280" y="8300160"/>
                      <a:ext cx="1107360" cy="324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" h="768">
                          <a:moveTo>
                            <a:pt x="201" y="768"/>
                          </a:moveTo>
                          <a:cubicBezTo>
                            <a:pt x="208" y="694"/>
                            <a:pt x="214" y="610"/>
                            <a:pt x="238" y="539"/>
                          </a:cubicBezTo>
                          <a:cubicBezTo>
                            <a:pt x="249" y="447"/>
                            <a:pt x="262" y="314"/>
                            <a:pt x="174" y="256"/>
                          </a:cubicBezTo>
                          <a:cubicBezTo>
                            <a:pt x="160" y="213"/>
                            <a:pt x="147" y="226"/>
                            <a:pt x="110" y="201"/>
                          </a:cubicBezTo>
                          <a:cubicBezTo>
                            <a:pt x="93" y="147"/>
                            <a:pt x="93" y="139"/>
                            <a:pt x="37" y="118"/>
                          </a:cubicBezTo>
                          <a:cubicBezTo>
                            <a:pt x="0" y="83"/>
                            <a:pt x="0" y="46"/>
                            <a:pt x="0" y="0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00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763" name=""/>
            <p:cNvSpPr/>
            <p:nvPr/>
          </p:nvSpPr>
          <p:spPr>
            <a:xfrm rot="16200000">
              <a:off x="2451600" y="4175280"/>
              <a:ext cx="876240" cy="176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35" y="1520"/>
                    <a:pt x="8470" y="5080"/>
                    <a:pt x="8470" y="10800"/>
                  </a:cubicBezTo>
                  <a:cubicBezTo>
                    <a:pt x="8470" y="16520"/>
                    <a:pt x="15035" y="2008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4" name=""/>
          <p:cNvSpPr/>
          <p:nvPr/>
        </p:nvSpPr>
        <p:spPr>
          <a:xfrm>
            <a:off x="4952880" y="5410080"/>
            <a:ext cx="785880" cy="727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3733920" y="5791320"/>
            <a:ext cx="1447560" cy="957240"/>
          </a:xfrm>
          <a:custGeom>
            <a:avLst/>
            <a:gdLst/>
            <a:ahLst/>
            <a:rect l="l" t="t" r="r" b="b"/>
            <a:pathLst>
              <a:path w="292" h="292">
                <a:moveTo>
                  <a:pt x="0" y="283"/>
                </a:moveTo>
                <a:cubicBezTo>
                  <a:pt x="62" y="292"/>
                  <a:pt x="87" y="286"/>
                  <a:pt x="146" y="274"/>
                </a:cubicBezTo>
                <a:cubicBezTo>
                  <a:pt x="175" y="255"/>
                  <a:pt x="217" y="229"/>
                  <a:pt x="238" y="201"/>
                </a:cubicBezTo>
                <a:cubicBezTo>
                  <a:pt x="251" y="183"/>
                  <a:pt x="274" y="146"/>
                  <a:pt x="274" y="146"/>
                </a:cubicBezTo>
                <a:cubicBezTo>
                  <a:pt x="292" y="74"/>
                  <a:pt x="283" y="122"/>
                  <a:pt x="283" y="0"/>
                </a:cubicBez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0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2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"/>
          <p:cNvSpPr/>
          <p:nvPr/>
        </p:nvSpPr>
        <p:spPr>
          <a:xfrm>
            <a:off x="5181480" y="304920"/>
            <a:ext cx="3810240" cy="2743200"/>
          </a:xfrm>
          <a:prstGeom prst="wedgeEllipseCallout">
            <a:avLst>
              <a:gd name="adj1" fmla="val -63625"/>
              <a:gd name="adj2" fmla="val 1141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ord be with you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2438280" y="2514600"/>
            <a:ext cx="381240" cy="352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584280" y="152280"/>
            <a:ext cx="4265640" cy="5486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 rot="19351800">
            <a:off x="1262160" y="2412720"/>
            <a:ext cx="140472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 rot="1925400">
            <a:off x="3223800" y="2387520"/>
            <a:ext cx="1405080" cy="22352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1397160" y="6248520"/>
            <a:ext cx="2639880" cy="2438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 flipH="1">
            <a:off x="2616120" y="5232240"/>
            <a:ext cx="201600" cy="1422720"/>
          </a:xfrm>
          <a:prstGeom prst="line">
            <a:avLst/>
          </a:prstGeom>
          <a:ln w="16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4" name=""/>
          <p:cNvGrpSpPr/>
          <p:nvPr/>
        </p:nvGrpSpPr>
        <p:grpSpPr>
          <a:xfrm>
            <a:off x="380880" y="10109160"/>
            <a:ext cx="4671360" cy="2157840"/>
            <a:chOff x="380880" y="10109160"/>
            <a:chExt cx="4671360" cy="2157840"/>
          </a:xfrm>
        </p:grpSpPr>
        <p:sp>
          <p:nvSpPr>
            <p:cNvPr id="2775" name=""/>
            <p:cNvSpPr/>
            <p:nvPr/>
          </p:nvSpPr>
          <p:spPr>
            <a:xfrm>
              <a:off x="2208960" y="11124360"/>
              <a:ext cx="1015200" cy="9392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037040" y="10514880"/>
              <a:ext cx="1015200" cy="9392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208960" y="10109160"/>
              <a:ext cx="1015200" cy="9392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380880" y="10718280"/>
              <a:ext cx="1015200" cy="9392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3427560" y="11327760"/>
              <a:ext cx="1015200" cy="9392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782640" y="8280360"/>
            <a:ext cx="3832920" cy="3270240"/>
            <a:chOff x="782640" y="8280360"/>
            <a:chExt cx="3832920" cy="3270240"/>
          </a:xfrm>
        </p:grpSpPr>
        <p:sp>
          <p:nvSpPr>
            <p:cNvPr id="2781" name=""/>
            <p:cNvSpPr/>
            <p:nvPr/>
          </p:nvSpPr>
          <p:spPr>
            <a:xfrm>
              <a:off x="3418200" y="8338680"/>
              <a:ext cx="1197360" cy="2409120"/>
            </a:xfrm>
            <a:custGeom>
              <a:avLst/>
              <a:gdLst/>
              <a:ahLst/>
              <a:rect l="l" t="t" r="r" b="b"/>
              <a:pathLst>
                <a:path w="283" h="569">
                  <a:moveTo>
                    <a:pt x="0" y="0"/>
                  </a:moveTo>
                  <a:cubicBezTo>
                    <a:pt x="46" y="70"/>
                    <a:pt x="59" y="71"/>
                    <a:pt x="128" y="119"/>
                  </a:cubicBezTo>
                  <a:cubicBezTo>
                    <a:pt x="146" y="132"/>
                    <a:pt x="183" y="155"/>
                    <a:pt x="183" y="155"/>
                  </a:cubicBezTo>
                  <a:cubicBezTo>
                    <a:pt x="233" y="231"/>
                    <a:pt x="209" y="216"/>
                    <a:pt x="237" y="301"/>
                  </a:cubicBezTo>
                  <a:cubicBezTo>
                    <a:pt x="248" y="383"/>
                    <a:pt x="245" y="466"/>
                    <a:pt x="256" y="548"/>
                  </a:cubicBezTo>
                  <a:cubicBezTo>
                    <a:pt x="259" y="569"/>
                    <a:pt x="271" y="567"/>
                    <a:pt x="283" y="56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2" name=""/>
            <p:cNvGrpSpPr/>
            <p:nvPr/>
          </p:nvGrpSpPr>
          <p:grpSpPr>
            <a:xfrm>
              <a:off x="782640" y="8280360"/>
              <a:ext cx="3277080" cy="3270240"/>
              <a:chOff x="782640" y="8280360"/>
              <a:chExt cx="3277080" cy="3270240"/>
            </a:xfrm>
          </p:grpSpPr>
          <p:sp>
            <p:nvSpPr>
              <p:cNvPr id="2783" name=""/>
              <p:cNvSpPr/>
              <p:nvPr/>
            </p:nvSpPr>
            <p:spPr>
              <a:xfrm>
                <a:off x="782640" y="8491320"/>
                <a:ext cx="1281240" cy="2247480"/>
              </a:xfrm>
              <a:custGeom>
                <a:avLst/>
                <a:gdLst/>
                <a:ahLst/>
                <a:rect l="l" t="t" r="r" b="b"/>
                <a:pathLst>
                  <a:path w="303" h="531">
                    <a:moveTo>
                      <a:pt x="303" y="0"/>
                    </a:moveTo>
                    <a:cubicBezTo>
                      <a:pt x="294" y="12"/>
                      <a:pt x="247" y="89"/>
                      <a:pt x="220" y="101"/>
                    </a:cubicBezTo>
                    <a:cubicBezTo>
                      <a:pt x="160" y="127"/>
                      <a:pt x="84" y="133"/>
                      <a:pt x="19" y="147"/>
                    </a:cubicBezTo>
                    <a:cubicBezTo>
                      <a:pt x="0" y="205"/>
                      <a:pt x="13" y="263"/>
                      <a:pt x="47" y="311"/>
                    </a:cubicBezTo>
                    <a:cubicBezTo>
                      <a:pt x="61" y="370"/>
                      <a:pt x="67" y="380"/>
                      <a:pt x="56" y="448"/>
                    </a:cubicBezTo>
                    <a:cubicBezTo>
                      <a:pt x="51" y="481"/>
                      <a:pt x="33" y="500"/>
                      <a:pt x="47" y="531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2004480" y="8280360"/>
                <a:ext cx="1683360" cy="3047040"/>
              </a:xfrm>
              <a:custGeom>
                <a:avLst/>
                <a:gdLst/>
                <a:ahLst/>
                <a:rect l="l" t="t" r="r" b="b"/>
                <a:pathLst>
                  <a:path w="481" h="384">
                    <a:moveTo>
                      <a:pt x="289" y="384"/>
                    </a:moveTo>
                    <a:cubicBezTo>
                      <a:pt x="333" y="369"/>
                      <a:pt x="426" y="357"/>
                      <a:pt x="426" y="357"/>
                    </a:cubicBezTo>
                    <a:cubicBezTo>
                      <a:pt x="462" y="332"/>
                      <a:pt x="470" y="327"/>
                      <a:pt x="481" y="284"/>
                    </a:cubicBezTo>
                    <a:cubicBezTo>
                      <a:pt x="475" y="258"/>
                      <a:pt x="473" y="187"/>
                      <a:pt x="444" y="174"/>
                    </a:cubicBezTo>
                    <a:cubicBezTo>
                      <a:pt x="402" y="155"/>
                      <a:pt x="353" y="162"/>
                      <a:pt x="307" y="156"/>
                    </a:cubicBezTo>
                    <a:cubicBezTo>
                      <a:pt x="222" y="145"/>
                      <a:pt x="136" y="139"/>
                      <a:pt x="51" y="128"/>
                    </a:cubicBezTo>
                    <a:cubicBezTo>
                      <a:pt x="0" y="94"/>
                      <a:pt x="15" y="67"/>
                      <a:pt x="60" y="37"/>
                    </a:cubicBezTo>
                    <a:cubicBezTo>
                      <a:pt x="124" y="40"/>
                      <a:pt x="188" y="41"/>
                      <a:pt x="252" y="46"/>
                    </a:cubicBezTo>
                    <a:cubicBezTo>
                      <a:pt x="262" y="47"/>
                      <a:pt x="273" y="62"/>
                      <a:pt x="280" y="55"/>
                    </a:cubicBezTo>
                    <a:cubicBezTo>
                      <a:pt x="294" y="41"/>
                      <a:pt x="298" y="0"/>
                      <a:pt x="298" y="0"/>
                    </a:cubicBezTo>
                    <a:cubicBezTo>
                      <a:pt x="304" y="9"/>
                      <a:pt x="316" y="28"/>
                      <a:pt x="316" y="28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2215440" y="8377200"/>
                <a:ext cx="622440" cy="1857960"/>
              </a:xfrm>
              <a:custGeom>
                <a:avLst/>
                <a:gdLst/>
                <a:ahLst/>
                <a:rect l="l" t="t" r="r" b="b"/>
                <a:pathLst>
                  <a:path w="147" h="439">
                    <a:moveTo>
                      <a:pt x="147" y="439"/>
                    </a:moveTo>
                    <a:cubicBezTo>
                      <a:pt x="104" y="425"/>
                      <a:pt x="61" y="416"/>
                      <a:pt x="19" y="402"/>
                    </a:cubicBezTo>
                    <a:cubicBezTo>
                      <a:pt x="0" y="350"/>
                      <a:pt x="7" y="327"/>
                      <a:pt x="55" y="311"/>
                    </a:cubicBezTo>
                    <a:cubicBezTo>
                      <a:pt x="72" y="284"/>
                      <a:pt x="92" y="264"/>
                      <a:pt x="110" y="238"/>
                    </a:cubicBezTo>
                    <a:cubicBezTo>
                      <a:pt x="128" y="164"/>
                      <a:pt x="124" y="198"/>
                      <a:pt x="110" y="73"/>
                    </a:cubicBezTo>
                    <a:cubicBezTo>
                      <a:pt x="107" y="48"/>
                      <a:pt x="92" y="25"/>
                      <a:pt x="92" y="0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2952000" y="8301240"/>
                <a:ext cx="1107720" cy="3249360"/>
              </a:xfrm>
              <a:custGeom>
                <a:avLst/>
                <a:gdLst/>
                <a:ahLst/>
                <a:rect l="l" t="t" r="r" b="b"/>
                <a:pathLst>
                  <a:path w="262" h="768">
                    <a:moveTo>
                      <a:pt x="201" y="768"/>
                    </a:moveTo>
                    <a:cubicBezTo>
                      <a:pt x="208" y="694"/>
                      <a:pt x="214" y="610"/>
                      <a:pt x="238" y="539"/>
                    </a:cubicBezTo>
                    <a:cubicBezTo>
                      <a:pt x="249" y="447"/>
                      <a:pt x="262" y="314"/>
                      <a:pt x="174" y="256"/>
                    </a:cubicBezTo>
                    <a:cubicBezTo>
                      <a:pt x="160" y="213"/>
                      <a:pt x="147" y="226"/>
                      <a:pt x="110" y="201"/>
                    </a:cubicBezTo>
                    <a:cubicBezTo>
                      <a:pt x="93" y="147"/>
                      <a:pt x="93" y="139"/>
                      <a:pt x="37" y="118"/>
                    </a:cubicBezTo>
                    <a:cubicBezTo>
                      <a:pt x="0" y="83"/>
                      <a:pt x="0" y="46"/>
                      <a:pt x="0" y="0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7" name=""/>
          <p:cNvSpPr/>
          <p:nvPr/>
        </p:nvSpPr>
        <p:spPr>
          <a:xfrm rot="16200000">
            <a:off x="2452680" y="4176720"/>
            <a:ext cx="876240" cy="1768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4952880" y="5410080"/>
            <a:ext cx="785880" cy="727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3733920" y="5791320"/>
            <a:ext cx="1447560" cy="957240"/>
          </a:xfrm>
          <a:custGeom>
            <a:avLst/>
            <a:gdLst/>
            <a:ahLst/>
            <a:rect l="l" t="t" r="r" b="b"/>
            <a:pathLst>
              <a:path w="292" h="292">
                <a:moveTo>
                  <a:pt x="0" y="283"/>
                </a:moveTo>
                <a:cubicBezTo>
                  <a:pt x="62" y="292"/>
                  <a:pt x="87" y="286"/>
                  <a:pt x="146" y="274"/>
                </a:cubicBezTo>
                <a:cubicBezTo>
                  <a:pt x="175" y="255"/>
                  <a:pt x="217" y="229"/>
                  <a:pt x="238" y="201"/>
                </a:cubicBezTo>
                <a:cubicBezTo>
                  <a:pt x="251" y="183"/>
                  <a:pt x="274" y="146"/>
                  <a:pt x="274" y="146"/>
                </a:cubicBezTo>
                <a:cubicBezTo>
                  <a:pt x="292" y="74"/>
                  <a:pt x="283" y="122"/>
                  <a:pt x="283" y="0"/>
                </a:cubicBez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5181480" y="4419720"/>
            <a:ext cx="304920" cy="1295280"/>
          </a:xfrm>
          <a:custGeom>
            <a:avLst/>
            <a:gdLst/>
            <a:ahLst/>
            <a:rect l="l" t="t" r="r" b="b"/>
            <a:pathLst>
              <a:path w="277" h="467">
                <a:moveTo>
                  <a:pt x="21" y="0"/>
                </a:moveTo>
                <a:cubicBezTo>
                  <a:pt x="19" y="60"/>
                  <a:pt x="0" y="360"/>
                  <a:pt x="21" y="430"/>
                </a:cubicBezTo>
                <a:cubicBezTo>
                  <a:pt x="24" y="441"/>
                  <a:pt x="138" y="464"/>
                  <a:pt x="149" y="467"/>
                </a:cubicBezTo>
                <a:cubicBezTo>
                  <a:pt x="215" y="451"/>
                  <a:pt x="173" y="458"/>
                  <a:pt x="277" y="458"/>
                </a:cubicBez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5616720" y="5751360"/>
            <a:ext cx="609480" cy="54000"/>
          </a:xfrm>
          <a:custGeom>
            <a:avLst/>
            <a:gdLst/>
            <a:ahLst/>
            <a:rect l="l" t="t" r="r" b="b"/>
            <a:pathLst>
              <a:path w="384" h="34">
                <a:moveTo>
                  <a:pt x="0" y="34"/>
                </a:moveTo>
                <a:cubicBezTo>
                  <a:pt x="106" y="0"/>
                  <a:pt x="271" y="7"/>
                  <a:pt x="384" y="7"/>
                </a:cubicBez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0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500"/>
                            </p:stCondLst>
                            <p:childTnLst>
                              <p:par>
                                <p:cTn id="14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152388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182880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182880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198108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320040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15238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3048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1905120" y="243828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2666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2971800" y="27432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2209680" y="27432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 rot="16200000">
            <a:off x="2339280" y="2613960"/>
            <a:ext cx="404640" cy="1272960"/>
          </a:xfrm>
          <a:custGeom>
            <a:avLst/>
            <a:gdLst>
              <a:gd name="textAreaLeft" fmla="*/ 149400 w 404640"/>
              <a:gd name="textAreaRight" fmla="*/ 273600 w 404640"/>
              <a:gd name="textAreaTop" fmla="*/ 142560 h 1272960"/>
              <a:gd name="textAreaBottom" fmla="*/ 1130400 h 127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03" y="2620"/>
                  <a:pt x="14606" y="5080"/>
                  <a:pt x="14606" y="10800"/>
                </a:cubicBezTo>
                <a:cubicBezTo>
                  <a:pt x="14606" y="16520"/>
                  <a:pt x="18103" y="189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 flipH="1" flipV="1">
            <a:off x="2133360" y="1600200"/>
            <a:ext cx="5331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 flipH="1" flipV="1">
            <a:off x="228600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5486400" y="297180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791320" y="3657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6400800" y="365760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586728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rot="16200000">
            <a:off x="6187320" y="4099320"/>
            <a:ext cx="32868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5867280" y="4648320"/>
            <a:ext cx="9144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 rot="9534600">
            <a:off x="5638320" y="266688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 rot="11531400">
            <a:off x="5943240" y="266652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 rot="13149000">
            <a:off x="6095520" y="259020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 rot="14453400">
            <a:off x="6324480" y="259020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5867280" y="54100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55627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6477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76212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 rot="21314400">
            <a:off x="365724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5105520" y="44956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7086600" y="4952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3276720" y="304920"/>
            <a:ext cx="4724280" cy="2361960"/>
          </a:xfrm>
          <a:prstGeom prst="wedgeEllipseCallout">
            <a:avLst>
              <a:gd name="adj1" fmla="val -1916"/>
              <a:gd name="adj2" fmla="val 685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intergalactically with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0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0" name=""/>
          <p:cNvGrpSpPr/>
          <p:nvPr/>
        </p:nvGrpSpPr>
        <p:grpSpPr>
          <a:xfrm>
            <a:off x="380880" y="10109160"/>
            <a:ext cx="4671360" cy="2157840"/>
            <a:chOff x="380880" y="10109160"/>
            <a:chExt cx="4671360" cy="2157840"/>
          </a:xfrm>
        </p:grpSpPr>
        <p:sp>
          <p:nvSpPr>
            <p:cNvPr id="2831" name=""/>
            <p:cNvSpPr/>
            <p:nvPr/>
          </p:nvSpPr>
          <p:spPr>
            <a:xfrm>
              <a:off x="2208960" y="11124360"/>
              <a:ext cx="1015200" cy="9392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037040" y="10514880"/>
              <a:ext cx="1015200" cy="9392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208960" y="10109160"/>
              <a:ext cx="1015200" cy="9392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80880" y="10718280"/>
              <a:ext cx="1015200" cy="9392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427560" y="11327760"/>
              <a:ext cx="1015200" cy="9392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6" name=""/>
          <p:cNvGrpSpPr/>
          <p:nvPr/>
        </p:nvGrpSpPr>
        <p:grpSpPr>
          <a:xfrm>
            <a:off x="782640" y="8280360"/>
            <a:ext cx="3832920" cy="3270240"/>
            <a:chOff x="782640" y="8280360"/>
            <a:chExt cx="3832920" cy="3270240"/>
          </a:xfrm>
        </p:grpSpPr>
        <p:sp>
          <p:nvSpPr>
            <p:cNvPr id="2837" name=""/>
            <p:cNvSpPr/>
            <p:nvPr/>
          </p:nvSpPr>
          <p:spPr>
            <a:xfrm>
              <a:off x="3418200" y="8338680"/>
              <a:ext cx="1197360" cy="2409120"/>
            </a:xfrm>
            <a:custGeom>
              <a:avLst/>
              <a:gdLst/>
              <a:ahLst/>
              <a:rect l="l" t="t" r="r" b="b"/>
              <a:pathLst>
                <a:path w="283" h="569">
                  <a:moveTo>
                    <a:pt x="0" y="0"/>
                  </a:moveTo>
                  <a:cubicBezTo>
                    <a:pt x="46" y="70"/>
                    <a:pt x="59" y="71"/>
                    <a:pt x="128" y="119"/>
                  </a:cubicBezTo>
                  <a:cubicBezTo>
                    <a:pt x="146" y="132"/>
                    <a:pt x="183" y="155"/>
                    <a:pt x="183" y="155"/>
                  </a:cubicBezTo>
                  <a:cubicBezTo>
                    <a:pt x="233" y="231"/>
                    <a:pt x="209" y="216"/>
                    <a:pt x="237" y="301"/>
                  </a:cubicBezTo>
                  <a:cubicBezTo>
                    <a:pt x="248" y="383"/>
                    <a:pt x="245" y="466"/>
                    <a:pt x="256" y="548"/>
                  </a:cubicBezTo>
                  <a:cubicBezTo>
                    <a:pt x="259" y="569"/>
                    <a:pt x="271" y="567"/>
                    <a:pt x="283" y="56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8" name=""/>
            <p:cNvGrpSpPr/>
            <p:nvPr/>
          </p:nvGrpSpPr>
          <p:grpSpPr>
            <a:xfrm>
              <a:off x="782640" y="8280360"/>
              <a:ext cx="3277080" cy="3270240"/>
              <a:chOff x="782640" y="8280360"/>
              <a:chExt cx="3277080" cy="3270240"/>
            </a:xfrm>
          </p:grpSpPr>
          <p:sp>
            <p:nvSpPr>
              <p:cNvPr id="2839" name=""/>
              <p:cNvSpPr/>
              <p:nvPr/>
            </p:nvSpPr>
            <p:spPr>
              <a:xfrm>
                <a:off x="782640" y="8491320"/>
                <a:ext cx="1281240" cy="2247480"/>
              </a:xfrm>
              <a:custGeom>
                <a:avLst/>
                <a:gdLst/>
                <a:ahLst/>
                <a:rect l="l" t="t" r="r" b="b"/>
                <a:pathLst>
                  <a:path w="303" h="531">
                    <a:moveTo>
                      <a:pt x="303" y="0"/>
                    </a:moveTo>
                    <a:cubicBezTo>
                      <a:pt x="294" y="12"/>
                      <a:pt x="247" y="89"/>
                      <a:pt x="220" y="101"/>
                    </a:cubicBezTo>
                    <a:cubicBezTo>
                      <a:pt x="160" y="127"/>
                      <a:pt x="84" y="133"/>
                      <a:pt x="19" y="147"/>
                    </a:cubicBezTo>
                    <a:cubicBezTo>
                      <a:pt x="0" y="205"/>
                      <a:pt x="13" y="263"/>
                      <a:pt x="47" y="311"/>
                    </a:cubicBezTo>
                    <a:cubicBezTo>
                      <a:pt x="61" y="370"/>
                      <a:pt x="67" y="380"/>
                      <a:pt x="56" y="448"/>
                    </a:cubicBezTo>
                    <a:cubicBezTo>
                      <a:pt x="51" y="481"/>
                      <a:pt x="33" y="500"/>
                      <a:pt x="47" y="531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2004480" y="8280360"/>
                <a:ext cx="1683360" cy="3047040"/>
              </a:xfrm>
              <a:custGeom>
                <a:avLst/>
                <a:gdLst/>
                <a:ahLst/>
                <a:rect l="l" t="t" r="r" b="b"/>
                <a:pathLst>
                  <a:path w="481" h="384">
                    <a:moveTo>
                      <a:pt x="289" y="384"/>
                    </a:moveTo>
                    <a:cubicBezTo>
                      <a:pt x="333" y="369"/>
                      <a:pt x="426" y="357"/>
                      <a:pt x="426" y="357"/>
                    </a:cubicBezTo>
                    <a:cubicBezTo>
                      <a:pt x="462" y="332"/>
                      <a:pt x="470" y="327"/>
                      <a:pt x="481" y="284"/>
                    </a:cubicBezTo>
                    <a:cubicBezTo>
                      <a:pt x="475" y="258"/>
                      <a:pt x="473" y="187"/>
                      <a:pt x="444" y="174"/>
                    </a:cubicBezTo>
                    <a:cubicBezTo>
                      <a:pt x="402" y="155"/>
                      <a:pt x="353" y="162"/>
                      <a:pt x="307" y="156"/>
                    </a:cubicBezTo>
                    <a:cubicBezTo>
                      <a:pt x="222" y="145"/>
                      <a:pt x="136" y="139"/>
                      <a:pt x="51" y="128"/>
                    </a:cubicBezTo>
                    <a:cubicBezTo>
                      <a:pt x="0" y="94"/>
                      <a:pt x="15" y="67"/>
                      <a:pt x="60" y="37"/>
                    </a:cubicBezTo>
                    <a:cubicBezTo>
                      <a:pt x="124" y="40"/>
                      <a:pt x="188" y="41"/>
                      <a:pt x="252" y="46"/>
                    </a:cubicBezTo>
                    <a:cubicBezTo>
                      <a:pt x="262" y="47"/>
                      <a:pt x="273" y="62"/>
                      <a:pt x="280" y="55"/>
                    </a:cubicBezTo>
                    <a:cubicBezTo>
                      <a:pt x="294" y="41"/>
                      <a:pt x="298" y="0"/>
                      <a:pt x="298" y="0"/>
                    </a:cubicBezTo>
                    <a:cubicBezTo>
                      <a:pt x="304" y="9"/>
                      <a:pt x="316" y="28"/>
                      <a:pt x="316" y="28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2215440" y="8377200"/>
                <a:ext cx="622440" cy="1857960"/>
              </a:xfrm>
              <a:custGeom>
                <a:avLst/>
                <a:gdLst/>
                <a:ahLst/>
                <a:rect l="l" t="t" r="r" b="b"/>
                <a:pathLst>
                  <a:path w="147" h="439">
                    <a:moveTo>
                      <a:pt x="147" y="439"/>
                    </a:moveTo>
                    <a:cubicBezTo>
                      <a:pt x="104" y="425"/>
                      <a:pt x="61" y="416"/>
                      <a:pt x="19" y="402"/>
                    </a:cubicBezTo>
                    <a:cubicBezTo>
                      <a:pt x="0" y="350"/>
                      <a:pt x="7" y="327"/>
                      <a:pt x="55" y="311"/>
                    </a:cubicBezTo>
                    <a:cubicBezTo>
                      <a:pt x="72" y="284"/>
                      <a:pt x="92" y="264"/>
                      <a:pt x="110" y="238"/>
                    </a:cubicBezTo>
                    <a:cubicBezTo>
                      <a:pt x="128" y="164"/>
                      <a:pt x="124" y="198"/>
                      <a:pt x="110" y="73"/>
                    </a:cubicBezTo>
                    <a:cubicBezTo>
                      <a:pt x="107" y="48"/>
                      <a:pt x="92" y="25"/>
                      <a:pt x="92" y="0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2952000" y="8301240"/>
                <a:ext cx="1107720" cy="3249360"/>
              </a:xfrm>
              <a:custGeom>
                <a:avLst/>
                <a:gdLst/>
                <a:ahLst/>
                <a:rect l="l" t="t" r="r" b="b"/>
                <a:pathLst>
                  <a:path w="262" h="768">
                    <a:moveTo>
                      <a:pt x="201" y="768"/>
                    </a:moveTo>
                    <a:cubicBezTo>
                      <a:pt x="208" y="694"/>
                      <a:pt x="214" y="610"/>
                      <a:pt x="238" y="539"/>
                    </a:cubicBezTo>
                    <a:cubicBezTo>
                      <a:pt x="249" y="447"/>
                      <a:pt x="262" y="314"/>
                      <a:pt x="174" y="256"/>
                    </a:cubicBezTo>
                    <a:cubicBezTo>
                      <a:pt x="160" y="213"/>
                      <a:pt x="147" y="226"/>
                      <a:pt x="110" y="201"/>
                    </a:cubicBezTo>
                    <a:cubicBezTo>
                      <a:pt x="93" y="147"/>
                      <a:pt x="93" y="139"/>
                      <a:pt x="37" y="118"/>
                    </a:cubicBezTo>
                    <a:cubicBezTo>
                      <a:pt x="0" y="83"/>
                      <a:pt x="0" y="46"/>
                      <a:pt x="0" y="0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3" name=""/>
          <p:cNvSpPr/>
          <p:nvPr/>
        </p:nvSpPr>
        <p:spPr>
          <a:xfrm>
            <a:off x="5181480" y="4495680"/>
            <a:ext cx="304920" cy="1295640"/>
          </a:xfrm>
          <a:custGeom>
            <a:avLst/>
            <a:gdLst/>
            <a:ahLst/>
            <a:rect l="l" t="t" r="r" b="b"/>
            <a:pathLst>
              <a:path w="277" h="467">
                <a:moveTo>
                  <a:pt x="21" y="0"/>
                </a:moveTo>
                <a:cubicBezTo>
                  <a:pt x="19" y="60"/>
                  <a:pt x="0" y="360"/>
                  <a:pt x="21" y="430"/>
                </a:cubicBezTo>
                <a:cubicBezTo>
                  <a:pt x="24" y="441"/>
                  <a:pt x="138" y="464"/>
                  <a:pt x="149" y="467"/>
                </a:cubicBezTo>
                <a:cubicBezTo>
                  <a:pt x="215" y="451"/>
                  <a:pt x="173" y="458"/>
                  <a:pt x="277" y="458"/>
                </a:cubicBez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4" name=""/>
          <p:cNvGrpSpPr/>
          <p:nvPr/>
        </p:nvGrpSpPr>
        <p:grpSpPr>
          <a:xfrm>
            <a:off x="304920" y="380880"/>
            <a:ext cx="5357160" cy="8534520"/>
            <a:chOff x="304920" y="380880"/>
            <a:chExt cx="5357160" cy="8534520"/>
          </a:xfrm>
        </p:grpSpPr>
        <p:sp>
          <p:nvSpPr>
            <p:cNvPr id="2845" name=""/>
            <p:cNvSpPr/>
            <p:nvPr/>
          </p:nvSpPr>
          <p:spPr>
            <a:xfrm>
              <a:off x="4876560" y="5638680"/>
              <a:ext cx="785520" cy="7272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6" name=""/>
            <p:cNvGrpSpPr/>
            <p:nvPr/>
          </p:nvGrpSpPr>
          <p:grpSpPr>
            <a:xfrm>
              <a:off x="304920" y="380880"/>
              <a:ext cx="4799880" cy="8534520"/>
              <a:chOff x="304920" y="380880"/>
              <a:chExt cx="4799880" cy="8534520"/>
            </a:xfrm>
          </p:grpSpPr>
          <p:sp>
            <p:nvSpPr>
              <p:cNvPr id="2847" name=""/>
              <p:cNvSpPr/>
              <p:nvPr/>
            </p:nvSpPr>
            <p:spPr>
              <a:xfrm>
                <a:off x="507960" y="380880"/>
                <a:ext cx="4265280" cy="48006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 rot="19351800">
                <a:off x="1066680" y="1294920"/>
                <a:ext cx="1404720" cy="223524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 rot="1925400">
                <a:off x="2895120" y="1270080"/>
                <a:ext cx="1404720" cy="223524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1320840" y="6477120"/>
                <a:ext cx="2639520" cy="2438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 flipH="1">
                <a:off x="2539800" y="4952880"/>
                <a:ext cx="126720" cy="1930680"/>
              </a:xfrm>
              <a:prstGeom prst="line">
                <a:avLst/>
              </a:prstGeom>
              <a:ln w="1620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rot="16200000">
                <a:off x="2274480" y="3135240"/>
                <a:ext cx="876600" cy="176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5035" y="1520"/>
                      <a:pt x="8470" y="5080"/>
                      <a:pt x="8470" y="10800"/>
                    </a:cubicBezTo>
                    <a:cubicBezTo>
                      <a:pt x="8470" y="16520"/>
                      <a:pt x="15035" y="2008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3657600" y="6019920"/>
                <a:ext cx="1447200" cy="957240"/>
              </a:xfrm>
              <a:custGeom>
                <a:avLst/>
                <a:gdLst/>
                <a:ahLst/>
                <a:rect l="l" t="t" r="r" b="b"/>
                <a:pathLst>
                  <a:path w="292" h="292">
                    <a:moveTo>
                      <a:pt x="0" y="283"/>
                    </a:moveTo>
                    <a:cubicBezTo>
                      <a:pt x="62" y="292"/>
                      <a:pt x="87" y="286"/>
                      <a:pt x="146" y="274"/>
                    </a:cubicBezTo>
                    <a:cubicBezTo>
                      <a:pt x="175" y="255"/>
                      <a:pt x="217" y="229"/>
                      <a:pt x="238" y="201"/>
                    </a:cubicBezTo>
                    <a:cubicBezTo>
                      <a:pt x="251" y="183"/>
                      <a:pt x="274" y="146"/>
                      <a:pt x="274" y="146"/>
                    </a:cubicBezTo>
                    <a:cubicBezTo>
                      <a:pt x="292" y="74"/>
                      <a:pt x="283" y="122"/>
                      <a:pt x="283" y="0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04920" y="5715000"/>
                <a:ext cx="785520" cy="7272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rot="3918000">
                <a:off x="608040" y="6130440"/>
                <a:ext cx="1447920" cy="956880"/>
              </a:xfrm>
              <a:custGeom>
                <a:avLst/>
                <a:gdLst/>
                <a:ahLst/>
                <a:rect l="l" t="t" r="r" b="b"/>
                <a:pathLst>
                  <a:path w="292" h="292">
                    <a:moveTo>
                      <a:pt x="0" y="283"/>
                    </a:moveTo>
                    <a:cubicBezTo>
                      <a:pt x="62" y="292"/>
                      <a:pt x="87" y="286"/>
                      <a:pt x="146" y="274"/>
                    </a:cubicBezTo>
                    <a:cubicBezTo>
                      <a:pt x="175" y="255"/>
                      <a:pt x="217" y="229"/>
                      <a:pt x="238" y="201"/>
                    </a:cubicBezTo>
                    <a:cubicBezTo>
                      <a:pt x="251" y="183"/>
                      <a:pt x="274" y="146"/>
                      <a:pt x="274" y="146"/>
                    </a:cubicBezTo>
                    <a:cubicBezTo>
                      <a:pt x="292" y="74"/>
                      <a:pt x="283" y="122"/>
                      <a:pt x="283" y="0"/>
                    </a:cubicBezTo>
                  </a:path>
                </a:pathLst>
              </a:custGeom>
              <a:noFill/>
              <a:ln w="763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6" name=""/>
          <p:cNvSpPr/>
          <p:nvPr/>
        </p:nvSpPr>
        <p:spPr>
          <a:xfrm>
            <a:off x="5181480" y="304920"/>
            <a:ext cx="3810240" cy="2743200"/>
          </a:xfrm>
          <a:prstGeom prst="wedgeEllipseCallout">
            <a:avLst>
              <a:gd name="adj1" fmla="val -81125"/>
              <a:gd name="adj2" fmla="val 829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am me up, Triggan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0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5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66" dur="50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69" dur="50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72" dur="5000"/>
                                        <p:tgtEl>
                                          <p:spTgt spid="2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152388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182880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182880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198108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320040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15238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3048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1905120" y="243828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2666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2971800" y="27432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2209680" y="27432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 rot="16200000">
            <a:off x="2339280" y="2613960"/>
            <a:ext cx="404640" cy="1272960"/>
          </a:xfrm>
          <a:custGeom>
            <a:avLst/>
            <a:gdLst>
              <a:gd name="textAreaLeft" fmla="*/ 149400 w 404640"/>
              <a:gd name="textAreaRight" fmla="*/ 273600 w 404640"/>
              <a:gd name="textAreaTop" fmla="*/ 142560 h 1272960"/>
              <a:gd name="textAreaBottom" fmla="*/ 1130400 h 127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03" y="2620"/>
                  <a:pt x="14606" y="5080"/>
                  <a:pt x="14606" y="10800"/>
                </a:cubicBezTo>
                <a:cubicBezTo>
                  <a:pt x="14606" y="16520"/>
                  <a:pt x="18103" y="189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 flipH="1" flipV="1">
            <a:off x="2133360" y="1600200"/>
            <a:ext cx="5331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 flipH="1" flipV="1">
            <a:off x="228600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5486400" y="297180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5791320" y="3657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6400800" y="365760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586728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 rot="16200000">
            <a:off x="6187320" y="4099320"/>
            <a:ext cx="32868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5867280" y="4648320"/>
            <a:ext cx="9144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 rot="9534600">
            <a:off x="5638320" y="266688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 rot="11531400">
            <a:off x="5943240" y="266652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 rot="13149000">
            <a:off x="6095520" y="259020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 rot="14453400">
            <a:off x="6324480" y="259020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5867280" y="54100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55627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6477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76212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 rot="21314400">
            <a:off x="365724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5105520" y="44956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7086600" y="4952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2895480" y="228600"/>
            <a:ext cx="4724640" cy="2362320"/>
          </a:xfrm>
          <a:prstGeom prst="wedgeEllipseCallout">
            <a:avLst>
              <a:gd name="adj1" fmla="val 6953"/>
              <a:gd name="adj2" fmla="val 967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igga-who? Geez! My mom’s never gonna believe th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0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36576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45720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152388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82880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182880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198108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320040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15238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3048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1905120" y="243828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2666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2971800" y="27432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2209680" y="27432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 rot="16200000">
            <a:off x="2339280" y="2613960"/>
            <a:ext cx="404640" cy="1272960"/>
          </a:xfrm>
          <a:custGeom>
            <a:avLst/>
            <a:gdLst>
              <a:gd name="textAreaLeft" fmla="*/ 149400 w 404640"/>
              <a:gd name="textAreaRight" fmla="*/ 273600 w 404640"/>
              <a:gd name="textAreaTop" fmla="*/ 142560 h 1272960"/>
              <a:gd name="textAreaBottom" fmla="*/ 1130400 h 127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03" y="2620"/>
                  <a:pt x="14606" y="5080"/>
                  <a:pt x="14606" y="10800"/>
                </a:cubicBezTo>
                <a:cubicBezTo>
                  <a:pt x="14606" y="16520"/>
                  <a:pt x="18103" y="189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 flipH="1" flipV="1">
            <a:off x="2133360" y="1600200"/>
            <a:ext cx="5331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 flipH="1" flipV="1">
            <a:off x="228600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5486400" y="297180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5791320" y="3657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6400800" y="365760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5867280" y="3809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 rot="16200000">
            <a:off x="6187320" y="4099320"/>
            <a:ext cx="32868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867280" y="4648320"/>
            <a:ext cx="9144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 rot="9534600">
            <a:off x="5638320" y="266688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 rot="11531400">
            <a:off x="5943240" y="266652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 rot="13149000">
            <a:off x="6095520" y="259020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 rot="14453400">
            <a:off x="6324480" y="259020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5867280" y="54100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55627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6477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76212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rot="21314400">
            <a:off x="365724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105520" y="44956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7086600" y="4952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4419720" y="0"/>
            <a:ext cx="4724280" cy="4191120"/>
          </a:xfrm>
          <a:prstGeom prst="wedgeEllipseCallout">
            <a:avLst>
              <a:gd name="adj1" fmla="val -72481"/>
              <a:gd name="adj2" fmla="val 27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uldn’t it be cool if we could just ride around lookin’ for God’s presence and activity in the univer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0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4864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64008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152388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182880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182880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198108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320040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38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3048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1905120" y="243828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2666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2971800" y="27432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2209680" y="27432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rot="16200000">
            <a:off x="2339280" y="2613960"/>
            <a:ext cx="404640" cy="1272960"/>
          </a:xfrm>
          <a:custGeom>
            <a:avLst/>
            <a:gdLst>
              <a:gd name="textAreaLeft" fmla="*/ 149400 w 404640"/>
              <a:gd name="textAreaRight" fmla="*/ 273600 w 404640"/>
              <a:gd name="textAreaTop" fmla="*/ 142560 h 1272960"/>
              <a:gd name="textAreaBottom" fmla="*/ 1130400 h 127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03" y="2620"/>
                  <a:pt x="14606" y="5080"/>
                  <a:pt x="14606" y="10800"/>
                </a:cubicBezTo>
                <a:cubicBezTo>
                  <a:pt x="14606" y="16520"/>
                  <a:pt x="18103" y="189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 flipH="1" flipV="1">
            <a:off x="2133360" y="1600200"/>
            <a:ext cx="5331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 flipH="1" flipV="1">
            <a:off x="228600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5486400" y="297180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5791320" y="3657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6400800" y="365760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5867280" y="3809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 rot="16200000">
            <a:off x="6187320" y="4099320"/>
            <a:ext cx="32868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5867280" y="4648320"/>
            <a:ext cx="9144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 rot="9534600">
            <a:off x="5638320" y="266688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 rot="11531400">
            <a:off x="5943240" y="266652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 rot="13149000">
            <a:off x="6095520" y="259020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 rot="14453400">
            <a:off x="6324480" y="259020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5867280" y="54100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55627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6477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76212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 rot="21314400">
            <a:off x="365724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5105520" y="44956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7086600" y="4952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4419720" y="0"/>
            <a:ext cx="4724280" cy="2590920"/>
          </a:xfrm>
          <a:prstGeom prst="wedgeEllipseCallout">
            <a:avLst>
              <a:gd name="adj1" fmla="val 4537"/>
              <a:gd name="adj2" fmla="val 713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think God’s got enough for us to do right 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0" y="5715000"/>
            <a:ext cx="1447920" cy="60948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0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"/>
          <p:cNvSpPr/>
          <p:nvPr/>
        </p:nvSpPr>
        <p:spPr>
          <a:xfrm>
            <a:off x="38088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2666880" y="2819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3429000" y="3276720"/>
            <a:ext cx="30492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 rot="16200000">
            <a:off x="2324160" y="4076640"/>
            <a:ext cx="380880" cy="13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72" y="3076"/>
                  <a:pt x="17144" y="5080"/>
                  <a:pt x="17144" y="10800"/>
                </a:cubicBezTo>
                <a:cubicBezTo>
                  <a:pt x="17144" y="16520"/>
                  <a:pt x="19372" y="185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4648320" y="533520"/>
            <a:ext cx="3504960" cy="1981080"/>
          </a:xfrm>
          <a:prstGeom prst="wedgeEllipseCallout">
            <a:avLst>
              <a:gd name="adj1" fmla="val -69430"/>
              <a:gd name="adj2" fmla="val 1326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your Faith Trek and min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1143000" y="2819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1981080" y="3276720"/>
            <a:ext cx="30492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685800" y="5181480"/>
            <a:ext cx="3048120" cy="167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 flipV="1">
            <a:off x="2286000" y="1599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 flipV="1">
            <a:off x="2362320" y="1219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0" name=""/>
          <p:cNvGrpSpPr/>
          <p:nvPr/>
        </p:nvGrpSpPr>
        <p:grpSpPr>
          <a:xfrm>
            <a:off x="3962520" y="4251240"/>
            <a:ext cx="1382760" cy="1489320"/>
            <a:chOff x="3962520" y="4251240"/>
            <a:chExt cx="1382760" cy="1489320"/>
          </a:xfrm>
        </p:grpSpPr>
        <p:sp>
          <p:nvSpPr>
            <p:cNvPr id="2981" name=""/>
            <p:cNvSpPr/>
            <p:nvPr/>
          </p:nvSpPr>
          <p:spPr>
            <a:xfrm flipH="1" rot="16200000">
              <a:off x="4006080" y="4793400"/>
              <a:ext cx="903600" cy="99072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H="1" rot="16200000">
              <a:off x="5018760" y="5013720"/>
              <a:ext cx="158760" cy="493920"/>
            </a:xfrm>
            <a:custGeom>
              <a:avLst/>
              <a:gdLst/>
              <a:ahLst/>
              <a:rect l="l" t="t" r="r" b="b"/>
              <a:pathLst>
                <a:path w="110" h="311">
                  <a:moveTo>
                    <a:pt x="110" y="311"/>
                  </a:moveTo>
                  <a:cubicBezTo>
                    <a:pt x="33" y="231"/>
                    <a:pt x="0" y="92"/>
                    <a:pt x="92" y="0"/>
                  </a:cubicBezTo>
                </a:path>
              </a:pathLst>
            </a:cu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 flipH="1" rot="16200000">
              <a:off x="4293720" y="4629600"/>
              <a:ext cx="835200" cy="78120"/>
            </a:xfrm>
            <a:custGeom>
              <a:avLst/>
              <a:gdLst/>
              <a:ahLst/>
              <a:rect l="l" t="t" r="r" b="b"/>
              <a:pathLst>
                <a:path w="576" h="49">
                  <a:moveTo>
                    <a:pt x="576" y="0"/>
                  </a:moveTo>
                  <a:cubicBezTo>
                    <a:pt x="439" y="17"/>
                    <a:pt x="314" y="31"/>
                    <a:pt x="174" y="37"/>
                  </a:cubicBezTo>
                  <a:cubicBezTo>
                    <a:pt x="62" y="49"/>
                    <a:pt x="119" y="46"/>
                    <a:pt x="0" y="46"/>
                  </a:cubicBezTo>
                </a:path>
              </a:pathLst>
            </a:custGeom>
            <a:noFill/>
            <a:ln w="76320">
              <a:solidFill>
                <a:srgbClr val="ffd5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1447920"/>
            <a:ext cx="3657600" cy="36576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90920" y="2819520"/>
            <a:ext cx="121896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342900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2019240" y="3695400"/>
            <a:ext cx="761760" cy="175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380880"/>
            <a:ext cx="4572000" cy="3048120"/>
          </a:xfrm>
          <a:prstGeom prst="wedgeEllipseCallout">
            <a:avLst>
              <a:gd name="adj1" fmla="val -41351"/>
              <a:gd name="adj2" fmla="val 68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gotta be home before d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2819520"/>
            <a:ext cx="121932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35812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5181480"/>
            <a:ext cx="3048120" cy="167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86000" y="1599840"/>
            <a:ext cx="685800" cy="2286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362320" y="1219320"/>
            <a:ext cx="533160" cy="4572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73152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82296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152388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182880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182880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198108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320040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15238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3048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1905120" y="243828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2666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2971800" y="27432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2209680" y="27432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 rot="16200000">
            <a:off x="2339280" y="2613960"/>
            <a:ext cx="404640" cy="1272960"/>
          </a:xfrm>
          <a:custGeom>
            <a:avLst/>
            <a:gdLst>
              <a:gd name="textAreaLeft" fmla="*/ 149400 w 404640"/>
              <a:gd name="textAreaRight" fmla="*/ 273600 w 404640"/>
              <a:gd name="textAreaTop" fmla="*/ 142560 h 1272960"/>
              <a:gd name="textAreaBottom" fmla="*/ 1130400 h 127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03" y="2620"/>
                  <a:pt x="14606" y="5080"/>
                  <a:pt x="14606" y="10800"/>
                </a:cubicBezTo>
                <a:cubicBezTo>
                  <a:pt x="14606" y="16520"/>
                  <a:pt x="18103" y="189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 flipH="1" flipV="1">
            <a:off x="2133360" y="1600200"/>
            <a:ext cx="5331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 flipH="1" flipV="1">
            <a:off x="228600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5486400" y="297180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5791320" y="3657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6400800" y="365760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867280" y="3809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 rot="16200000">
            <a:off x="6187320" y="4099320"/>
            <a:ext cx="32868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5867280" y="4648320"/>
            <a:ext cx="9144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 rot="9534600">
            <a:off x="5638320" y="266688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 rot="11531400">
            <a:off x="5943240" y="266652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 rot="13149000">
            <a:off x="6095520" y="259020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 rot="14453400">
            <a:off x="6324480" y="259020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867280" y="54100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5627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6477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76212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rot="21314400">
            <a:off x="365724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5105520" y="44956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7086600" y="4952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4419720" y="0"/>
            <a:ext cx="2743200" cy="2590920"/>
          </a:xfrm>
          <a:prstGeom prst="wedgeEllipseCallout">
            <a:avLst>
              <a:gd name="adj1" fmla="val -74828"/>
              <a:gd name="adj2" fmla="val 64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we have lift of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304920" y="3657600"/>
            <a:ext cx="1447560" cy="60948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fill="hold">
                      <p:stCondLst>
                        <p:cond delay="0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2.22222E-006 L 0.67083 0.16666 E">
                                      <p:cBhvr>
                                        <p:cTn id="1524" dur="1000" fill="hold"/>
                                        <p:tgtEl>
                                          <p:spTgt spid="30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296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1440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52388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82880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182880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198108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320040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15238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048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905120" y="243828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2666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2971800" y="27432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2209680" y="27432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 rot="16200000">
            <a:off x="2339280" y="2613960"/>
            <a:ext cx="404640" cy="1272960"/>
          </a:xfrm>
          <a:custGeom>
            <a:avLst/>
            <a:gdLst>
              <a:gd name="textAreaLeft" fmla="*/ 149400 w 404640"/>
              <a:gd name="textAreaRight" fmla="*/ 273600 w 404640"/>
              <a:gd name="textAreaTop" fmla="*/ 142560 h 1272960"/>
              <a:gd name="textAreaBottom" fmla="*/ 1130400 h 127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03" y="2620"/>
                  <a:pt x="14606" y="5080"/>
                  <a:pt x="14606" y="10800"/>
                </a:cubicBezTo>
                <a:cubicBezTo>
                  <a:pt x="14606" y="16520"/>
                  <a:pt x="18103" y="189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 flipH="1" flipV="1">
            <a:off x="2133360" y="1600200"/>
            <a:ext cx="5331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 flipH="1" flipV="1">
            <a:off x="228600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5486400" y="297180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5791320" y="3657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6400800" y="365760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867280" y="3809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 rot="16200000">
            <a:off x="6187320" y="4099320"/>
            <a:ext cx="328680" cy="6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5" y="1520"/>
                  <a:pt x="8470" y="5080"/>
                  <a:pt x="8470" y="10800"/>
                </a:cubicBezTo>
                <a:cubicBezTo>
                  <a:pt x="8470" y="16520"/>
                  <a:pt x="15035" y="2008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5867280" y="4648320"/>
            <a:ext cx="9144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 rot="9534600">
            <a:off x="5638320" y="266688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 rot="11531400">
            <a:off x="5943240" y="266652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 rot="13149000">
            <a:off x="6095520" y="259020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 rot="14453400">
            <a:off x="6324480" y="259020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5867280" y="54100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55627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6477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76212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 rot="21314400">
            <a:off x="365724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5105520" y="44956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7086600" y="4952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4419720" y="0"/>
            <a:ext cx="2743200" cy="2590920"/>
          </a:xfrm>
          <a:prstGeom prst="wedgeEllipseCallout">
            <a:avLst>
              <a:gd name="adj1" fmla="val 2953"/>
              <a:gd name="adj2" fmla="val 808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ord be with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400800" y="4800600"/>
            <a:ext cx="1447920" cy="60948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5334120" y="4191120"/>
            <a:ext cx="0" cy="457200"/>
          </a:xfrm>
          <a:prstGeom prst="line">
            <a:avLst/>
          </a:prstGeom>
          <a:ln w="38160">
            <a:solidFill>
              <a:srgbClr val="ffd5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5410080" y="4724280"/>
            <a:ext cx="304920" cy="0"/>
          </a:xfrm>
          <a:prstGeom prst="line">
            <a:avLst/>
          </a:prstGeom>
          <a:ln w="38160">
            <a:solidFill>
              <a:srgbClr val="ffd5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3962520" y="3657600"/>
            <a:ext cx="0" cy="457200"/>
          </a:xfrm>
          <a:prstGeom prst="line">
            <a:avLst/>
          </a:prstGeom>
          <a:ln w="38160">
            <a:solidFill>
              <a:srgbClr val="ffd5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038480" y="4191120"/>
            <a:ext cx="304920" cy="0"/>
          </a:xfrm>
          <a:prstGeom prst="line">
            <a:avLst/>
          </a:prstGeom>
          <a:ln w="38160">
            <a:solidFill>
              <a:srgbClr val="ffd5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228600" y="3886200"/>
            <a:ext cx="2743200" cy="2590920"/>
          </a:xfrm>
          <a:prstGeom prst="wedgeEllipseCallout">
            <a:avLst>
              <a:gd name="adj1" fmla="val 47398"/>
              <a:gd name="adj2" fmla="val -54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ght back at y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0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500"/>
                            </p:stCondLst>
                            <p:childTnLst>
                              <p:par>
                                <p:cTn id="1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6" name=""/>
          <p:cNvGrpSpPr/>
          <p:nvPr/>
        </p:nvGrpSpPr>
        <p:grpSpPr>
          <a:xfrm>
            <a:off x="762120" y="1371600"/>
            <a:ext cx="3370680" cy="4800600"/>
            <a:chOff x="762120" y="1371600"/>
            <a:chExt cx="3370680" cy="4800600"/>
          </a:xfrm>
        </p:grpSpPr>
        <p:sp>
          <p:nvSpPr>
            <p:cNvPr id="3067" name=""/>
            <p:cNvSpPr/>
            <p:nvPr/>
          </p:nvSpPr>
          <p:spPr>
            <a:xfrm>
              <a:off x="1523880" y="1523880"/>
              <a:ext cx="2057400" cy="20574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1828800" y="4572000"/>
              <a:ext cx="1523880" cy="5335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1828800" y="3581280"/>
              <a:ext cx="1523880" cy="99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1981080" y="4952880"/>
              <a:ext cx="0" cy="990720"/>
            </a:xfrm>
            <a:prstGeom prst="line">
              <a:avLst/>
            </a:prstGeom>
            <a:ln w="28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200400" y="4876920"/>
              <a:ext cx="0" cy="990360"/>
            </a:xfrm>
            <a:prstGeom prst="line">
              <a:avLst/>
            </a:prstGeom>
            <a:ln w="28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1523880" y="6172200"/>
              <a:ext cx="60984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048120" y="617220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1600200" y="24382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2362320" y="24382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438280" y="2666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167652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rot="16200000">
              <a:off x="2186640" y="2613600"/>
              <a:ext cx="404640" cy="1273320"/>
            </a:xfrm>
            <a:custGeom>
              <a:avLst/>
              <a:gdLst>
                <a:gd name="textAreaLeft" fmla="*/ 149400 w 404640"/>
                <a:gd name="textAreaRight" fmla="*/ 273600 w 404640"/>
                <a:gd name="textAreaTop" fmla="*/ 142560 h 1273320"/>
                <a:gd name="textAreaBottom" fmla="*/ 1130760 h 127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103" y="2620"/>
                    <a:pt x="14606" y="5080"/>
                    <a:pt x="14606" y="10800"/>
                  </a:cubicBezTo>
                  <a:cubicBezTo>
                    <a:pt x="14606" y="16520"/>
                    <a:pt x="18103" y="1898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 flipH="1" flipV="1">
              <a:off x="2133360" y="1600200"/>
              <a:ext cx="5331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 flipH="1" flipV="1">
              <a:off x="2286000" y="1371600"/>
              <a:ext cx="4572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62120" y="4038480"/>
              <a:ext cx="527040" cy="50796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rot="21314400">
              <a:off x="3657240" y="403812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4" name=""/>
          <p:cNvGrpSpPr/>
          <p:nvPr/>
        </p:nvGrpSpPr>
        <p:grpSpPr>
          <a:xfrm>
            <a:off x="5257800" y="2442240"/>
            <a:ext cx="2590920" cy="3729960"/>
            <a:chOff x="5257800" y="2442240"/>
            <a:chExt cx="2590920" cy="3729960"/>
          </a:xfrm>
        </p:grpSpPr>
        <p:sp>
          <p:nvSpPr>
            <p:cNvPr id="3085" name=""/>
            <p:cNvSpPr/>
            <p:nvPr/>
          </p:nvSpPr>
          <p:spPr>
            <a:xfrm>
              <a:off x="5486400" y="2971800"/>
              <a:ext cx="1676520" cy="167652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943600" y="3657600"/>
              <a:ext cx="53352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553080" y="3657600"/>
              <a:ext cx="53352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858000" y="3809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6248520" y="3809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 rot="16200000">
              <a:off x="6198480" y="4012560"/>
              <a:ext cx="404640" cy="7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35" y="1520"/>
                    <a:pt x="8470" y="5080"/>
                    <a:pt x="8470" y="10800"/>
                  </a:cubicBezTo>
                  <a:cubicBezTo>
                    <a:pt x="8470" y="16520"/>
                    <a:pt x="15035" y="2008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867280" y="4648320"/>
              <a:ext cx="91440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 rot="9534600">
              <a:off x="5638320" y="266688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1531400">
              <a:off x="5943240" y="266652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3149000">
              <a:off x="6095520" y="2590200"/>
              <a:ext cx="685800" cy="60948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4453400">
              <a:off x="6324480" y="2590200"/>
              <a:ext cx="685800" cy="609840"/>
            </a:xfrm>
            <a:prstGeom prst="lightningBol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867280" y="5410080"/>
              <a:ext cx="91440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562720" y="617220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6477120" y="6172200"/>
              <a:ext cx="609480" cy="0"/>
            </a:xfrm>
            <a:prstGeom prst="line">
              <a:avLst/>
            </a:prstGeom>
            <a:ln w="28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5257800" y="502920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7086600" y="4952880"/>
              <a:ext cx="457200" cy="457200"/>
            </a:xfrm>
            <a:prstGeom prst="ellipse">
              <a:avLst/>
            </a:prstGeom>
            <a:solidFill>
              <a:srgbClr val="ffd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400800" y="4800600"/>
              <a:ext cx="1447920" cy="60948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0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5" dur="2000"/>
                                        <p:tgtEl>
                                          <p:spTgt spid="3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2000"/>
                                        <p:tgtEl>
                                          <p:spTgt spid="3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9" dur="2000"/>
                                        <p:tgtEl>
                                          <p:spTgt spid="3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2000"/>
                                        <p:tgtEl>
                                          <p:spTgt spid="3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Eurostile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3279240" y="2819520"/>
            <a:ext cx="268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Eurostile"/>
              </a:rPr>
              <a:t>End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380880" y="1752480"/>
            <a:ext cx="685800" cy="6098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7620120" y="5335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1828800" y="4724280"/>
            <a:ext cx="380880" cy="3384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1600200" y="762120"/>
            <a:ext cx="38088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6781680" y="5105520"/>
            <a:ext cx="381240" cy="338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7696080" y="2362320"/>
            <a:ext cx="1143000" cy="101412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838080" y="3276720"/>
            <a:ext cx="685800" cy="60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7848720" y="4165560"/>
            <a:ext cx="457200" cy="40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2688120" y="5943600"/>
            <a:ext cx="36964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Eurostile"/>
              </a:rPr>
              <a:t>Take Me to Your L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Eurostile"/>
              </a:rPr>
              <a:t>Written by Miriam Campb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Eurostile"/>
              </a:rPr>
              <a:t>Illustrated and Animated by Tom Pair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Eurostile"/>
              </a:rPr>
              <a:t>Copyright 2005 Evangelical Lutheran Church in Ame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2000"/>
                                        <p:tgtEl>
                                          <p:spTgt spid="3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3000"/>
                                        <p:tgtEl>
                                          <p:spTgt spid="3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2000"/>
                                        <p:tgtEl>
                                          <p:spTgt spid="3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3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20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3000"/>
                                        <p:tgtEl>
                                          <p:spTgt spid="3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2000"/>
                                        <p:tgtEl>
                                          <p:spTgt spid="3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3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9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95" dur="5000"/>
                                        <p:tgtEl>
                                          <p:spTgt spid="3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98" dur="5000"/>
                                        <p:tgtEl>
                                          <p:spTgt spid="3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601" dur="5000"/>
                                        <p:tgtEl>
                                          <p:spTgt spid="3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0"/>
            <a:ext cx="7315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685800"/>
            <a:ext cx="640080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1523880"/>
            <a:ext cx="2057400" cy="20574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572000"/>
            <a:ext cx="152388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3581280"/>
            <a:ext cx="15238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4952880"/>
            <a:ext cx="0" cy="99072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4876920"/>
            <a:ext cx="0" cy="990360"/>
          </a:xfrm>
          <a:prstGeom prst="line">
            <a:avLst/>
          </a:prstGeom>
          <a:ln w="28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6172200"/>
            <a:ext cx="60984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243828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66880" y="243828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209680" y="2743200"/>
            <a:ext cx="838080" cy="152280"/>
            <a:chOff x="2209680" y="2743200"/>
            <a:chExt cx="838080" cy="152280"/>
          </a:xfrm>
        </p:grpSpPr>
        <p:sp>
          <p:nvSpPr>
            <p:cNvPr id="276" name=""/>
            <p:cNvSpPr/>
            <p:nvPr/>
          </p:nvSpPr>
          <p:spPr>
            <a:xfrm>
              <a:off x="289548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0968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 flipV="1">
            <a:off x="2133360" y="1600200"/>
            <a:ext cx="5331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2286000" y="13716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2971800"/>
            <a:ext cx="1676520" cy="167652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91320" y="3657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00800" y="3657600"/>
            <a:ext cx="5335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867280" y="3962520"/>
            <a:ext cx="762120" cy="152280"/>
            <a:chOff x="5867280" y="3962520"/>
            <a:chExt cx="762120" cy="152280"/>
          </a:xfrm>
        </p:grpSpPr>
        <p:sp>
          <p:nvSpPr>
            <p:cNvPr id="284" name=""/>
            <p:cNvSpPr/>
            <p:nvPr/>
          </p:nvSpPr>
          <p:spPr>
            <a:xfrm>
              <a:off x="6477120" y="3962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67280" y="3962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867280" y="4648320"/>
            <a:ext cx="9144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9534600">
            <a:off x="5638320" y="266688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1531400">
            <a:off x="5943240" y="266652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3149000">
            <a:off x="6095520" y="2590200"/>
            <a:ext cx="685800" cy="60948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4453400">
            <a:off x="6324480" y="2590200"/>
            <a:ext cx="685800" cy="609840"/>
          </a:xfrm>
          <a:prstGeom prst="lightningBol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5410080"/>
            <a:ext cx="91440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6172200"/>
            <a:ext cx="609480" cy="0"/>
          </a:xfrm>
          <a:prstGeom prst="line">
            <a:avLst/>
          </a:prstGeom>
          <a:ln w="28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038480"/>
            <a:ext cx="527040" cy="50796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21314400">
            <a:off x="3657240" y="403812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05520" y="44956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86600" y="4952880"/>
            <a:ext cx="457200" cy="457200"/>
          </a:xfrm>
          <a:prstGeom prst="ellipse">
            <a:avLst/>
          </a:prstGeom>
          <a:solidFill>
            <a:srgbClr val="ffd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33920" y="838080"/>
            <a:ext cx="4495680" cy="1447920"/>
          </a:xfrm>
          <a:prstGeom prst="wedgeEllipseCallout">
            <a:avLst>
              <a:gd name="adj1" fmla="val -85699"/>
              <a:gd name="adj2" fmla="val -142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Vacate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premis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09680" y="3200400"/>
            <a:ext cx="76212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4267080"/>
            <a:ext cx="304560" cy="2286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-2666880" y="-3009960"/>
            <a:ext cx="6019560" cy="6019920"/>
          </a:xfrm>
          <a:prstGeom prst="ellipse">
            <a:avLst/>
          </a:prstGeom>
          <a:gradFill rotWithShape="0">
            <a:gsLst>
              <a:gs pos="0">
                <a:srgbClr val="ffffff">
                  <a:alpha val="81176"/>
                </a:srgbClr>
              </a:gs>
              <a:gs pos="100000">
                <a:srgbClr val="ffff66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1111 L -3.33333E-006 -0.03333 E">
                                      <p:cBhvr>
                                        <p:cTn id="162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1111 L -0.00417 -0.04444 E">
                                      <p:cBhvr>
                                        <p:cTn id="164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05:52Z</dcterms:created>
  <dc:creator>Christ Lutheran Church</dc:creator>
  <dc:description/>
  <dc:language>en-US</dc:language>
  <cp:lastModifiedBy>Kristin Koskinen</cp:lastModifiedBy>
  <dcterms:modified xsi:type="dcterms:W3CDTF">2005-07-12T20:13:40Z</dcterms:modified>
  <cp:revision>45</cp:revision>
  <dc:subject/>
  <dc:title>Slide 1</dc:title>
</cp:coreProperties>
</file>